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920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340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920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2D9EE71-43D2-4DF7-9750-00A2006C2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60640" y="944712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8B9904-2AE0-46FE-AED5-F3A10CE1E33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547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60640" y="944712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F510D0-0AD4-41E6-BB95-5A161700718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547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60640" y="944712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86E729-A890-4E76-B217-9A35CFB3829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547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1FE-6CA6-4FC4-B8AD-439978A3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AD4-F75A-4477-A043-3A3E0DE4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153-D1E1-4368-AD18-BD4239E1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F7C-333B-4410-8AD1-7805B96A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D31-0B59-40E3-8D2D-92CB7153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D2C-2374-4C04-A54D-293A8CBF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C89-ED97-41A0-89CE-81066B23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651-F913-458D-9D50-7397958C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C54-1935-48CA-AB76-23B07EA2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EDF-F217-407F-966B-0243CD55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E94-9C06-4126-95C5-4638EAAC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F66-A4C8-4AE0-A122-6F9E002D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347E-256C-4FAB-AAAC-F97196C68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Зміни в системі регулювання при переході до нової моделі ринку електроенергі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. Цапл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чальник управління стратегічного планування та розвитку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нергетичних ринків НК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5C8-591E-4179-9444-1D0DCD46BC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0280"/>
            <a:ext cx="84358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егулювання тарифів на розподіл електроенергії </a:t>
            </a:r>
            <a:br>
              <a:rPr sz="3200"/>
            </a:b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Перехідний період (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гулювання за нормою прибутку з використанням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якості бази нарахування прибутку податкової вартості актив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хідний період (2 роки) необхідний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 наступних при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безпечити поступовий перехі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ати час заінтересованим сторонам д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чних заходів, зокрем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цінки активі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озробки рекомендацій з регуляторного облі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становлення Регуляторної Бази Активів (РБ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дійснення аналізу ефектив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несення необхідних змін до законодав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копичення знань і досві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52A-74FE-4E81-ABB8-B307BCEB51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тягом перехідного періоду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обхідно здійсн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бір інформації (для встановлення розміру необхідного доходу, проведення порівняльного аналізу, тощ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готовку інвестиційного плану та прогнозу витрат на експлуатацію й обслуговува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значення вартості капіт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наліз ефективності, здійснення порівняльного аналізу, визначення фактору підвищення ефективності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робку системи регулювання якості по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ереоцінку актив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нсультації з регульованими компані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281160"/>
            <a:ext cx="83613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егулювання тарифів на розподіл електроенергії </a:t>
            </a:r>
            <a:br>
              <a:rPr sz="3200"/>
            </a:b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Перехідний період (І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488-8305-4884-B9A0-171D3D5467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82760" y="225360"/>
            <a:ext cx="8218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егулювання тарифів на розподіл електроенергії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жливі шляхи переходу до тарифів, згідно новог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гуляторн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ежиму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9400" y="19368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19200" y="2011320"/>
            <a:ext cx="106560" cy="3328920"/>
          </a:xfrm>
          <a:custGeom>
            <a:avLst/>
            <a:gdLst/>
            <a:ahLst/>
            <a:rect l="l" t="t" r="r" b="b"/>
            <a:pathLst>
              <a:path w="581" h="18115">
                <a:moveTo>
                  <a:pt x="340" y="99"/>
                </a:moveTo>
                <a:lnTo>
                  <a:pt x="340" y="18115"/>
                </a:lnTo>
                <a:lnTo>
                  <a:pt x="240" y="18115"/>
                </a:lnTo>
                <a:lnTo>
                  <a:pt x="240" y="99"/>
                </a:lnTo>
                <a:lnTo>
                  <a:pt x="340" y="99"/>
                </a:lnTo>
                <a:close/>
                <a:moveTo>
                  <a:pt x="14" y="474"/>
                </a:moveTo>
                <a:lnTo>
                  <a:pt x="290" y="0"/>
                </a:lnTo>
                <a:lnTo>
                  <a:pt x="567" y="474"/>
                </a:lnTo>
                <a:cubicBezTo>
                  <a:pt x="581" y="497"/>
                  <a:pt x="573" y="528"/>
                  <a:pt x="549" y="542"/>
                </a:cubicBezTo>
                <a:cubicBezTo>
                  <a:pt x="525" y="556"/>
                  <a:pt x="494" y="548"/>
                  <a:pt x="480" y="524"/>
                </a:cubicBezTo>
                <a:lnTo>
                  <a:pt x="247" y="124"/>
                </a:lnTo>
                <a:lnTo>
                  <a:pt x="333" y="124"/>
                </a:lnTo>
                <a:lnTo>
                  <a:pt x="100" y="524"/>
                </a:lnTo>
                <a:cubicBezTo>
                  <a:pt x="86" y="548"/>
                  <a:pt x="55" y="556"/>
                  <a:pt x="32" y="542"/>
                </a:cubicBezTo>
                <a:cubicBezTo>
                  <a:pt x="8" y="528"/>
                  <a:pt x="0" y="497"/>
                  <a:pt x="14" y="474"/>
                </a:cubicBez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73200" y="5286240"/>
            <a:ext cx="6450120" cy="108000"/>
          </a:xfrm>
          <a:custGeom>
            <a:avLst/>
            <a:gdLst/>
            <a:ahLst/>
            <a:rect l="l" t="t" r="r" b="b"/>
            <a:pathLst>
              <a:path w="17558" h="291">
                <a:moveTo>
                  <a:pt x="0" y="120"/>
                </a:moveTo>
                <a:lnTo>
                  <a:pt x="17509" y="120"/>
                </a:lnTo>
                <a:lnTo>
                  <a:pt x="17509" y="170"/>
                </a:lnTo>
                <a:lnTo>
                  <a:pt x="0" y="170"/>
                </a:lnTo>
                <a:lnTo>
                  <a:pt x="0" y="120"/>
                </a:lnTo>
                <a:close/>
                <a:moveTo>
                  <a:pt x="17321" y="7"/>
                </a:moveTo>
                <a:lnTo>
                  <a:pt x="17558" y="145"/>
                </a:lnTo>
                <a:lnTo>
                  <a:pt x="17321" y="284"/>
                </a:lnTo>
                <a:cubicBezTo>
                  <a:pt x="17309" y="291"/>
                  <a:pt x="17294" y="287"/>
                  <a:pt x="17287" y="275"/>
                </a:cubicBezTo>
                <a:cubicBezTo>
                  <a:pt x="17280" y="263"/>
                  <a:pt x="17284" y="247"/>
                  <a:pt x="17296" y="241"/>
                </a:cubicBezTo>
                <a:lnTo>
                  <a:pt x="17496" y="124"/>
                </a:lnTo>
                <a:lnTo>
                  <a:pt x="17496" y="167"/>
                </a:lnTo>
                <a:lnTo>
                  <a:pt x="17296" y="50"/>
                </a:lnTo>
                <a:cubicBezTo>
                  <a:pt x="17284" y="43"/>
                  <a:pt x="17280" y="28"/>
                  <a:pt x="17287" y="16"/>
                </a:cubicBezTo>
                <a:cubicBezTo>
                  <a:pt x="17294" y="4"/>
                  <a:pt x="17309" y="0"/>
                  <a:pt x="17321" y="7"/>
                </a:cubicBez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00480" y="2071800"/>
            <a:ext cx="9360" cy="3251160"/>
          </a:xfrm>
          <a:custGeom>
            <a:avLst/>
            <a:gdLst/>
            <a:ahLst/>
            <a:rect l="l" t="t" r="r" b="b"/>
            <a:pathLst>
              <a:path w="50" h="17700">
                <a:moveTo>
                  <a:pt x="50" y="25"/>
                </a:moveTo>
                <a:lnTo>
                  <a:pt x="50" y="175"/>
                </a:lnTo>
                <a:cubicBezTo>
                  <a:pt x="50" y="189"/>
                  <a:pt x="39" y="200"/>
                  <a:pt x="25" y="200"/>
                </a:cubicBezTo>
                <a:cubicBezTo>
                  <a:pt x="12" y="200"/>
                  <a:pt x="0" y="189"/>
                  <a:pt x="0" y="175"/>
                </a:cubicBezTo>
                <a:lnTo>
                  <a:pt x="0" y="25"/>
                </a:lnTo>
                <a:cubicBezTo>
                  <a:pt x="0" y="11"/>
                  <a:pt x="12" y="0"/>
                  <a:pt x="25" y="0"/>
                </a:cubicBezTo>
                <a:cubicBezTo>
                  <a:pt x="39" y="0"/>
                  <a:pt x="50" y="11"/>
                  <a:pt x="50" y="25"/>
                </a:cubicBezTo>
                <a:close/>
                <a:moveTo>
                  <a:pt x="50" y="375"/>
                </a:moveTo>
                <a:lnTo>
                  <a:pt x="50" y="525"/>
                </a:lnTo>
                <a:cubicBezTo>
                  <a:pt x="50" y="539"/>
                  <a:pt x="39" y="550"/>
                  <a:pt x="25" y="550"/>
                </a:cubicBezTo>
                <a:cubicBezTo>
                  <a:pt x="12" y="550"/>
                  <a:pt x="0" y="539"/>
                  <a:pt x="0" y="525"/>
                </a:cubicBezTo>
                <a:lnTo>
                  <a:pt x="0" y="375"/>
                </a:lnTo>
                <a:cubicBezTo>
                  <a:pt x="0" y="361"/>
                  <a:pt x="12" y="350"/>
                  <a:pt x="25" y="350"/>
                </a:cubicBezTo>
                <a:cubicBezTo>
                  <a:pt x="39" y="350"/>
                  <a:pt x="50" y="361"/>
                  <a:pt x="50" y="375"/>
                </a:cubicBezTo>
                <a:close/>
                <a:moveTo>
                  <a:pt x="50" y="725"/>
                </a:moveTo>
                <a:lnTo>
                  <a:pt x="50" y="875"/>
                </a:lnTo>
                <a:cubicBezTo>
                  <a:pt x="50" y="889"/>
                  <a:pt x="39" y="900"/>
                  <a:pt x="25" y="900"/>
                </a:cubicBezTo>
                <a:cubicBezTo>
                  <a:pt x="12" y="900"/>
                  <a:pt x="0" y="889"/>
                  <a:pt x="0" y="875"/>
                </a:cubicBezTo>
                <a:lnTo>
                  <a:pt x="0" y="725"/>
                </a:lnTo>
                <a:cubicBezTo>
                  <a:pt x="0" y="711"/>
                  <a:pt x="12" y="700"/>
                  <a:pt x="25" y="700"/>
                </a:cubicBezTo>
                <a:cubicBezTo>
                  <a:pt x="39" y="700"/>
                  <a:pt x="50" y="711"/>
                  <a:pt x="50" y="725"/>
                </a:cubicBezTo>
                <a:close/>
                <a:moveTo>
                  <a:pt x="50" y="1075"/>
                </a:moveTo>
                <a:lnTo>
                  <a:pt x="50" y="1225"/>
                </a:lnTo>
                <a:cubicBezTo>
                  <a:pt x="50" y="1239"/>
                  <a:pt x="39" y="1250"/>
                  <a:pt x="25" y="1250"/>
                </a:cubicBezTo>
                <a:cubicBezTo>
                  <a:pt x="12" y="1250"/>
                  <a:pt x="0" y="1239"/>
                  <a:pt x="0" y="1225"/>
                </a:cubicBezTo>
                <a:lnTo>
                  <a:pt x="0" y="1075"/>
                </a:lnTo>
                <a:cubicBezTo>
                  <a:pt x="0" y="1061"/>
                  <a:pt x="12" y="1050"/>
                  <a:pt x="25" y="1050"/>
                </a:cubicBezTo>
                <a:cubicBezTo>
                  <a:pt x="39" y="1050"/>
                  <a:pt x="50" y="1061"/>
                  <a:pt x="50" y="1075"/>
                </a:cubicBezTo>
                <a:close/>
                <a:moveTo>
                  <a:pt x="50" y="1425"/>
                </a:moveTo>
                <a:lnTo>
                  <a:pt x="50" y="1575"/>
                </a:lnTo>
                <a:cubicBezTo>
                  <a:pt x="50" y="1589"/>
                  <a:pt x="39" y="1600"/>
                  <a:pt x="25" y="1600"/>
                </a:cubicBezTo>
                <a:cubicBezTo>
                  <a:pt x="12" y="1600"/>
                  <a:pt x="0" y="1589"/>
                  <a:pt x="0" y="1575"/>
                </a:cubicBezTo>
                <a:lnTo>
                  <a:pt x="0" y="1425"/>
                </a:lnTo>
                <a:cubicBezTo>
                  <a:pt x="0" y="1411"/>
                  <a:pt x="12" y="1400"/>
                  <a:pt x="25" y="1400"/>
                </a:cubicBezTo>
                <a:cubicBezTo>
                  <a:pt x="39" y="1400"/>
                  <a:pt x="50" y="1411"/>
                  <a:pt x="50" y="1425"/>
                </a:cubicBezTo>
                <a:close/>
                <a:moveTo>
                  <a:pt x="50" y="1775"/>
                </a:moveTo>
                <a:lnTo>
                  <a:pt x="50" y="1925"/>
                </a:lnTo>
                <a:cubicBezTo>
                  <a:pt x="50" y="1939"/>
                  <a:pt x="39" y="1950"/>
                  <a:pt x="25" y="1950"/>
                </a:cubicBezTo>
                <a:cubicBezTo>
                  <a:pt x="12" y="1950"/>
                  <a:pt x="0" y="1939"/>
                  <a:pt x="0" y="1925"/>
                </a:cubicBezTo>
                <a:lnTo>
                  <a:pt x="0" y="1775"/>
                </a:lnTo>
                <a:cubicBezTo>
                  <a:pt x="0" y="1761"/>
                  <a:pt x="12" y="1750"/>
                  <a:pt x="25" y="1750"/>
                </a:cubicBezTo>
                <a:cubicBezTo>
                  <a:pt x="39" y="1750"/>
                  <a:pt x="50" y="1761"/>
                  <a:pt x="50" y="1775"/>
                </a:cubicBezTo>
                <a:close/>
                <a:moveTo>
                  <a:pt x="50" y="2125"/>
                </a:moveTo>
                <a:lnTo>
                  <a:pt x="50" y="2275"/>
                </a:lnTo>
                <a:cubicBezTo>
                  <a:pt x="50" y="2289"/>
                  <a:pt x="39" y="2300"/>
                  <a:pt x="25" y="2300"/>
                </a:cubicBezTo>
                <a:cubicBezTo>
                  <a:pt x="12" y="2300"/>
                  <a:pt x="0" y="2289"/>
                  <a:pt x="0" y="2275"/>
                </a:cubicBezTo>
                <a:lnTo>
                  <a:pt x="0" y="2125"/>
                </a:lnTo>
                <a:cubicBezTo>
                  <a:pt x="0" y="2111"/>
                  <a:pt x="12" y="2100"/>
                  <a:pt x="25" y="2100"/>
                </a:cubicBezTo>
                <a:cubicBezTo>
                  <a:pt x="39" y="2100"/>
                  <a:pt x="50" y="2111"/>
                  <a:pt x="50" y="2125"/>
                </a:cubicBezTo>
                <a:close/>
                <a:moveTo>
                  <a:pt x="50" y="2475"/>
                </a:moveTo>
                <a:lnTo>
                  <a:pt x="50" y="2625"/>
                </a:lnTo>
                <a:cubicBezTo>
                  <a:pt x="50" y="2639"/>
                  <a:pt x="39" y="2650"/>
                  <a:pt x="25" y="2650"/>
                </a:cubicBezTo>
                <a:cubicBezTo>
                  <a:pt x="12" y="2650"/>
                  <a:pt x="0" y="2639"/>
                  <a:pt x="0" y="2625"/>
                </a:cubicBezTo>
                <a:lnTo>
                  <a:pt x="0" y="2475"/>
                </a:lnTo>
                <a:cubicBezTo>
                  <a:pt x="0" y="2461"/>
                  <a:pt x="12" y="2450"/>
                  <a:pt x="25" y="2450"/>
                </a:cubicBezTo>
                <a:cubicBezTo>
                  <a:pt x="39" y="2450"/>
                  <a:pt x="50" y="2461"/>
                  <a:pt x="50" y="2475"/>
                </a:cubicBezTo>
                <a:close/>
                <a:moveTo>
                  <a:pt x="50" y="2825"/>
                </a:moveTo>
                <a:lnTo>
                  <a:pt x="50" y="2975"/>
                </a:lnTo>
                <a:cubicBezTo>
                  <a:pt x="50" y="2989"/>
                  <a:pt x="39" y="3000"/>
                  <a:pt x="25" y="3000"/>
                </a:cubicBezTo>
                <a:cubicBezTo>
                  <a:pt x="12" y="3000"/>
                  <a:pt x="0" y="2989"/>
                  <a:pt x="0" y="2975"/>
                </a:cubicBezTo>
                <a:lnTo>
                  <a:pt x="0" y="2825"/>
                </a:lnTo>
                <a:cubicBezTo>
                  <a:pt x="0" y="2811"/>
                  <a:pt x="12" y="2800"/>
                  <a:pt x="25" y="2800"/>
                </a:cubicBezTo>
                <a:cubicBezTo>
                  <a:pt x="39" y="2800"/>
                  <a:pt x="50" y="2811"/>
                  <a:pt x="50" y="2825"/>
                </a:cubicBezTo>
                <a:close/>
                <a:moveTo>
                  <a:pt x="50" y="3175"/>
                </a:moveTo>
                <a:lnTo>
                  <a:pt x="50" y="3325"/>
                </a:lnTo>
                <a:cubicBezTo>
                  <a:pt x="50" y="3339"/>
                  <a:pt x="39" y="3350"/>
                  <a:pt x="25" y="3350"/>
                </a:cubicBezTo>
                <a:cubicBezTo>
                  <a:pt x="12" y="3350"/>
                  <a:pt x="0" y="3339"/>
                  <a:pt x="0" y="3325"/>
                </a:cubicBezTo>
                <a:lnTo>
                  <a:pt x="0" y="3175"/>
                </a:lnTo>
                <a:cubicBezTo>
                  <a:pt x="0" y="3161"/>
                  <a:pt x="12" y="3150"/>
                  <a:pt x="25" y="3150"/>
                </a:cubicBezTo>
                <a:cubicBezTo>
                  <a:pt x="39" y="3150"/>
                  <a:pt x="50" y="3161"/>
                  <a:pt x="50" y="3175"/>
                </a:cubicBezTo>
                <a:close/>
                <a:moveTo>
                  <a:pt x="50" y="3525"/>
                </a:moveTo>
                <a:lnTo>
                  <a:pt x="50" y="3675"/>
                </a:lnTo>
                <a:cubicBezTo>
                  <a:pt x="50" y="3689"/>
                  <a:pt x="39" y="3700"/>
                  <a:pt x="25" y="3700"/>
                </a:cubicBezTo>
                <a:cubicBezTo>
                  <a:pt x="12" y="3700"/>
                  <a:pt x="0" y="3689"/>
                  <a:pt x="0" y="3675"/>
                </a:cubicBezTo>
                <a:lnTo>
                  <a:pt x="0" y="3525"/>
                </a:lnTo>
                <a:cubicBezTo>
                  <a:pt x="0" y="3511"/>
                  <a:pt x="12" y="3500"/>
                  <a:pt x="25" y="3500"/>
                </a:cubicBezTo>
                <a:cubicBezTo>
                  <a:pt x="39" y="3500"/>
                  <a:pt x="50" y="3511"/>
                  <a:pt x="50" y="3525"/>
                </a:cubicBezTo>
                <a:close/>
                <a:moveTo>
                  <a:pt x="50" y="3875"/>
                </a:moveTo>
                <a:lnTo>
                  <a:pt x="50" y="4025"/>
                </a:lnTo>
                <a:cubicBezTo>
                  <a:pt x="50" y="4039"/>
                  <a:pt x="39" y="4050"/>
                  <a:pt x="25" y="4050"/>
                </a:cubicBezTo>
                <a:cubicBezTo>
                  <a:pt x="12" y="4050"/>
                  <a:pt x="0" y="4039"/>
                  <a:pt x="0" y="4025"/>
                </a:cubicBezTo>
                <a:lnTo>
                  <a:pt x="0" y="3875"/>
                </a:lnTo>
                <a:cubicBezTo>
                  <a:pt x="0" y="3861"/>
                  <a:pt x="12" y="3850"/>
                  <a:pt x="25" y="3850"/>
                </a:cubicBezTo>
                <a:cubicBezTo>
                  <a:pt x="39" y="3850"/>
                  <a:pt x="50" y="3861"/>
                  <a:pt x="50" y="3875"/>
                </a:cubicBezTo>
                <a:close/>
                <a:moveTo>
                  <a:pt x="50" y="4225"/>
                </a:moveTo>
                <a:lnTo>
                  <a:pt x="50" y="4375"/>
                </a:lnTo>
                <a:cubicBezTo>
                  <a:pt x="50" y="4389"/>
                  <a:pt x="39" y="4400"/>
                  <a:pt x="25" y="4400"/>
                </a:cubicBezTo>
                <a:cubicBezTo>
                  <a:pt x="12" y="4400"/>
                  <a:pt x="0" y="4389"/>
                  <a:pt x="0" y="4375"/>
                </a:cubicBezTo>
                <a:lnTo>
                  <a:pt x="0" y="4225"/>
                </a:lnTo>
                <a:cubicBezTo>
                  <a:pt x="0" y="4211"/>
                  <a:pt x="12" y="4200"/>
                  <a:pt x="25" y="4200"/>
                </a:cubicBezTo>
                <a:cubicBezTo>
                  <a:pt x="39" y="4200"/>
                  <a:pt x="50" y="4211"/>
                  <a:pt x="50" y="4225"/>
                </a:cubicBezTo>
                <a:close/>
                <a:moveTo>
                  <a:pt x="50" y="4575"/>
                </a:moveTo>
                <a:lnTo>
                  <a:pt x="50" y="4725"/>
                </a:lnTo>
                <a:cubicBezTo>
                  <a:pt x="50" y="4739"/>
                  <a:pt x="39" y="4750"/>
                  <a:pt x="25" y="4750"/>
                </a:cubicBezTo>
                <a:cubicBezTo>
                  <a:pt x="12" y="4750"/>
                  <a:pt x="0" y="4739"/>
                  <a:pt x="0" y="4725"/>
                </a:cubicBezTo>
                <a:lnTo>
                  <a:pt x="0" y="4575"/>
                </a:lnTo>
                <a:cubicBezTo>
                  <a:pt x="0" y="4561"/>
                  <a:pt x="12" y="4550"/>
                  <a:pt x="25" y="4550"/>
                </a:cubicBezTo>
                <a:cubicBezTo>
                  <a:pt x="39" y="4550"/>
                  <a:pt x="50" y="4561"/>
                  <a:pt x="50" y="4575"/>
                </a:cubicBezTo>
                <a:close/>
                <a:moveTo>
                  <a:pt x="50" y="4925"/>
                </a:moveTo>
                <a:lnTo>
                  <a:pt x="50" y="5075"/>
                </a:lnTo>
                <a:cubicBezTo>
                  <a:pt x="50" y="5089"/>
                  <a:pt x="39" y="5100"/>
                  <a:pt x="25" y="5100"/>
                </a:cubicBezTo>
                <a:cubicBezTo>
                  <a:pt x="12" y="5100"/>
                  <a:pt x="0" y="5089"/>
                  <a:pt x="0" y="5075"/>
                </a:cubicBezTo>
                <a:lnTo>
                  <a:pt x="0" y="4925"/>
                </a:lnTo>
                <a:cubicBezTo>
                  <a:pt x="0" y="4911"/>
                  <a:pt x="12" y="4900"/>
                  <a:pt x="25" y="4900"/>
                </a:cubicBezTo>
                <a:cubicBezTo>
                  <a:pt x="39" y="4900"/>
                  <a:pt x="50" y="4911"/>
                  <a:pt x="50" y="4925"/>
                </a:cubicBezTo>
                <a:close/>
                <a:moveTo>
                  <a:pt x="50" y="5275"/>
                </a:moveTo>
                <a:lnTo>
                  <a:pt x="50" y="5425"/>
                </a:lnTo>
                <a:cubicBezTo>
                  <a:pt x="50" y="5439"/>
                  <a:pt x="39" y="5450"/>
                  <a:pt x="25" y="5450"/>
                </a:cubicBezTo>
                <a:cubicBezTo>
                  <a:pt x="12" y="5450"/>
                  <a:pt x="0" y="5439"/>
                  <a:pt x="0" y="5425"/>
                </a:cubicBezTo>
                <a:lnTo>
                  <a:pt x="0" y="5275"/>
                </a:lnTo>
                <a:cubicBezTo>
                  <a:pt x="0" y="5261"/>
                  <a:pt x="12" y="5250"/>
                  <a:pt x="25" y="5250"/>
                </a:cubicBezTo>
                <a:cubicBezTo>
                  <a:pt x="39" y="5250"/>
                  <a:pt x="50" y="5261"/>
                  <a:pt x="50" y="5275"/>
                </a:cubicBezTo>
                <a:close/>
                <a:moveTo>
                  <a:pt x="50" y="5625"/>
                </a:moveTo>
                <a:lnTo>
                  <a:pt x="50" y="5775"/>
                </a:lnTo>
                <a:cubicBezTo>
                  <a:pt x="50" y="5789"/>
                  <a:pt x="39" y="5800"/>
                  <a:pt x="25" y="5800"/>
                </a:cubicBezTo>
                <a:cubicBezTo>
                  <a:pt x="12" y="5800"/>
                  <a:pt x="0" y="5789"/>
                  <a:pt x="0" y="5775"/>
                </a:cubicBezTo>
                <a:lnTo>
                  <a:pt x="0" y="5625"/>
                </a:lnTo>
                <a:cubicBezTo>
                  <a:pt x="0" y="5611"/>
                  <a:pt x="12" y="5600"/>
                  <a:pt x="25" y="5600"/>
                </a:cubicBezTo>
                <a:cubicBezTo>
                  <a:pt x="39" y="5600"/>
                  <a:pt x="50" y="5611"/>
                  <a:pt x="50" y="5625"/>
                </a:cubicBezTo>
                <a:close/>
                <a:moveTo>
                  <a:pt x="50" y="5975"/>
                </a:moveTo>
                <a:lnTo>
                  <a:pt x="50" y="6125"/>
                </a:lnTo>
                <a:cubicBezTo>
                  <a:pt x="50" y="6139"/>
                  <a:pt x="39" y="6150"/>
                  <a:pt x="25" y="6150"/>
                </a:cubicBezTo>
                <a:cubicBezTo>
                  <a:pt x="12" y="6150"/>
                  <a:pt x="0" y="6139"/>
                  <a:pt x="0" y="6125"/>
                </a:cubicBezTo>
                <a:lnTo>
                  <a:pt x="0" y="5975"/>
                </a:lnTo>
                <a:cubicBezTo>
                  <a:pt x="0" y="5961"/>
                  <a:pt x="12" y="5950"/>
                  <a:pt x="25" y="5950"/>
                </a:cubicBezTo>
                <a:cubicBezTo>
                  <a:pt x="39" y="5950"/>
                  <a:pt x="50" y="5961"/>
                  <a:pt x="50" y="5975"/>
                </a:cubicBezTo>
                <a:close/>
                <a:moveTo>
                  <a:pt x="50" y="6325"/>
                </a:moveTo>
                <a:lnTo>
                  <a:pt x="50" y="6475"/>
                </a:lnTo>
                <a:cubicBezTo>
                  <a:pt x="50" y="6489"/>
                  <a:pt x="39" y="6500"/>
                  <a:pt x="25" y="6500"/>
                </a:cubicBezTo>
                <a:cubicBezTo>
                  <a:pt x="12" y="6500"/>
                  <a:pt x="0" y="6489"/>
                  <a:pt x="0" y="6475"/>
                </a:cubicBezTo>
                <a:lnTo>
                  <a:pt x="0" y="6325"/>
                </a:lnTo>
                <a:cubicBezTo>
                  <a:pt x="0" y="6311"/>
                  <a:pt x="12" y="6300"/>
                  <a:pt x="25" y="6300"/>
                </a:cubicBezTo>
                <a:cubicBezTo>
                  <a:pt x="39" y="6300"/>
                  <a:pt x="50" y="6311"/>
                  <a:pt x="50" y="6325"/>
                </a:cubicBezTo>
                <a:close/>
                <a:moveTo>
                  <a:pt x="50" y="6675"/>
                </a:moveTo>
                <a:lnTo>
                  <a:pt x="50" y="6825"/>
                </a:lnTo>
                <a:cubicBezTo>
                  <a:pt x="50" y="6839"/>
                  <a:pt x="39" y="6850"/>
                  <a:pt x="25" y="6850"/>
                </a:cubicBezTo>
                <a:cubicBezTo>
                  <a:pt x="12" y="6850"/>
                  <a:pt x="0" y="6839"/>
                  <a:pt x="0" y="6825"/>
                </a:cubicBezTo>
                <a:lnTo>
                  <a:pt x="0" y="6675"/>
                </a:lnTo>
                <a:cubicBezTo>
                  <a:pt x="0" y="6661"/>
                  <a:pt x="12" y="6650"/>
                  <a:pt x="25" y="6650"/>
                </a:cubicBezTo>
                <a:cubicBezTo>
                  <a:pt x="39" y="6650"/>
                  <a:pt x="50" y="6661"/>
                  <a:pt x="50" y="6675"/>
                </a:cubicBezTo>
                <a:close/>
                <a:moveTo>
                  <a:pt x="50" y="7025"/>
                </a:moveTo>
                <a:lnTo>
                  <a:pt x="50" y="7175"/>
                </a:lnTo>
                <a:cubicBezTo>
                  <a:pt x="50" y="7189"/>
                  <a:pt x="39" y="7200"/>
                  <a:pt x="25" y="7200"/>
                </a:cubicBezTo>
                <a:cubicBezTo>
                  <a:pt x="12" y="7200"/>
                  <a:pt x="0" y="7189"/>
                  <a:pt x="0" y="7175"/>
                </a:cubicBezTo>
                <a:lnTo>
                  <a:pt x="0" y="7025"/>
                </a:lnTo>
                <a:cubicBezTo>
                  <a:pt x="0" y="7011"/>
                  <a:pt x="12" y="7000"/>
                  <a:pt x="25" y="7000"/>
                </a:cubicBezTo>
                <a:cubicBezTo>
                  <a:pt x="39" y="7000"/>
                  <a:pt x="50" y="7011"/>
                  <a:pt x="50" y="7025"/>
                </a:cubicBezTo>
                <a:close/>
                <a:moveTo>
                  <a:pt x="50" y="7375"/>
                </a:moveTo>
                <a:lnTo>
                  <a:pt x="50" y="7525"/>
                </a:lnTo>
                <a:cubicBezTo>
                  <a:pt x="50" y="7539"/>
                  <a:pt x="39" y="7550"/>
                  <a:pt x="25" y="7550"/>
                </a:cubicBezTo>
                <a:cubicBezTo>
                  <a:pt x="12" y="7550"/>
                  <a:pt x="0" y="7539"/>
                  <a:pt x="0" y="7525"/>
                </a:cubicBezTo>
                <a:lnTo>
                  <a:pt x="0" y="7375"/>
                </a:lnTo>
                <a:cubicBezTo>
                  <a:pt x="0" y="7361"/>
                  <a:pt x="12" y="7350"/>
                  <a:pt x="25" y="7350"/>
                </a:cubicBezTo>
                <a:cubicBezTo>
                  <a:pt x="39" y="7350"/>
                  <a:pt x="50" y="7361"/>
                  <a:pt x="50" y="7375"/>
                </a:cubicBezTo>
                <a:close/>
                <a:moveTo>
                  <a:pt x="50" y="7725"/>
                </a:moveTo>
                <a:lnTo>
                  <a:pt x="50" y="7875"/>
                </a:lnTo>
                <a:cubicBezTo>
                  <a:pt x="50" y="7889"/>
                  <a:pt x="39" y="7900"/>
                  <a:pt x="25" y="7900"/>
                </a:cubicBezTo>
                <a:cubicBezTo>
                  <a:pt x="12" y="7900"/>
                  <a:pt x="0" y="7889"/>
                  <a:pt x="0" y="7875"/>
                </a:cubicBezTo>
                <a:lnTo>
                  <a:pt x="0" y="7725"/>
                </a:lnTo>
                <a:cubicBezTo>
                  <a:pt x="0" y="7711"/>
                  <a:pt x="12" y="7700"/>
                  <a:pt x="25" y="7700"/>
                </a:cubicBezTo>
                <a:cubicBezTo>
                  <a:pt x="39" y="7700"/>
                  <a:pt x="50" y="7711"/>
                  <a:pt x="50" y="7725"/>
                </a:cubicBezTo>
                <a:close/>
                <a:moveTo>
                  <a:pt x="50" y="8075"/>
                </a:moveTo>
                <a:lnTo>
                  <a:pt x="50" y="8225"/>
                </a:lnTo>
                <a:cubicBezTo>
                  <a:pt x="50" y="8239"/>
                  <a:pt x="39" y="8250"/>
                  <a:pt x="25" y="8250"/>
                </a:cubicBezTo>
                <a:cubicBezTo>
                  <a:pt x="12" y="8250"/>
                  <a:pt x="0" y="8239"/>
                  <a:pt x="0" y="8225"/>
                </a:cubicBezTo>
                <a:lnTo>
                  <a:pt x="0" y="8075"/>
                </a:lnTo>
                <a:cubicBezTo>
                  <a:pt x="0" y="8061"/>
                  <a:pt x="12" y="8050"/>
                  <a:pt x="25" y="8050"/>
                </a:cubicBezTo>
                <a:cubicBezTo>
                  <a:pt x="39" y="8050"/>
                  <a:pt x="50" y="8061"/>
                  <a:pt x="50" y="8075"/>
                </a:cubicBezTo>
                <a:close/>
                <a:moveTo>
                  <a:pt x="50" y="8425"/>
                </a:moveTo>
                <a:lnTo>
                  <a:pt x="50" y="8575"/>
                </a:lnTo>
                <a:cubicBezTo>
                  <a:pt x="50" y="8589"/>
                  <a:pt x="39" y="8600"/>
                  <a:pt x="25" y="8600"/>
                </a:cubicBezTo>
                <a:cubicBezTo>
                  <a:pt x="12" y="8600"/>
                  <a:pt x="0" y="8589"/>
                  <a:pt x="0" y="8575"/>
                </a:cubicBezTo>
                <a:lnTo>
                  <a:pt x="0" y="8425"/>
                </a:lnTo>
                <a:cubicBezTo>
                  <a:pt x="0" y="8411"/>
                  <a:pt x="12" y="8400"/>
                  <a:pt x="25" y="8400"/>
                </a:cubicBezTo>
                <a:cubicBezTo>
                  <a:pt x="39" y="8400"/>
                  <a:pt x="50" y="8411"/>
                  <a:pt x="50" y="8425"/>
                </a:cubicBezTo>
                <a:close/>
                <a:moveTo>
                  <a:pt x="50" y="8775"/>
                </a:moveTo>
                <a:lnTo>
                  <a:pt x="50" y="8925"/>
                </a:lnTo>
                <a:cubicBezTo>
                  <a:pt x="50" y="8939"/>
                  <a:pt x="39" y="8950"/>
                  <a:pt x="25" y="8950"/>
                </a:cubicBezTo>
                <a:cubicBezTo>
                  <a:pt x="12" y="8950"/>
                  <a:pt x="0" y="8939"/>
                  <a:pt x="0" y="8925"/>
                </a:cubicBezTo>
                <a:lnTo>
                  <a:pt x="0" y="8775"/>
                </a:lnTo>
                <a:cubicBezTo>
                  <a:pt x="0" y="8761"/>
                  <a:pt x="12" y="8750"/>
                  <a:pt x="25" y="8750"/>
                </a:cubicBezTo>
                <a:cubicBezTo>
                  <a:pt x="39" y="8750"/>
                  <a:pt x="50" y="8761"/>
                  <a:pt x="50" y="8775"/>
                </a:cubicBezTo>
                <a:close/>
                <a:moveTo>
                  <a:pt x="50" y="9125"/>
                </a:moveTo>
                <a:lnTo>
                  <a:pt x="50" y="9275"/>
                </a:lnTo>
                <a:cubicBezTo>
                  <a:pt x="50" y="9289"/>
                  <a:pt x="39" y="9300"/>
                  <a:pt x="25" y="9300"/>
                </a:cubicBezTo>
                <a:cubicBezTo>
                  <a:pt x="12" y="9300"/>
                  <a:pt x="0" y="9289"/>
                  <a:pt x="0" y="9275"/>
                </a:cubicBezTo>
                <a:lnTo>
                  <a:pt x="0" y="9125"/>
                </a:lnTo>
                <a:cubicBezTo>
                  <a:pt x="0" y="9111"/>
                  <a:pt x="12" y="9100"/>
                  <a:pt x="25" y="9100"/>
                </a:cubicBezTo>
                <a:cubicBezTo>
                  <a:pt x="39" y="9100"/>
                  <a:pt x="50" y="9111"/>
                  <a:pt x="50" y="9125"/>
                </a:cubicBezTo>
                <a:close/>
                <a:moveTo>
                  <a:pt x="50" y="9475"/>
                </a:moveTo>
                <a:lnTo>
                  <a:pt x="50" y="9625"/>
                </a:lnTo>
                <a:cubicBezTo>
                  <a:pt x="50" y="9639"/>
                  <a:pt x="39" y="9650"/>
                  <a:pt x="25" y="9650"/>
                </a:cubicBezTo>
                <a:cubicBezTo>
                  <a:pt x="12" y="9650"/>
                  <a:pt x="0" y="9639"/>
                  <a:pt x="0" y="9625"/>
                </a:cubicBezTo>
                <a:lnTo>
                  <a:pt x="0" y="9475"/>
                </a:lnTo>
                <a:cubicBezTo>
                  <a:pt x="0" y="9461"/>
                  <a:pt x="12" y="9450"/>
                  <a:pt x="25" y="9450"/>
                </a:cubicBezTo>
                <a:cubicBezTo>
                  <a:pt x="39" y="9450"/>
                  <a:pt x="50" y="9461"/>
                  <a:pt x="50" y="9475"/>
                </a:cubicBezTo>
                <a:close/>
                <a:moveTo>
                  <a:pt x="50" y="9825"/>
                </a:moveTo>
                <a:lnTo>
                  <a:pt x="50" y="9975"/>
                </a:lnTo>
                <a:cubicBezTo>
                  <a:pt x="50" y="9989"/>
                  <a:pt x="39" y="10000"/>
                  <a:pt x="25" y="10000"/>
                </a:cubicBezTo>
                <a:cubicBezTo>
                  <a:pt x="12" y="10000"/>
                  <a:pt x="0" y="9989"/>
                  <a:pt x="0" y="9975"/>
                </a:cubicBezTo>
                <a:lnTo>
                  <a:pt x="0" y="9825"/>
                </a:lnTo>
                <a:cubicBezTo>
                  <a:pt x="0" y="9811"/>
                  <a:pt x="12" y="9800"/>
                  <a:pt x="25" y="9800"/>
                </a:cubicBezTo>
                <a:cubicBezTo>
                  <a:pt x="39" y="9800"/>
                  <a:pt x="50" y="9811"/>
                  <a:pt x="50" y="9825"/>
                </a:cubicBezTo>
                <a:close/>
                <a:moveTo>
                  <a:pt x="50" y="10175"/>
                </a:moveTo>
                <a:lnTo>
                  <a:pt x="50" y="10325"/>
                </a:lnTo>
                <a:cubicBezTo>
                  <a:pt x="50" y="10339"/>
                  <a:pt x="39" y="10350"/>
                  <a:pt x="25" y="10350"/>
                </a:cubicBezTo>
                <a:cubicBezTo>
                  <a:pt x="12" y="10350"/>
                  <a:pt x="0" y="10339"/>
                  <a:pt x="0" y="10325"/>
                </a:cubicBezTo>
                <a:lnTo>
                  <a:pt x="0" y="10175"/>
                </a:lnTo>
                <a:cubicBezTo>
                  <a:pt x="0" y="10161"/>
                  <a:pt x="12" y="10150"/>
                  <a:pt x="25" y="10150"/>
                </a:cubicBezTo>
                <a:cubicBezTo>
                  <a:pt x="39" y="10150"/>
                  <a:pt x="50" y="10161"/>
                  <a:pt x="50" y="10175"/>
                </a:cubicBezTo>
                <a:close/>
                <a:moveTo>
                  <a:pt x="50" y="10525"/>
                </a:moveTo>
                <a:lnTo>
                  <a:pt x="50" y="10675"/>
                </a:lnTo>
                <a:cubicBezTo>
                  <a:pt x="50" y="10689"/>
                  <a:pt x="39" y="10700"/>
                  <a:pt x="25" y="10700"/>
                </a:cubicBezTo>
                <a:cubicBezTo>
                  <a:pt x="12" y="10700"/>
                  <a:pt x="0" y="10689"/>
                  <a:pt x="0" y="10675"/>
                </a:cubicBezTo>
                <a:lnTo>
                  <a:pt x="0" y="10525"/>
                </a:lnTo>
                <a:cubicBezTo>
                  <a:pt x="0" y="10511"/>
                  <a:pt x="12" y="10500"/>
                  <a:pt x="25" y="10500"/>
                </a:cubicBezTo>
                <a:cubicBezTo>
                  <a:pt x="39" y="10500"/>
                  <a:pt x="50" y="10511"/>
                  <a:pt x="50" y="10525"/>
                </a:cubicBezTo>
                <a:close/>
                <a:moveTo>
                  <a:pt x="50" y="10875"/>
                </a:moveTo>
                <a:lnTo>
                  <a:pt x="50" y="11025"/>
                </a:lnTo>
                <a:cubicBezTo>
                  <a:pt x="50" y="11039"/>
                  <a:pt x="39" y="11050"/>
                  <a:pt x="25" y="11050"/>
                </a:cubicBezTo>
                <a:cubicBezTo>
                  <a:pt x="12" y="11050"/>
                  <a:pt x="0" y="11039"/>
                  <a:pt x="0" y="11025"/>
                </a:cubicBezTo>
                <a:lnTo>
                  <a:pt x="0" y="10875"/>
                </a:lnTo>
                <a:cubicBezTo>
                  <a:pt x="0" y="10861"/>
                  <a:pt x="12" y="10850"/>
                  <a:pt x="25" y="10850"/>
                </a:cubicBezTo>
                <a:cubicBezTo>
                  <a:pt x="39" y="10850"/>
                  <a:pt x="50" y="10861"/>
                  <a:pt x="50" y="10875"/>
                </a:cubicBezTo>
                <a:close/>
                <a:moveTo>
                  <a:pt x="50" y="11225"/>
                </a:moveTo>
                <a:lnTo>
                  <a:pt x="50" y="11375"/>
                </a:lnTo>
                <a:cubicBezTo>
                  <a:pt x="50" y="11389"/>
                  <a:pt x="39" y="11400"/>
                  <a:pt x="25" y="11400"/>
                </a:cubicBezTo>
                <a:cubicBezTo>
                  <a:pt x="12" y="11400"/>
                  <a:pt x="0" y="11389"/>
                  <a:pt x="0" y="11375"/>
                </a:cubicBezTo>
                <a:lnTo>
                  <a:pt x="0" y="11225"/>
                </a:lnTo>
                <a:cubicBezTo>
                  <a:pt x="0" y="11211"/>
                  <a:pt x="12" y="11200"/>
                  <a:pt x="25" y="11200"/>
                </a:cubicBezTo>
                <a:cubicBezTo>
                  <a:pt x="39" y="11200"/>
                  <a:pt x="50" y="11211"/>
                  <a:pt x="50" y="11225"/>
                </a:cubicBezTo>
                <a:close/>
                <a:moveTo>
                  <a:pt x="50" y="11575"/>
                </a:moveTo>
                <a:lnTo>
                  <a:pt x="50" y="11725"/>
                </a:lnTo>
                <a:cubicBezTo>
                  <a:pt x="50" y="11739"/>
                  <a:pt x="39" y="11750"/>
                  <a:pt x="25" y="11750"/>
                </a:cubicBezTo>
                <a:cubicBezTo>
                  <a:pt x="12" y="11750"/>
                  <a:pt x="0" y="11739"/>
                  <a:pt x="0" y="11725"/>
                </a:cubicBezTo>
                <a:lnTo>
                  <a:pt x="0" y="11575"/>
                </a:lnTo>
                <a:cubicBezTo>
                  <a:pt x="0" y="11561"/>
                  <a:pt x="12" y="11550"/>
                  <a:pt x="25" y="11550"/>
                </a:cubicBezTo>
                <a:cubicBezTo>
                  <a:pt x="39" y="11550"/>
                  <a:pt x="50" y="11561"/>
                  <a:pt x="50" y="11575"/>
                </a:cubicBezTo>
                <a:close/>
                <a:moveTo>
                  <a:pt x="50" y="11925"/>
                </a:moveTo>
                <a:lnTo>
                  <a:pt x="50" y="12075"/>
                </a:lnTo>
                <a:cubicBezTo>
                  <a:pt x="50" y="12089"/>
                  <a:pt x="39" y="12100"/>
                  <a:pt x="25" y="12100"/>
                </a:cubicBezTo>
                <a:cubicBezTo>
                  <a:pt x="12" y="12100"/>
                  <a:pt x="0" y="12089"/>
                  <a:pt x="0" y="12075"/>
                </a:cubicBezTo>
                <a:lnTo>
                  <a:pt x="0" y="11925"/>
                </a:lnTo>
                <a:cubicBezTo>
                  <a:pt x="0" y="11911"/>
                  <a:pt x="12" y="11900"/>
                  <a:pt x="25" y="11900"/>
                </a:cubicBezTo>
                <a:cubicBezTo>
                  <a:pt x="39" y="11900"/>
                  <a:pt x="50" y="11911"/>
                  <a:pt x="50" y="11925"/>
                </a:cubicBezTo>
                <a:close/>
                <a:moveTo>
                  <a:pt x="50" y="12275"/>
                </a:moveTo>
                <a:lnTo>
                  <a:pt x="50" y="12425"/>
                </a:lnTo>
                <a:cubicBezTo>
                  <a:pt x="50" y="12439"/>
                  <a:pt x="39" y="12450"/>
                  <a:pt x="25" y="12450"/>
                </a:cubicBezTo>
                <a:cubicBezTo>
                  <a:pt x="12" y="12450"/>
                  <a:pt x="0" y="12439"/>
                  <a:pt x="0" y="12425"/>
                </a:cubicBezTo>
                <a:lnTo>
                  <a:pt x="0" y="12275"/>
                </a:lnTo>
                <a:cubicBezTo>
                  <a:pt x="0" y="12261"/>
                  <a:pt x="12" y="12250"/>
                  <a:pt x="25" y="12250"/>
                </a:cubicBezTo>
                <a:cubicBezTo>
                  <a:pt x="39" y="12250"/>
                  <a:pt x="50" y="12261"/>
                  <a:pt x="50" y="12275"/>
                </a:cubicBezTo>
                <a:close/>
                <a:moveTo>
                  <a:pt x="50" y="12625"/>
                </a:moveTo>
                <a:lnTo>
                  <a:pt x="50" y="12775"/>
                </a:lnTo>
                <a:cubicBezTo>
                  <a:pt x="50" y="12789"/>
                  <a:pt x="39" y="12800"/>
                  <a:pt x="25" y="12800"/>
                </a:cubicBezTo>
                <a:cubicBezTo>
                  <a:pt x="12" y="12800"/>
                  <a:pt x="0" y="12789"/>
                  <a:pt x="0" y="12775"/>
                </a:cubicBezTo>
                <a:lnTo>
                  <a:pt x="0" y="12625"/>
                </a:lnTo>
                <a:cubicBezTo>
                  <a:pt x="0" y="12611"/>
                  <a:pt x="12" y="12600"/>
                  <a:pt x="25" y="12600"/>
                </a:cubicBezTo>
                <a:cubicBezTo>
                  <a:pt x="39" y="12600"/>
                  <a:pt x="50" y="12611"/>
                  <a:pt x="50" y="12625"/>
                </a:cubicBezTo>
                <a:close/>
                <a:moveTo>
                  <a:pt x="50" y="12975"/>
                </a:moveTo>
                <a:lnTo>
                  <a:pt x="50" y="13125"/>
                </a:lnTo>
                <a:cubicBezTo>
                  <a:pt x="50" y="13139"/>
                  <a:pt x="39" y="13150"/>
                  <a:pt x="25" y="13150"/>
                </a:cubicBezTo>
                <a:cubicBezTo>
                  <a:pt x="12" y="13150"/>
                  <a:pt x="0" y="13139"/>
                  <a:pt x="0" y="13125"/>
                </a:cubicBezTo>
                <a:lnTo>
                  <a:pt x="0" y="12975"/>
                </a:lnTo>
                <a:cubicBezTo>
                  <a:pt x="0" y="12961"/>
                  <a:pt x="12" y="12950"/>
                  <a:pt x="25" y="12950"/>
                </a:cubicBezTo>
                <a:cubicBezTo>
                  <a:pt x="39" y="12950"/>
                  <a:pt x="50" y="12961"/>
                  <a:pt x="50" y="12975"/>
                </a:cubicBezTo>
                <a:close/>
                <a:moveTo>
                  <a:pt x="50" y="13325"/>
                </a:moveTo>
                <a:lnTo>
                  <a:pt x="50" y="13475"/>
                </a:lnTo>
                <a:cubicBezTo>
                  <a:pt x="50" y="13489"/>
                  <a:pt x="39" y="13500"/>
                  <a:pt x="25" y="13500"/>
                </a:cubicBezTo>
                <a:cubicBezTo>
                  <a:pt x="12" y="13500"/>
                  <a:pt x="0" y="13489"/>
                  <a:pt x="0" y="13475"/>
                </a:cubicBezTo>
                <a:lnTo>
                  <a:pt x="0" y="13325"/>
                </a:lnTo>
                <a:cubicBezTo>
                  <a:pt x="0" y="13311"/>
                  <a:pt x="12" y="13300"/>
                  <a:pt x="25" y="13300"/>
                </a:cubicBezTo>
                <a:cubicBezTo>
                  <a:pt x="39" y="13300"/>
                  <a:pt x="50" y="13311"/>
                  <a:pt x="50" y="13325"/>
                </a:cubicBezTo>
                <a:close/>
                <a:moveTo>
                  <a:pt x="50" y="13675"/>
                </a:moveTo>
                <a:lnTo>
                  <a:pt x="50" y="13825"/>
                </a:lnTo>
                <a:cubicBezTo>
                  <a:pt x="50" y="13839"/>
                  <a:pt x="39" y="13850"/>
                  <a:pt x="25" y="13850"/>
                </a:cubicBezTo>
                <a:cubicBezTo>
                  <a:pt x="12" y="13850"/>
                  <a:pt x="0" y="13839"/>
                  <a:pt x="0" y="13825"/>
                </a:cubicBezTo>
                <a:lnTo>
                  <a:pt x="0" y="13675"/>
                </a:lnTo>
                <a:cubicBezTo>
                  <a:pt x="0" y="13661"/>
                  <a:pt x="12" y="13650"/>
                  <a:pt x="25" y="13650"/>
                </a:cubicBezTo>
                <a:cubicBezTo>
                  <a:pt x="39" y="13650"/>
                  <a:pt x="50" y="13661"/>
                  <a:pt x="50" y="13675"/>
                </a:cubicBezTo>
                <a:close/>
                <a:moveTo>
                  <a:pt x="50" y="14025"/>
                </a:moveTo>
                <a:lnTo>
                  <a:pt x="50" y="14175"/>
                </a:lnTo>
                <a:cubicBezTo>
                  <a:pt x="50" y="14189"/>
                  <a:pt x="39" y="14200"/>
                  <a:pt x="25" y="14200"/>
                </a:cubicBezTo>
                <a:cubicBezTo>
                  <a:pt x="12" y="14200"/>
                  <a:pt x="0" y="14189"/>
                  <a:pt x="0" y="14175"/>
                </a:cubicBezTo>
                <a:lnTo>
                  <a:pt x="0" y="14025"/>
                </a:lnTo>
                <a:cubicBezTo>
                  <a:pt x="0" y="14011"/>
                  <a:pt x="12" y="14000"/>
                  <a:pt x="25" y="14000"/>
                </a:cubicBezTo>
                <a:cubicBezTo>
                  <a:pt x="39" y="14000"/>
                  <a:pt x="50" y="14011"/>
                  <a:pt x="50" y="14025"/>
                </a:cubicBezTo>
                <a:close/>
                <a:moveTo>
                  <a:pt x="50" y="14375"/>
                </a:moveTo>
                <a:lnTo>
                  <a:pt x="50" y="14525"/>
                </a:lnTo>
                <a:cubicBezTo>
                  <a:pt x="50" y="14539"/>
                  <a:pt x="39" y="14550"/>
                  <a:pt x="25" y="14550"/>
                </a:cubicBezTo>
                <a:cubicBezTo>
                  <a:pt x="12" y="14550"/>
                  <a:pt x="0" y="14539"/>
                  <a:pt x="0" y="14525"/>
                </a:cubicBezTo>
                <a:lnTo>
                  <a:pt x="0" y="14375"/>
                </a:lnTo>
                <a:cubicBezTo>
                  <a:pt x="0" y="14361"/>
                  <a:pt x="12" y="14350"/>
                  <a:pt x="25" y="14350"/>
                </a:cubicBezTo>
                <a:cubicBezTo>
                  <a:pt x="39" y="14350"/>
                  <a:pt x="50" y="14361"/>
                  <a:pt x="50" y="14375"/>
                </a:cubicBezTo>
                <a:close/>
                <a:moveTo>
                  <a:pt x="50" y="14725"/>
                </a:moveTo>
                <a:lnTo>
                  <a:pt x="50" y="14875"/>
                </a:lnTo>
                <a:cubicBezTo>
                  <a:pt x="50" y="14889"/>
                  <a:pt x="39" y="14900"/>
                  <a:pt x="25" y="14900"/>
                </a:cubicBezTo>
                <a:cubicBezTo>
                  <a:pt x="12" y="14900"/>
                  <a:pt x="0" y="14889"/>
                  <a:pt x="0" y="14875"/>
                </a:cubicBezTo>
                <a:lnTo>
                  <a:pt x="0" y="14725"/>
                </a:lnTo>
                <a:cubicBezTo>
                  <a:pt x="0" y="14711"/>
                  <a:pt x="12" y="14700"/>
                  <a:pt x="25" y="14700"/>
                </a:cubicBezTo>
                <a:cubicBezTo>
                  <a:pt x="39" y="14700"/>
                  <a:pt x="50" y="14711"/>
                  <a:pt x="50" y="14725"/>
                </a:cubicBezTo>
                <a:close/>
                <a:moveTo>
                  <a:pt x="50" y="15075"/>
                </a:moveTo>
                <a:lnTo>
                  <a:pt x="50" y="15225"/>
                </a:lnTo>
                <a:cubicBezTo>
                  <a:pt x="50" y="15239"/>
                  <a:pt x="39" y="15250"/>
                  <a:pt x="25" y="15250"/>
                </a:cubicBezTo>
                <a:cubicBezTo>
                  <a:pt x="12" y="15250"/>
                  <a:pt x="0" y="15239"/>
                  <a:pt x="0" y="15225"/>
                </a:cubicBezTo>
                <a:lnTo>
                  <a:pt x="0" y="15075"/>
                </a:lnTo>
                <a:cubicBezTo>
                  <a:pt x="0" y="15061"/>
                  <a:pt x="12" y="15050"/>
                  <a:pt x="25" y="15050"/>
                </a:cubicBezTo>
                <a:cubicBezTo>
                  <a:pt x="39" y="15050"/>
                  <a:pt x="50" y="15061"/>
                  <a:pt x="50" y="15075"/>
                </a:cubicBezTo>
                <a:close/>
                <a:moveTo>
                  <a:pt x="50" y="15425"/>
                </a:moveTo>
                <a:lnTo>
                  <a:pt x="50" y="15575"/>
                </a:lnTo>
                <a:cubicBezTo>
                  <a:pt x="50" y="15589"/>
                  <a:pt x="39" y="15600"/>
                  <a:pt x="25" y="15600"/>
                </a:cubicBezTo>
                <a:cubicBezTo>
                  <a:pt x="12" y="15600"/>
                  <a:pt x="0" y="15589"/>
                  <a:pt x="0" y="15575"/>
                </a:cubicBezTo>
                <a:lnTo>
                  <a:pt x="0" y="15425"/>
                </a:lnTo>
                <a:cubicBezTo>
                  <a:pt x="0" y="15411"/>
                  <a:pt x="12" y="15400"/>
                  <a:pt x="25" y="15400"/>
                </a:cubicBezTo>
                <a:cubicBezTo>
                  <a:pt x="39" y="15400"/>
                  <a:pt x="50" y="15411"/>
                  <a:pt x="50" y="15425"/>
                </a:cubicBezTo>
                <a:close/>
                <a:moveTo>
                  <a:pt x="50" y="15775"/>
                </a:moveTo>
                <a:lnTo>
                  <a:pt x="50" y="15925"/>
                </a:lnTo>
                <a:cubicBezTo>
                  <a:pt x="50" y="15939"/>
                  <a:pt x="39" y="15950"/>
                  <a:pt x="25" y="15950"/>
                </a:cubicBezTo>
                <a:cubicBezTo>
                  <a:pt x="12" y="15950"/>
                  <a:pt x="0" y="15939"/>
                  <a:pt x="0" y="15925"/>
                </a:cubicBezTo>
                <a:lnTo>
                  <a:pt x="0" y="15775"/>
                </a:lnTo>
                <a:cubicBezTo>
                  <a:pt x="0" y="15761"/>
                  <a:pt x="12" y="15750"/>
                  <a:pt x="25" y="15750"/>
                </a:cubicBezTo>
                <a:cubicBezTo>
                  <a:pt x="39" y="15750"/>
                  <a:pt x="50" y="15761"/>
                  <a:pt x="50" y="15775"/>
                </a:cubicBezTo>
                <a:close/>
                <a:moveTo>
                  <a:pt x="50" y="16125"/>
                </a:moveTo>
                <a:lnTo>
                  <a:pt x="50" y="16275"/>
                </a:lnTo>
                <a:cubicBezTo>
                  <a:pt x="50" y="16289"/>
                  <a:pt x="39" y="16300"/>
                  <a:pt x="25" y="16300"/>
                </a:cubicBezTo>
                <a:cubicBezTo>
                  <a:pt x="12" y="16300"/>
                  <a:pt x="0" y="16289"/>
                  <a:pt x="0" y="16275"/>
                </a:cubicBezTo>
                <a:lnTo>
                  <a:pt x="0" y="16125"/>
                </a:lnTo>
                <a:cubicBezTo>
                  <a:pt x="0" y="16111"/>
                  <a:pt x="12" y="16100"/>
                  <a:pt x="25" y="16100"/>
                </a:cubicBezTo>
                <a:cubicBezTo>
                  <a:pt x="39" y="16100"/>
                  <a:pt x="50" y="16111"/>
                  <a:pt x="50" y="16125"/>
                </a:cubicBezTo>
                <a:close/>
                <a:moveTo>
                  <a:pt x="50" y="16475"/>
                </a:moveTo>
                <a:lnTo>
                  <a:pt x="50" y="16625"/>
                </a:lnTo>
                <a:cubicBezTo>
                  <a:pt x="50" y="16639"/>
                  <a:pt x="39" y="16650"/>
                  <a:pt x="25" y="16650"/>
                </a:cubicBezTo>
                <a:cubicBezTo>
                  <a:pt x="12" y="16650"/>
                  <a:pt x="0" y="16639"/>
                  <a:pt x="0" y="16625"/>
                </a:cubicBezTo>
                <a:lnTo>
                  <a:pt x="0" y="16475"/>
                </a:lnTo>
                <a:cubicBezTo>
                  <a:pt x="0" y="16461"/>
                  <a:pt x="12" y="16450"/>
                  <a:pt x="25" y="16450"/>
                </a:cubicBezTo>
                <a:cubicBezTo>
                  <a:pt x="39" y="16450"/>
                  <a:pt x="50" y="16461"/>
                  <a:pt x="50" y="16475"/>
                </a:cubicBezTo>
                <a:close/>
                <a:moveTo>
                  <a:pt x="50" y="16825"/>
                </a:moveTo>
                <a:lnTo>
                  <a:pt x="50" y="16975"/>
                </a:lnTo>
                <a:cubicBezTo>
                  <a:pt x="50" y="16989"/>
                  <a:pt x="39" y="17000"/>
                  <a:pt x="25" y="17000"/>
                </a:cubicBezTo>
                <a:cubicBezTo>
                  <a:pt x="12" y="17000"/>
                  <a:pt x="0" y="16989"/>
                  <a:pt x="0" y="16975"/>
                </a:cubicBezTo>
                <a:lnTo>
                  <a:pt x="0" y="16825"/>
                </a:lnTo>
                <a:cubicBezTo>
                  <a:pt x="0" y="16811"/>
                  <a:pt x="12" y="16800"/>
                  <a:pt x="25" y="16800"/>
                </a:cubicBezTo>
                <a:cubicBezTo>
                  <a:pt x="39" y="16800"/>
                  <a:pt x="50" y="16811"/>
                  <a:pt x="50" y="16825"/>
                </a:cubicBezTo>
                <a:close/>
                <a:moveTo>
                  <a:pt x="50" y="17175"/>
                </a:moveTo>
                <a:lnTo>
                  <a:pt x="50" y="17325"/>
                </a:lnTo>
                <a:cubicBezTo>
                  <a:pt x="50" y="17339"/>
                  <a:pt x="39" y="17350"/>
                  <a:pt x="25" y="17350"/>
                </a:cubicBezTo>
                <a:cubicBezTo>
                  <a:pt x="12" y="17350"/>
                  <a:pt x="0" y="17339"/>
                  <a:pt x="0" y="17325"/>
                </a:cubicBezTo>
                <a:lnTo>
                  <a:pt x="0" y="17175"/>
                </a:lnTo>
                <a:cubicBezTo>
                  <a:pt x="0" y="17161"/>
                  <a:pt x="12" y="17150"/>
                  <a:pt x="25" y="17150"/>
                </a:cubicBezTo>
                <a:cubicBezTo>
                  <a:pt x="39" y="17150"/>
                  <a:pt x="50" y="17161"/>
                  <a:pt x="50" y="17175"/>
                </a:cubicBezTo>
                <a:close/>
                <a:moveTo>
                  <a:pt x="50" y="17525"/>
                </a:moveTo>
                <a:lnTo>
                  <a:pt x="50" y="17675"/>
                </a:lnTo>
                <a:cubicBezTo>
                  <a:pt x="50" y="17689"/>
                  <a:pt x="39" y="17700"/>
                  <a:pt x="25" y="17700"/>
                </a:cubicBezTo>
                <a:cubicBezTo>
                  <a:pt x="12" y="17700"/>
                  <a:pt x="0" y="17689"/>
                  <a:pt x="0" y="17675"/>
                </a:cubicBezTo>
                <a:lnTo>
                  <a:pt x="0" y="17525"/>
                </a:lnTo>
                <a:cubicBezTo>
                  <a:pt x="0" y="17511"/>
                  <a:pt x="12" y="17500"/>
                  <a:pt x="25" y="17500"/>
                </a:cubicBezTo>
                <a:cubicBezTo>
                  <a:pt x="39" y="17500"/>
                  <a:pt x="50" y="17511"/>
                  <a:pt x="50" y="17525"/>
                </a:cubicBez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1120" y="2071800"/>
            <a:ext cx="9720" cy="3251160"/>
          </a:xfrm>
          <a:custGeom>
            <a:avLst/>
            <a:gdLst/>
            <a:ahLst/>
            <a:rect l="l" t="t" r="r" b="b"/>
            <a:pathLst>
              <a:path w="50" h="17700">
                <a:moveTo>
                  <a:pt x="50" y="25"/>
                </a:moveTo>
                <a:lnTo>
                  <a:pt x="50" y="175"/>
                </a:lnTo>
                <a:cubicBezTo>
                  <a:pt x="50" y="189"/>
                  <a:pt x="39" y="200"/>
                  <a:pt x="25" y="200"/>
                </a:cubicBezTo>
                <a:cubicBezTo>
                  <a:pt x="11" y="200"/>
                  <a:pt x="0" y="189"/>
                  <a:pt x="0" y="175"/>
                </a:cubicBezTo>
                <a:lnTo>
                  <a:pt x="0" y="25"/>
                </a:lnTo>
                <a:cubicBezTo>
                  <a:pt x="0" y="11"/>
                  <a:pt x="11" y="0"/>
                  <a:pt x="25" y="0"/>
                </a:cubicBezTo>
                <a:cubicBezTo>
                  <a:pt x="39" y="0"/>
                  <a:pt x="50" y="11"/>
                  <a:pt x="50" y="25"/>
                </a:cubicBezTo>
                <a:close/>
                <a:moveTo>
                  <a:pt x="50" y="375"/>
                </a:moveTo>
                <a:lnTo>
                  <a:pt x="50" y="525"/>
                </a:lnTo>
                <a:cubicBezTo>
                  <a:pt x="50" y="539"/>
                  <a:pt x="39" y="550"/>
                  <a:pt x="25" y="550"/>
                </a:cubicBezTo>
                <a:cubicBezTo>
                  <a:pt x="11" y="550"/>
                  <a:pt x="0" y="539"/>
                  <a:pt x="0" y="525"/>
                </a:cubicBezTo>
                <a:lnTo>
                  <a:pt x="0" y="375"/>
                </a:lnTo>
                <a:cubicBezTo>
                  <a:pt x="0" y="361"/>
                  <a:pt x="11" y="350"/>
                  <a:pt x="25" y="350"/>
                </a:cubicBezTo>
                <a:cubicBezTo>
                  <a:pt x="39" y="350"/>
                  <a:pt x="50" y="361"/>
                  <a:pt x="50" y="375"/>
                </a:cubicBezTo>
                <a:close/>
                <a:moveTo>
                  <a:pt x="50" y="725"/>
                </a:moveTo>
                <a:lnTo>
                  <a:pt x="50" y="875"/>
                </a:lnTo>
                <a:cubicBezTo>
                  <a:pt x="50" y="889"/>
                  <a:pt x="39" y="900"/>
                  <a:pt x="25" y="900"/>
                </a:cubicBezTo>
                <a:cubicBezTo>
                  <a:pt x="11" y="900"/>
                  <a:pt x="0" y="889"/>
                  <a:pt x="0" y="875"/>
                </a:cubicBezTo>
                <a:lnTo>
                  <a:pt x="0" y="725"/>
                </a:lnTo>
                <a:cubicBezTo>
                  <a:pt x="0" y="711"/>
                  <a:pt x="11" y="700"/>
                  <a:pt x="25" y="700"/>
                </a:cubicBezTo>
                <a:cubicBezTo>
                  <a:pt x="39" y="700"/>
                  <a:pt x="50" y="711"/>
                  <a:pt x="50" y="725"/>
                </a:cubicBezTo>
                <a:close/>
                <a:moveTo>
                  <a:pt x="50" y="1075"/>
                </a:moveTo>
                <a:lnTo>
                  <a:pt x="50" y="1225"/>
                </a:lnTo>
                <a:cubicBezTo>
                  <a:pt x="50" y="1239"/>
                  <a:pt x="39" y="1250"/>
                  <a:pt x="25" y="1250"/>
                </a:cubicBezTo>
                <a:cubicBezTo>
                  <a:pt x="11" y="1250"/>
                  <a:pt x="0" y="1239"/>
                  <a:pt x="0" y="1225"/>
                </a:cubicBezTo>
                <a:lnTo>
                  <a:pt x="0" y="1075"/>
                </a:lnTo>
                <a:cubicBezTo>
                  <a:pt x="0" y="1061"/>
                  <a:pt x="11" y="1050"/>
                  <a:pt x="25" y="1050"/>
                </a:cubicBezTo>
                <a:cubicBezTo>
                  <a:pt x="39" y="1050"/>
                  <a:pt x="50" y="1061"/>
                  <a:pt x="50" y="1075"/>
                </a:cubicBezTo>
                <a:close/>
                <a:moveTo>
                  <a:pt x="50" y="1425"/>
                </a:moveTo>
                <a:lnTo>
                  <a:pt x="50" y="1575"/>
                </a:lnTo>
                <a:cubicBezTo>
                  <a:pt x="50" y="1589"/>
                  <a:pt x="39" y="1600"/>
                  <a:pt x="25" y="1600"/>
                </a:cubicBezTo>
                <a:cubicBezTo>
                  <a:pt x="11" y="1600"/>
                  <a:pt x="0" y="1589"/>
                  <a:pt x="0" y="1575"/>
                </a:cubicBezTo>
                <a:lnTo>
                  <a:pt x="0" y="1425"/>
                </a:lnTo>
                <a:cubicBezTo>
                  <a:pt x="0" y="1411"/>
                  <a:pt x="11" y="1400"/>
                  <a:pt x="25" y="1400"/>
                </a:cubicBezTo>
                <a:cubicBezTo>
                  <a:pt x="39" y="1400"/>
                  <a:pt x="50" y="1411"/>
                  <a:pt x="50" y="1425"/>
                </a:cubicBezTo>
                <a:close/>
                <a:moveTo>
                  <a:pt x="50" y="1775"/>
                </a:moveTo>
                <a:lnTo>
                  <a:pt x="50" y="1925"/>
                </a:lnTo>
                <a:cubicBezTo>
                  <a:pt x="50" y="1939"/>
                  <a:pt x="39" y="1950"/>
                  <a:pt x="25" y="1950"/>
                </a:cubicBezTo>
                <a:cubicBezTo>
                  <a:pt x="11" y="1950"/>
                  <a:pt x="0" y="1939"/>
                  <a:pt x="0" y="1925"/>
                </a:cubicBezTo>
                <a:lnTo>
                  <a:pt x="0" y="1775"/>
                </a:lnTo>
                <a:cubicBezTo>
                  <a:pt x="0" y="1761"/>
                  <a:pt x="11" y="1750"/>
                  <a:pt x="25" y="1750"/>
                </a:cubicBezTo>
                <a:cubicBezTo>
                  <a:pt x="39" y="1750"/>
                  <a:pt x="50" y="1761"/>
                  <a:pt x="50" y="1775"/>
                </a:cubicBezTo>
                <a:close/>
                <a:moveTo>
                  <a:pt x="50" y="2125"/>
                </a:moveTo>
                <a:lnTo>
                  <a:pt x="50" y="2275"/>
                </a:lnTo>
                <a:cubicBezTo>
                  <a:pt x="50" y="2289"/>
                  <a:pt x="39" y="2300"/>
                  <a:pt x="25" y="2300"/>
                </a:cubicBezTo>
                <a:cubicBezTo>
                  <a:pt x="11" y="2300"/>
                  <a:pt x="0" y="2289"/>
                  <a:pt x="0" y="2275"/>
                </a:cubicBezTo>
                <a:lnTo>
                  <a:pt x="0" y="2125"/>
                </a:lnTo>
                <a:cubicBezTo>
                  <a:pt x="0" y="2111"/>
                  <a:pt x="11" y="2100"/>
                  <a:pt x="25" y="2100"/>
                </a:cubicBezTo>
                <a:cubicBezTo>
                  <a:pt x="39" y="2100"/>
                  <a:pt x="50" y="2111"/>
                  <a:pt x="50" y="2125"/>
                </a:cubicBezTo>
                <a:close/>
                <a:moveTo>
                  <a:pt x="50" y="2475"/>
                </a:moveTo>
                <a:lnTo>
                  <a:pt x="50" y="2625"/>
                </a:lnTo>
                <a:cubicBezTo>
                  <a:pt x="50" y="2639"/>
                  <a:pt x="39" y="2650"/>
                  <a:pt x="25" y="2650"/>
                </a:cubicBezTo>
                <a:cubicBezTo>
                  <a:pt x="11" y="2650"/>
                  <a:pt x="0" y="2639"/>
                  <a:pt x="0" y="2625"/>
                </a:cubicBezTo>
                <a:lnTo>
                  <a:pt x="0" y="2475"/>
                </a:lnTo>
                <a:cubicBezTo>
                  <a:pt x="0" y="2461"/>
                  <a:pt x="11" y="2450"/>
                  <a:pt x="25" y="2450"/>
                </a:cubicBezTo>
                <a:cubicBezTo>
                  <a:pt x="39" y="2450"/>
                  <a:pt x="50" y="2461"/>
                  <a:pt x="50" y="2475"/>
                </a:cubicBezTo>
                <a:close/>
                <a:moveTo>
                  <a:pt x="50" y="2825"/>
                </a:moveTo>
                <a:lnTo>
                  <a:pt x="50" y="2975"/>
                </a:lnTo>
                <a:cubicBezTo>
                  <a:pt x="50" y="2989"/>
                  <a:pt x="39" y="3000"/>
                  <a:pt x="25" y="3000"/>
                </a:cubicBezTo>
                <a:cubicBezTo>
                  <a:pt x="11" y="3000"/>
                  <a:pt x="0" y="2989"/>
                  <a:pt x="0" y="2975"/>
                </a:cubicBezTo>
                <a:lnTo>
                  <a:pt x="0" y="2825"/>
                </a:lnTo>
                <a:cubicBezTo>
                  <a:pt x="0" y="2811"/>
                  <a:pt x="11" y="2800"/>
                  <a:pt x="25" y="2800"/>
                </a:cubicBezTo>
                <a:cubicBezTo>
                  <a:pt x="39" y="2800"/>
                  <a:pt x="50" y="2811"/>
                  <a:pt x="50" y="2825"/>
                </a:cubicBezTo>
                <a:close/>
                <a:moveTo>
                  <a:pt x="50" y="3175"/>
                </a:moveTo>
                <a:lnTo>
                  <a:pt x="50" y="3325"/>
                </a:lnTo>
                <a:cubicBezTo>
                  <a:pt x="50" y="3339"/>
                  <a:pt x="39" y="3350"/>
                  <a:pt x="25" y="3350"/>
                </a:cubicBezTo>
                <a:cubicBezTo>
                  <a:pt x="11" y="3350"/>
                  <a:pt x="0" y="3339"/>
                  <a:pt x="0" y="3325"/>
                </a:cubicBezTo>
                <a:lnTo>
                  <a:pt x="0" y="3175"/>
                </a:lnTo>
                <a:cubicBezTo>
                  <a:pt x="0" y="3161"/>
                  <a:pt x="11" y="3150"/>
                  <a:pt x="25" y="3150"/>
                </a:cubicBezTo>
                <a:cubicBezTo>
                  <a:pt x="39" y="3150"/>
                  <a:pt x="50" y="3161"/>
                  <a:pt x="50" y="3175"/>
                </a:cubicBezTo>
                <a:close/>
                <a:moveTo>
                  <a:pt x="50" y="3525"/>
                </a:moveTo>
                <a:lnTo>
                  <a:pt x="50" y="3675"/>
                </a:lnTo>
                <a:cubicBezTo>
                  <a:pt x="50" y="3689"/>
                  <a:pt x="39" y="3700"/>
                  <a:pt x="25" y="3700"/>
                </a:cubicBezTo>
                <a:cubicBezTo>
                  <a:pt x="11" y="3700"/>
                  <a:pt x="0" y="3689"/>
                  <a:pt x="0" y="3675"/>
                </a:cubicBezTo>
                <a:lnTo>
                  <a:pt x="0" y="3525"/>
                </a:lnTo>
                <a:cubicBezTo>
                  <a:pt x="0" y="3511"/>
                  <a:pt x="11" y="3500"/>
                  <a:pt x="25" y="3500"/>
                </a:cubicBezTo>
                <a:cubicBezTo>
                  <a:pt x="39" y="3500"/>
                  <a:pt x="50" y="3511"/>
                  <a:pt x="50" y="3525"/>
                </a:cubicBezTo>
                <a:close/>
                <a:moveTo>
                  <a:pt x="50" y="3875"/>
                </a:moveTo>
                <a:lnTo>
                  <a:pt x="50" y="4025"/>
                </a:lnTo>
                <a:cubicBezTo>
                  <a:pt x="50" y="4039"/>
                  <a:pt x="39" y="4050"/>
                  <a:pt x="25" y="4050"/>
                </a:cubicBezTo>
                <a:cubicBezTo>
                  <a:pt x="11" y="4050"/>
                  <a:pt x="0" y="4039"/>
                  <a:pt x="0" y="4025"/>
                </a:cubicBezTo>
                <a:lnTo>
                  <a:pt x="0" y="3875"/>
                </a:lnTo>
                <a:cubicBezTo>
                  <a:pt x="0" y="3861"/>
                  <a:pt x="11" y="3850"/>
                  <a:pt x="25" y="3850"/>
                </a:cubicBezTo>
                <a:cubicBezTo>
                  <a:pt x="39" y="3850"/>
                  <a:pt x="50" y="3861"/>
                  <a:pt x="50" y="3875"/>
                </a:cubicBezTo>
                <a:close/>
                <a:moveTo>
                  <a:pt x="50" y="4225"/>
                </a:moveTo>
                <a:lnTo>
                  <a:pt x="50" y="4375"/>
                </a:lnTo>
                <a:cubicBezTo>
                  <a:pt x="50" y="4389"/>
                  <a:pt x="39" y="4400"/>
                  <a:pt x="25" y="4400"/>
                </a:cubicBezTo>
                <a:cubicBezTo>
                  <a:pt x="11" y="4400"/>
                  <a:pt x="0" y="4389"/>
                  <a:pt x="0" y="4375"/>
                </a:cubicBezTo>
                <a:lnTo>
                  <a:pt x="0" y="4225"/>
                </a:lnTo>
                <a:cubicBezTo>
                  <a:pt x="0" y="4211"/>
                  <a:pt x="11" y="4200"/>
                  <a:pt x="25" y="4200"/>
                </a:cubicBezTo>
                <a:cubicBezTo>
                  <a:pt x="39" y="4200"/>
                  <a:pt x="50" y="4211"/>
                  <a:pt x="50" y="4225"/>
                </a:cubicBezTo>
                <a:close/>
                <a:moveTo>
                  <a:pt x="50" y="4575"/>
                </a:moveTo>
                <a:lnTo>
                  <a:pt x="50" y="4725"/>
                </a:lnTo>
                <a:cubicBezTo>
                  <a:pt x="50" y="4739"/>
                  <a:pt x="39" y="4750"/>
                  <a:pt x="25" y="4750"/>
                </a:cubicBezTo>
                <a:cubicBezTo>
                  <a:pt x="11" y="4750"/>
                  <a:pt x="0" y="4739"/>
                  <a:pt x="0" y="4725"/>
                </a:cubicBezTo>
                <a:lnTo>
                  <a:pt x="0" y="4575"/>
                </a:lnTo>
                <a:cubicBezTo>
                  <a:pt x="0" y="4561"/>
                  <a:pt x="11" y="4550"/>
                  <a:pt x="25" y="4550"/>
                </a:cubicBezTo>
                <a:cubicBezTo>
                  <a:pt x="39" y="4550"/>
                  <a:pt x="50" y="4561"/>
                  <a:pt x="50" y="4575"/>
                </a:cubicBezTo>
                <a:close/>
                <a:moveTo>
                  <a:pt x="50" y="4925"/>
                </a:moveTo>
                <a:lnTo>
                  <a:pt x="50" y="5075"/>
                </a:lnTo>
                <a:cubicBezTo>
                  <a:pt x="50" y="5089"/>
                  <a:pt x="39" y="5100"/>
                  <a:pt x="25" y="5100"/>
                </a:cubicBezTo>
                <a:cubicBezTo>
                  <a:pt x="11" y="5100"/>
                  <a:pt x="0" y="5089"/>
                  <a:pt x="0" y="5075"/>
                </a:cubicBezTo>
                <a:lnTo>
                  <a:pt x="0" y="4925"/>
                </a:lnTo>
                <a:cubicBezTo>
                  <a:pt x="0" y="4911"/>
                  <a:pt x="11" y="4900"/>
                  <a:pt x="25" y="4900"/>
                </a:cubicBezTo>
                <a:cubicBezTo>
                  <a:pt x="39" y="4900"/>
                  <a:pt x="50" y="4911"/>
                  <a:pt x="50" y="4925"/>
                </a:cubicBezTo>
                <a:close/>
                <a:moveTo>
                  <a:pt x="50" y="5275"/>
                </a:moveTo>
                <a:lnTo>
                  <a:pt x="50" y="5425"/>
                </a:lnTo>
                <a:cubicBezTo>
                  <a:pt x="50" y="5439"/>
                  <a:pt x="39" y="5450"/>
                  <a:pt x="25" y="5450"/>
                </a:cubicBezTo>
                <a:cubicBezTo>
                  <a:pt x="11" y="5450"/>
                  <a:pt x="0" y="5439"/>
                  <a:pt x="0" y="5425"/>
                </a:cubicBezTo>
                <a:lnTo>
                  <a:pt x="0" y="5275"/>
                </a:lnTo>
                <a:cubicBezTo>
                  <a:pt x="0" y="5261"/>
                  <a:pt x="11" y="5250"/>
                  <a:pt x="25" y="5250"/>
                </a:cubicBezTo>
                <a:cubicBezTo>
                  <a:pt x="39" y="5250"/>
                  <a:pt x="50" y="5261"/>
                  <a:pt x="50" y="5275"/>
                </a:cubicBezTo>
                <a:close/>
                <a:moveTo>
                  <a:pt x="50" y="5625"/>
                </a:moveTo>
                <a:lnTo>
                  <a:pt x="50" y="5775"/>
                </a:lnTo>
                <a:cubicBezTo>
                  <a:pt x="50" y="5789"/>
                  <a:pt x="39" y="5800"/>
                  <a:pt x="25" y="5800"/>
                </a:cubicBezTo>
                <a:cubicBezTo>
                  <a:pt x="11" y="5800"/>
                  <a:pt x="0" y="5789"/>
                  <a:pt x="0" y="5775"/>
                </a:cubicBezTo>
                <a:lnTo>
                  <a:pt x="0" y="5625"/>
                </a:lnTo>
                <a:cubicBezTo>
                  <a:pt x="0" y="5611"/>
                  <a:pt x="11" y="5600"/>
                  <a:pt x="25" y="5600"/>
                </a:cubicBezTo>
                <a:cubicBezTo>
                  <a:pt x="39" y="5600"/>
                  <a:pt x="50" y="5611"/>
                  <a:pt x="50" y="5625"/>
                </a:cubicBezTo>
                <a:close/>
                <a:moveTo>
                  <a:pt x="50" y="5975"/>
                </a:moveTo>
                <a:lnTo>
                  <a:pt x="50" y="6125"/>
                </a:lnTo>
                <a:cubicBezTo>
                  <a:pt x="50" y="6139"/>
                  <a:pt x="39" y="6150"/>
                  <a:pt x="25" y="6150"/>
                </a:cubicBezTo>
                <a:cubicBezTo>
                  <a:pt x="11" y="6150"/>
                  <a:pt x="0" y="6139"/>
                  <a:pt x="0" y="6125"/>
                </a:cubicBezTo>
                <a:lnTo>
                  <a:pt x="0" y="5975"/>
                </a:lnTo>
                <a:cubicBezTo>
                  <a:pt x="0" y="5961"/>
                  <a:pt x="11" y="5950"/>
                  <a:pt x="25" y="5950"/>
                </a:cubicBezTo>
                <a:cubicBezTo>
                  <a:pt x="39" y="5950"/>
                  <a:pt x="50" y="5961"/>
                  <a:pt x="50" y="5975"/>
                </a:cubicBezTo>
                <a:close/>
                <a:moveTo>
                  <a:pt x="50" y="6325"/>
                </a:moveTo>
                <a:lnTo>
                  <a:pt x="50" y="6475"/>
                </a:lnTo>
                <a:cubicBezTo>
                  <a:pt x="50" y="6489"/>
                  <a:pt x="39" y="6500"/>
                  <a:pt x="25" y="6500"/>
                </a:cubicBezTo>
                <a:cubicBezTo>
                  <a:pt x="11" y="6500"/>
                  <a:pt x="0" y="6489"/>
                  <a:pt x="0" y="6475"/>
                </a:cubicBezTo>
                <a:lnTo>
                  <a:pt x="0" y="6325"/>
                </a:lnTo>
                <a:cubicBezTo>
                  <a:pt x="0" y="6311"/>
                  <a:pt x="11" y="6300"/>
                  <a:pt x="25" y="6300"/>
                </a:cubicBezTo>
                <a:cubicBezTo>
                  <a:pt x="39" y="6300"/>
                  <a:pt x="50" y="6311"/>
                  <a:pt x="50" y="6325"/>
                </a:cubicBezTo>
                <a:close/>
                <a:moveTo>
                  <a:pt x="50" y="6675"/>
                </a:moveTo>
                <a:lnTo>
                  <a:pt x="50" y="6825"/>
                </a:lnTo>
                <a:cubicBezTo>
                  <a:pt x="50" y="6839"/>
                  <a:pt x="39" y="6850"/>
                  <a:pt x="25" y="6850"/>
                </a:cubicBezTo>
                <a:cubicBezTo>
                  <a:pt x="11" y="6850"/>
                  <a:pt x="0" y="6839"/>
                  <a:pt x="0" y="6825"/>
                </a:cubicBezTo>
                <a:lnTo>
                  <a:pt x="0" y="6675"/>
                </a:lnTo>
                <a:cubicBezTo>
                  <a:pt x="0" y="6661"/>
                  <a:pt x="11" y="6650"/>
                  <a:pt x="25" y="6650"/>
                </a:cubicBezTo>
                <a:cubicBezTo>
                  <a:pt x="39" y="6650"/>
                  <a:pt x="50" y="6661"/>
                  <a:pt x="50" y="6675"/>
                </a:cubicBezTo>
                <a:close/>
                <a:moveTo>
                  <a:pt x="50" y="7025"/>
                </a:moveTo>
                <a:lnTo>
                  <a:pt x="50" y="7175"/>
                </a:lnTo>
                <a:cubicBezTo>
                  <a:pt x="50" y="7189"/>
                  <a:pt x="39" y="7200"/>
                  <a:pt x="25" y="7200"/>
                </a:cubicBezTo>
                <a:cubicBezTo>
                  <a:pt x="11" y="7200"/>
                  <a:pt x="0" y="7189"/>
                  <a:pt x="0" y="7175"/>
                </a:cubicBezTo>
                <a:lnTo>
                  <a:pt x="0" y="7025"/>
                </a:lnTo>
                <a:cubicBezTo>
                  <a:pt x="0" y="7011"/>
                  <a:pt x="11" y="7000"/>
                  <a:pt x="25" y="7000"/>
                </a:cubicBezTo>
                <a:cubicBezTo>
                  <a:pt x="39" y="7000"/>
                  <a:pt x="50" y="7011"/>
                  <a:pt x="50" y="7025"/>
                </a:cubicBezTo>
                <a:close/>
                <a:moveTo>
                  <a:pt x="50" y="7375"/>
                </a:moveTo>
                <a:lnTo>
                  <a:pt x="50" y="7525"/>
                </a:lnTo>
                <a:cubicBezTo>
                  <a:pt x="50" y="7539"/>
                  <a:pt x="39" y="7550"/>
                  <a:pt x="25" y="7550"/>
                </a:cubicBezTo>
                <a:cubicBezTo>
                  <a:pt x="11" y="7550"/>
                  <a:pt x="0" y="7539"/>
                  <a:pt x="0" y="7525"/>
                </a:cubicBezTo>
                <a:lnTo>
                  <a:pt x="0" y="7375"/>
                </a:lnTo>
                <a:cubicBezTo>
                  <a:pt x="0" y="7361"/>
                  <a:pt x="11" y="7350"/>
                  <a:pt x="25" y="7350"/>
                </a:cubicBezTo>
                <a:cubicBezTo>
                  <a:pt x="39" y="7350"/>
                  <a:pt x="50" y="7361"/>
                  <a:pt x="50" y="7375"/>
                </a:cubicBezTo>
                <a:close/>
                <a:moveTo>
                  <a:pt x="50" y="7725"/>
                </a:moveTo>
                <a:lnTo>
                  <a:pt x="50" y="7875"/>
                </a:lnTo>
                <a:cubicBezTo>
                  <a:pt x="50" y="7889"/>
                  <a:pt x="39" y="7900"/>
                  <a:pt x="25" y="7900"/>
                </a:cubicBezTo>
                <a:cubicBezTo>
                  <a:pt x="11" y="7900"/>
                  <a:pt x="0" y="7889"/>
                  <a:pt x="0" y="7875"/>
                </a:cubicBezTo>
                <a:lnTo>
                  <a:pt x="0" y="7725"/>
                </a:lnTo>
                <a:cubicBezTo>
                  <a:pt x="0" y="7711"/>
                  <a:pt x="11" y="7700"/>
                  <a:pt x="25" y="7700"/>
                </a:cubicBezTo>
                <a:cubicBezTo>
                  <a:pt x="39" y="7700"/>
                  <a:pt x="50" y="7711"/>
                  <a:pt x="50" y="7725"/>
                </a:cubicBezTo>
                <a:close/>
                <a:moveTo>
                  <a:pt x="50" y="8075"/>
                </a:moveTo>
                <a:lnTo>
                  <a:pt x="50" y="8225"/>
                </a:lnTo>
                <a:cubicBezTo>
                  <a:pt x="50" y="8239"/>
                  <a:pt x="39" y="8250"/>
                  <a:pt x="25" y="8250"/>
                </a:cubicBezTo>
                <a:cubicBezTo>
                  <a:pt x="11" y="8250"/>
                  <a:pt x="0" y="8239"/>
                  <a:pt x="0" y="8225"/>
                </a:cubicBezTo>
                <a:lnTo>
                  <a:pt x="0" y="8075"/>
                </a:lnTo>
                <a:cubicBezTo>
                  <a:pt x="0" y="8061"/>
                  <a:pt x="11" y="8050"/>
                  <a:pt x="25" y="8050"/>
                </a:cubicBezTo>
                <a:cubicBezTo>
                  <a:pt x="39" y="8050"/>
                  <a:pt x="50" y="8061"/>
                  <a:pt x="50" y="8075"/>
                </a:cubicBezTo>
                <a:close/>
                <a:moveTo>
                  <a:pt x="50" y="8425"/>
                </a:moveTo>
                <a:lnTo>
                  <a:pt x="50" y="8575"/>
                </a:lnTo>
                <a:cubicBezTo>
                  <a:pt x="50" y="8589"/>
                  <a:pt x="39" y="8600"/>
                  <a:pt x="25" y="8600"/>
                </a:cubicBezTo>
                <a:cubicBezTo>
                  <a:pt x="11" y="8600"/>
                  <a:pt x="0" y="8589"/>
                  <a:pt x="0" y="8575"/>
                </a:cubicBezTo>
                <a:lnTo>
                  <a:pt x="0" y="8425"/>
                </a:lnTo>
                <a:cubicBezTo>
                  <a:pt x="0" y="8411"/>
                  <a:pt x="11" y="8400"/>
                  <a:pt x="25" y="8400"/>
                </a:cubicBezTo>
                <a:cubicBezTo>
                  <a:pt x="39" y="8400"/>
                  <a:pt x="50" y="8411"/>
                  <a:pt x="50" y="8425"/>
                </a:cubicBezTo>
                <a:close/>
                <a:moveTo>
                  <a:pt x="50" y="8775"/>
                </a:moveTo>
                <a:lnTo>
                  <a:pt x="50" y="8925"/>
                </a:lnTo>
                <a:cubicBezTo>
                  <a:pt x="50" y="8939"/>
                  <a:pt x="39" y="8950"/>
                  <a:pt x="25" y="8950"/>
                </a:cubicBezTo>
                <a:cubicBezTo>
                  <a:pt x="11" y="8950"/>
                  <a:pt x="0" y="8939"/>
                  <a:pt x="0" y="8925"/>
                </a:cubicBezTo>
                <a:lnTo>
                  <a:pt x="0" y="8775"/>
                </a:lnTo>
                <a:cubicBezTo>
                  <a:pt x="0" y="8761"/>
                  <a:pt x="11" y="8750"/>
                  <a:pt x="25" y="8750"/>
                </a:cubicBezTo>
                <a:cubicBezTo>
                  <a:pt x="39" y="8750"/>
                  <a:pt x="50" y="8761"/>
                  <a:pt x="50" y="8775"/>
                </a:cubicBezTo>
                <a:close/>
                <a:moveTo>
                  <a:pt x="50" y="9125"/>
                </a:moveTo>
                <a:lnTo>
                  <a:pt x="50" y="9275"/>
                </a:lnTo>
                <a:cubicBezTo>
                  <a:pt x="50" y="9289"/>
                  <a:pt x="39" y="9300"/>
                  <a:pt x="25" y="9300"/>
                </a:cubicBezTo>
                <a:cubicBezTo>
                  <a:pt x="11" y="9300"/>
                  <a:pt x="0" y="9289"/>
                  <a:pt x="0" y="9275"/>
                </a:cubicBezTo>
                <a:lnTo>
                  <a:pt x="0" y="9125"/>
                </a:lnTo>
                <a:cubicBezTo>
                  <a:pt x="0" y="9111"/>
                  <a:pt x="11" y="9100"/>
                  <a:pt x="25" y="9100"/>
                </a:cubicBezTo>
                <a:cubicBezTo>
                  <a:pt x="39" y="9100"/>
                  <a:pt x="50" y="9111"/>
                  <a:pt x="50" y="9125"/>
                </a:cubicBezTo>
                <a:close/>
                <a:moveTo>
                  <a:pt x="50" y="9475"/>
                </a:moveTo>
                <a:lnTo>
                  <a:pt x="50" y="9625"/>
                </a:lnTo>
                <a:cubicBezTo>
                  <a:pt x="50" y="9639"/>
                  <a:pt x="39" y="9650"/>
                  <a:pt x="25" y="9650"/>
                </a:cubicBezTo>
                <a:cubicBezTo>
                  <a:pt x="11" y="9650"/>
                  <a:pt x="0" y="9639"/>
                  <a:pt x="0" y="9625"/>
                </a:cubicBezTo>
                <a:lnTo>
                  <a:pt x="0" y="9475"/>
                </a:lnTo>
                <a:cubicBezTo>
                  <a:pt x="0" y="9461"/>
                  <a:pt x="11" y="9450"/>
                  <a:pt x="25" y="9450"/>
                </a:cubicBezTo>
                <a:cubicBezTo>
                  <a:pt x="39" y="9450"/>
                  <a:pt x="50" y="9461"/>
                  <a:pt x="50" y="9475"/>
                </a:cubicBezTo>
                <a:close/>
                <a:moveTo>
                  <a:pt x="50" y="9825"/>
                </a:moveTo>
                <a:lnTo>
                  <a:pt x="50" y="9975"/>
                </a:lnTo>
                <a:cubicBezTo>
                  <a:pt x="50" y="9989"/>
                  <a:pt x="39" y="10000"/>
                  <a:pt x="25" y="10000"/>
                </a:cubicBezTo>
                <a:cubicBezTo>
                  <a:pt x="11" y="10000"/>
                  <a:pt x="0" y="9989"/>
                  <a:pt x="0" y="9975"/>
                </a:cubicBezTo>
                <a:lnTo>
                  <a:pt x="0" y="9825"/>
                </a:lnTo>
                <a:cubicBezTo>
                  <a:pt x="0" y="9811"/>
                  <a:pt x="11" y="9800"/>
                  <a:pt x="25" y="9800"/>
                </a:cubicBezTo>
                <a:cubicBezTo>
                  <a:pt x="39" y="9800"/>
                  <a:pt x="50" y="9811"/>
                  <a:pt x="50" y="9825"/>
                </a:cubicBezTo>
                <a:close/>
                <a:moveTo>
                  <a:pt x="50" y="10175"/>
                </a:moveTo>
                <a:lnTo>
                  <a:pt x="50" y="10325"/>
                </a:lnTo>
                <a:cubicBezTo>
                  <a:pt x="50" y="10339"/>
                  <a:pt x="39" y="10350"/>
                  <a:pt x="25" y="10350"/>
                </a:cubicBezTo>
                <a:cubicBezTo>
                  <a:pt x="11" y="10350"/>
                  <a:pt x="0" y="10339"/>
                  <a:pt x="0" y="10325"/>
                </a:cubicBezTo>
                <a:lnTo>
                  <a:pt x="0" y="10175"/>
                </a:lnTo>
                <a:cubicBezTo>
                  <a:pt x="0" y="10161"/>
                  <a:pt x="11" y="10150"/>
                  <a:pt x="25" y="10150"/>
                </a:cubicBezTo>
                <a:cubicBezTo>
                  <a:pt x="39" y="10150"/>
                  <a:pt x="50" y="10161"/>
                  <a:pt x="50" y="10175"/>
                </a:cubicBezTo>
                <a:close/>
                <a:moveTo>
                  <a:pt x="50" y="10525"/>
                </a:moveTo>
                <a:lnTo>
                  <a:pt x="50" y="10675"/>
                </a:lnTo>
                <a:cubicBezTo>
                  <a:pt x="50" y="10689"/>
                  <a:pt x="39" y="10700"/>
                  <a:pt x="25" y="10700"/>
                </a:cubicBezTo>
                <a:cubicBezTo>
                  <a:pt x="11" y="10700"/>
                  <a:pt x="0" y="10689"/>
                  <a:pt x="0" y="10675"/>
                </a:cubicBezTo>
                <a:lnTo>
                  <a:pt x="0" y="10525"/>
                </a:lnTo>
                <a:cubicBezTo>
                  <a:pt x="0" y="10511"/>
                  <a:pt x="11" y="10500"/>
                  <a:pt x="25" y="10500"/>
                </a:cubicBezTo>
                <a:cubicBezTo>
                  <a:pt x="39" y="10500"/>
                  <a:pt x="50" y="10511"/>
                  <a:pt x="50" y="10525"/>
                </a:cubicBezTo>
                <a:close/>
                <a:moveTo>
                  <a:pt x="50" y="10875"/>
                </a:moveTo>
                <a:lnTo>
                  <a:pt x="50" y="11025"/>
                </a:lnTo>
                <a:cubicBezTo>
                  <a:pt x="50" y="11039"/>
                  <a:pt x="39" y="11050"/>
                  <a:pt x="25" y="11050"/>
                </a:cubicBezTo>
                <a:cubicBezTo>
                  <a:pt x="11" y="11050"/>
                  <a:pt x="0" y="11039"/>
                  <a:pt x="0" y="11025"/>
                </a:cubicBezTo>
                <a:lnTo>
                  <a:pt x="0" y="10875"/>
                </a:lnTo>
                <a:cubicBezTo>
                  <a:pt x="0" y="10861"/>
                  <a:pt x="11" y="10850"/>
                  <a:pt x="25" y="10850"/>
                </a:cubicBezTo>
                <a:cubicBezTo>
                  <a:pt x="39" y="10850"/>
                  <a:pt x="50" y="10861"/>
                  <a:pt x="50" y="10875"/>
                </a:cubicBezTo>
                <a:close/>
                <a:moveTo>
                  <a:pt x="50" y="11225"/>
                </a:moveTo>
                <a:lnTo>
                  <a:pt x="50" y="11375"/>
                </a:lnTo>
                <a:cubicBezTo>
                  <a:pt x="50" y="11389"/>
                  <a:pt x="39" y="11400"/>
                  <a:pt x="25" y="11400"/>
                </a:cubicBezTo>
                <a:cubicBezTo>
                  <a:pt x="11" y="11400"/>
                  <a:pt x="0" y="11389"/>
                  <a:pt x="0" y="11375"/>
                </a:cubicBezTo>
                <a:lnTo>
                  <a:pt x="0" y="11225"/>
                </a:lnTo>
                <a:cubicBezTo>
                  <a:pt x="0" y="11211"/>
                  <a:pt x="11" y="11200"/>
                  <a:pt x="25" y="11200"/>
                </a:cubicBezTo>
                <a:cubicBezTo>
                  <a:pt x="39" y="11200"/>
                  <a:pt x="50" y="11211"/>
                  <a:pt x="50" y="11225"/>
                </a:cubicBezTo>
                <a:close/>
                <a:moveTo>
                  <a:pt x="50" y="11575"/>
                </a:moveTo>
                <a:lnTo>
                  <a:pt x="50" y="11725"/>
                </a:lnTo>
                <a:cubicBezTo>
                  <a:pt x="50" y="11739"/>
                  <a:pt x="39" y="11750"/>
                  <a:pt x="25" y="11750"/>
                </a:cubicBezTo>
                <a:cubicBezTo>
                  <a:pt x="11" y="11750"/>
                  <a:pt x="0" y="11739"/>
                  <a:pt x="0" y="11725"/>
                </a:cubicBezTo>
                <a:lnTo>
                  <a:pt x="0" y="11575"/>
                </a:lnTo>
                <a:cubicBezTo>
                  <a:pt x="0" y="11561"/>
                  <a:pt x="11" y="11550"/>
                  <a:pt x="25" y="11550"/>
                </a:cubicBezTo>
                <a:cubicBezTo>
                  <a:pt x="39" y="11550"/>
                  <a:pt x="50" y="11561"/>
                  <a:pt x="50" y="11575"/>
                </a:cubicBezTo>
                <a:close/>
                <a:moveTo>
                  <a:pt x="50" y="11925"/>
                </a:moveTo>
                <a:lnTo>
                  <a:pt x="50" y="12075"/>
                </a:lnTo>
                <a:cubicBezTo>
                  <a:pt x="50" y="12089"/>
                  <a:pt x="39" y="12100"/>
                  <a:pt x="25" y="12100"/>
                </a:cubicBezTo>
                <a:cubicBezTo>
                  <a:pt x="11" y="12100"/>
                  <a:pt x="0" y="12089"/>
                  <a:pt x="0" y="12075"/>
                </a:cubicBezTo>
                <a:lnTo>
                  <a:pt x="0" y="11925"/>
                </a:lnTo>
                <a:cubicBezTo>
                  <a:pt x="0" y="11911"/>
                  <a:pt x="11" y="11900"/>
                  <a:pt x="25" y="11900"/>
                </a:cubicBezTo>
                <a:cubicBezTo>
                  <a:pt x="39" y="11900"/>
                  <a:pt x="50" y="11911"/>
                  <a:pt x="50" y="11925"/>
                </a:cubicBezTo>
                <a:close/>
                <a:moveTo>
                  <a:pt x="50" y="12275"/>
                </a:moveTo>
                <a:lnTo>
                  <a:pt x="50" y="12425"/>
                </a:lnTo>
                <a:cubicBezTo>
                  <a:pt x="50" y="12439"/>
                  <a:pt x="39" y="12450"/>
                  <a:pt x="25" y="12450"/>
                </a:cubicBezTo>
                <a:cubicBezTo>
                  <a:pt x="11" y="12450"/>
                  <a:pt x="0" y="12439"/>
                  <a:pt x="0" y="12425"/>
                </a:cubicBezTo>
                <a:lnTo>
                  <a:pt x="0" y="12275"/>
                </a:lnTo>
                <a:cubicBezTo>
                  <a:pt x="0" y="12261"/>
                  <a:pt x="11" y="12250"/>
                  <a:pt x="25" y="12250"/>
                </a:cubicBezTo>
                <a:cubicBezTo>
                  <a:pt x="39" y="12250"/>
                  <a:pt x="50" y="12261"/>
                  <a:pt x="50" y="12275"/>
                </a:cubicBezTo>
                <a:close/>
                <a:moveTo>
                  <a:pt x="50" y="12625"/>
                </a:moveTo>
                <a:lnTo>
                  <a:pt x="50" y="12775"/>
                </a:lnTo>
                <a:cubicBezTo>
                  <a:pt x="50" y="12789"/>
                  <a:pt x="39" y="12800"/>
                  <a:pt x="25" y="12800"/>
                </a:cubicBezTo>
                <a:cubicBezTo>
                  <a:pt x="11" y="12800"/>
                  <a:pt x="0" y="12789"/>
                  <a:pt x="0" y="12775"/>
                </a:cubicBezTo>
                <a:lnTo>
                  <a:pt x="0" y="12625"/>
                </a:lnTo>
                <a:cubicBezTo>
                  <a:pt x="0" y="12611"/>
                  <a:pt x="11" y="12600"/>
                  <a:pt x="25" y="12600"/>
                </a:cubicBezTo>
                <a:cubicBezTo>
                  <a:pt x="39" y="12600"/>
                  <a:pt x="50" y="12611"/>
                  <a:pt x="50" y="12625"/>
                </a:cubicBezTo>
                <a:close/>
                <a:moveTo>
                  <a:pt x="50" y="12975"/>
                </a:moveTo>
                <a:lnTo>
                  <a:pt x="50" y="13125"/>
                </a:lnTo>
                <a:cubicBezTo>
                  <a:pt x="50" y="13139"/>
                  <a:pt x="39" y="13150"/>
                  <a:pt x="25" y="13150"/>
                </a:cubicBezTo>
                <a:cubicBezTo>
                  <a:pt x="11" y="13150"/>
                  <a:pt x="0" y="13139"/>
                  <a:pt x="0" y="13125"/>
                </a:cubicBezTo>
                <a:lnTo>
                  <a:pt x="0" y="12975"/>
                </a:lnTo>
                <a:cubicBezTo>
                  <a:pt x="0" y="12961"/>
                  <a:pt x="11" y="12950"/>
                  <a:pt x="25" y="12950"/>
                </a:cubicBezTo>
                <a:cubicBezTo>
                  <a:pt x="39" y="12950"/>
                  <a:pt x="50" y="12961"/>
                  <a:pt x="50" y="12975"/>
                </a:cubicBezTo>
                <a:close/>
                <a:moveTo>
                  <a:pt x="50" y="13325"/>
                </a:moveTo>
                <a:lnTo>
                  <a:pt x="50" y="13475"/>
                </a:lnTo>
                <a:cubicBezTo>
                  <a:pt x="50" y="13489"/>
                  <a:pt x="39" y="13500"/>
                  <a:pt x="25" y="13500"/>
                </a:cubicBezTo>
                <a:cubicBezTo>
                  <a:pt x="11" y="13500"/>
                  <a:pt x="0" y="13489"/>
                  <a:pt x="0" y="13475"/>
                </a:cubicBezTo>
                <a:lnTo>
                  <a:pt x="0" y="13325"/>
                </a:lnTo>
                <a:cubicBezTo>
                  <a:pt x="0" y="13311"/>
                  <a:pt x="11" y="13300"/>
                  <a:pt x="25" y="13300"/>
                </a:cubicBezTo>
                <a:cubicBezTo>
                  <a:pt x="39" y="13300"/>
                  <a:pt x="50" y="13311"/>
                  <a:pt x="50" y="13325"/>
                </a:cubicBezTo>
                <a:close/>
                <a:moveTo>
                  <a:pt x="50" y="13675"/>
                </a:moveTo>
                <a:lnTo>
                  <a:pt x="50" y="13825"/>
                </a:lnTo>
                <a:cubicBezTo>
                  <a:pt x="50" y="13839"/>
                  <a:pt x="39" y="13850"/>
                  <a:pt x="25" y="13850"/>
                </a:cubicBezTo>
                <a:cubicBezTo>
                  <a:pt x="11" y="13850"/>
                  <a:pt x="0" y="13839"/>
                  <a:pt x="0" y="13825"/>
                </a:cubicBezTo>
                <a:lnTo>
                  <a:pt x="0" y="13675"/>
                </a:lnTo>
                <a:cubicBezTo>
                  <a:pt x="0" y="13661"/>
                  <a:pt x="11" y="13650"/>
                  <a:pt x="25" y="13650"/>
                </a:cubicBezTo>
                <a:cubicBezTo>
                  <a:pt x="39" y="13650"/>
                  <a:pt x="50" y="13661"/>
                  <a:pt x="50" y="13675"/>
                </a:cubicBezTo>
                <a:close/>
                <a:moveTo>
                  <a:pt x="50" y="14025"/>
                </a:moveTo>
                <a:lnTo>
                  <a:pt x="50" y="14175"/>
                </a:lnTo>
                <a:cubicBezTo>
                  <a:pt x="50" y="14189"/>
                  <a:pt x="39" y="14200"/>
                  <a:pt x="25" y="14200"/>
                </a:cubicBezTo>
                <a:cubicBezTo>
                  <a:pt x="11" y="14200"/>
                  <a:pt x="0" y="14189"/>
                  <a:pt x="0" y="14175"/>
                </a:cubicBezTo>
                <a:lnTo>
                  <a:pt x="0" y="14025"/>
                </a:lnTo>
                <a:cubicBezTo>
                  <a:pt x="0" y="14011"/>
                  <a:pt x="11" y="14000"/>
                  <a:pt x="25" y="14000"/>
                </a:cubicBezTo>
                <a:cubicBezTo>
                  <a:pt x="39" y="14000"/>
                  <a:pt x="50" y="14011"/>
                  <a:pt x="50" y="14025"/>
                </a:cubicBezTo>
                <a:close/>
                <a:moveTo>
                  <a:pt x="50" y="14375"/>
                </a:moveTo>
                <a:lnTo>
                  <a:pt x="50" y="14525"/>
                </a:lnTo>
                <a:cubicBezTo>
                  <a:pt x="50" y="14539"/>
                  <a:pt x="39" y="14550"/>
                  <a:pt x="25" y="14550"/>
                </a:cubicBezTo>
                <a:cubicBezTo>
                  <a:pt x="11" y="14550"/>
                  <a:pt x="0" y="14539"/>
                  <a:pt x="0" y="14525"/>
                </a:cubicBezTo>
                <a:lnTo>
                  <a:pt x="0" y="14375"/>
                </a:lnTo>
                <a:cubicBezTo>
                  <a:pt x="0" y="14361"/>
                  <a:pt x="11" y="14350"/>
                  <a:pt x="25" y="14350"/>
                </a:cubicBezTo>
                <a:cubicBezTo>
                  <a:pt x="39" y="14350"/>
                  <a:pt x="50" y="14361"/>
                  <a:pt x="50" y="14375"/>
                </a:cubicBezTo>
                <a:close/>
                <a:moveTo>
                  <a:pt x="50" y="14725"/>
                </a:moveTo>
                <a:lnTo>
                  <a:pt x="50" y="14875"/>
                </a:lnTo>
                <a:cubicBezTo>
                  <a:pt x="50" y="14889"/>
                  <a:pt x="39" y="14900"/>
                  <a:pt x="25" y="14900"/>
                </a:cubicBezTo>
                <a:cubicBezTo>
                  <a:pt x="11" y="14900"/>
                  <a:pt x="0" y="14889"/>
                  <a:pt x="0" y="14875"/>
                </a:cubicBezTo>
                <a:lnTo>
                  <a:pt x="0" y="14725"/>
                </a:lnTo>
                <a:cubicBezTo>
                  <a:pt x="0" y="14711"/>
                  <a:pt x="11" y="14700"/>
                  <a:pt x="25" y="14700"/>
                </a:cubicBezTo>
                <a:cubicBezTo>
                  <a:pt x="39" y="14700"/>
                  <a:pt x="50" y="14711"/>
                  <a:pt x="50" y="14725"/>
                </a:cubicBezTo>
                <a:close/>
                <a:moveTo>
                  <a:pt x="50" y="15075"/>
                </a:moveTo>
                <a:lnTo>
                  <a:pt x="50" y="15225"/>
                </a:lnTo>
                <a:cubicBezTo>
                  <a:pt x="50" y="15239"/>
                  <a:pt x="39" y="15250"/>
                  <a:pt x="25" y="15250"/>
                </a:cubicBezTo>
                <a:cubicBezTo>
                  <a:pt x="11" y="15250"/>
                  <a:pt x="0" y="15239"/>
                  <a:pt x="0" y="15225"/>
                </a:cubicBezTo>
                <a:lnTo>
                  <a:pt x="0" y="15075"/>
                </a:lnTo>
                <a:cubicBezTo>
                  <a:pt x="0" y="15061"/>
                  <a:pt x="11" y="15050"/>
                  <a:pt x="25" y="15050"/>
                </a:cubicBezTo>
                <a:cubicBezTo>
                  <a:pt x="39" y="15050"/>
                  <a:pt x="50" y="15061"/>
                  <a:pt x="50" y="15075"/>
                </a:cubicBezTo>
                <a:close/>
                <a:moveTo>
                  <a:pt x="50" y="15425"/>
                </a:moveTo>
                <a:lnTo>
                  <a:pt x="50" y="15575"/>
                </a:lnTo>
                <a:cubicBezTo>
                  <a:pt x="50" y="15589"/>
                  <a:pt x="39" y="15600"/>
                  <a:pt x="25" y="15600"/>
                </a:cubicBezTo>
                <a:cubicBezTo>
                  <a:pt x="11" y="15600"/>
                  <a:pt x="0" y="15589"/>
                  <a:pt x="0" y="15575"/>
                </a:cubicBezTo>
                <a:lnTo>
                  <a:pt x="0" y="15425"/>
                </a:lnTo>
                <a:cubicBezTo>
                  <a:pt x="0" y="15411"/>
                  <a:pt x="11" y="15400"/>
                  <a:pt x="25" y="15400"/>
                </a:cubicBezTo>
                <a:cubicBezTo>
                  <a:pt x="39" y="15400"/>
                  <a:pt x="50" y="15411"/>
                  <a:pt x="50" y="15425"/>
                </a:cubicBezTo>
                <a:close/>
                <a:moveTo>
                  <a:pt x="50" y="15775"/>
                </a:moveTo>
                <a:lnTo>
                  <a:pt x="50" y="15925"/>
                </a:lnTo>
                <a:cubicBezTo>
                  <a:pt x="50" y="15939"/>
                  <a:pt x="39" y="15950"/>
                  <a:pt x="25" y="15950"/>
                </a:cubicBezTo>
                <a:cubicBezTo>
                  <a:pt x="11" y="15950"/>
                  <a:pt x="0" y="15939"/>
                  <a:pt x="0" y="15925"/>
                </a:cubicBezTo>
                <a:lnTo>
                  <a:pt x="0" y="15775"/>
                </a:lnTo>
                <a:cubicBezTo>
                  <a:pt x="0" y="15761"/>
                  <a:pt x="11" y="15750"/>
                  <a:pt x="25" y="15750"/>
                </a:cubicBezTo>
                <a:cubicBezTo>
                  <a:pt x="39" y="15750"/>
                  <a:pt x="50" y="15761"/>
                  <a:pt x="50" y="15775"/>
                </a:cubicBezTo>
                <a:close/>
                <a:moveTo>
                  <a:pt x="50" y="16125"/>
                </a:moveTo>
                <a:lnTo>
                  <a:pt x="50" y="16275"/>
                </a:lnTo>
                <a:cubicBezTo>
                  <a:pt x="50" y="16289"/>
                  <a:pt x="39" y="16300"/>
                  <a:pt x="25" y="16300"/>
                </a:cubicBezTo>
                <a:cubicBezTo>
                  <a:pt x="11" y="16300"/>
                  <a:pt x="0" y="16289"/>
                  <a:pt x="0" y="16275"/>
                </a:cubicBezTo>
                <a:lnTo>
                  <a:pt x="0" y="16125"/>
                </a:lnTo>
                <a:cubicBezTo>
                  <a:pt x="0" y="16111"/>
                  <a:pt x="11" y="16100"/>
                  <a:pt x="25" y="16100"/>
                </a:cubicBezTo>
                <a:cubicBezTo>
                  <a:pt x="39" y="16100"/>
                  <a:pt x="50" y="16111"/>
                  <a:pt x="50" y="16125"/>
                </a:cubicBezTo>
                <a:close/>
                <a:moveTo>
                  <a:pt x="50" y="16475"/>
                </a:moveTo>
                <a:lnTo>
                  <a:pt x="50" y="16625"/>
                </a:lnTo>
                <a:cubicBezTo>
                  <a:pt x="50" y="16639"/>
                  <a:pt x="39" y="16650"/>
                  <a:pt x="25" y="16650"/>
                </a:cubicBezTo>
                <a:cubicBezTo>
                  <a:pt x="11" y="16650"/>
                  <a:pt x="0" y="16639"/>
                  <a:pt x="0" y="16625"/>
                </a:cubicBezTo>
                <a:lnTo>
                  <a:pt x="0" y="16475"/>
                </a:lnTo>
                <a:cubicBezTo>
                  <a:pt x="0" y="16461"/>
                  <a:pt x="11" y="16450"/>
                  <a:pt x="25" y="16450"/>
                </a:cubicBezTo>
                <a:cubicBezTo>
                  <a:pt x="39" y="16450"/>
                  <a:pt x="50" y="16461"/>
                  <a:pt x="50" y="16475"/>
                </a:cubicBezTo>
                <a:close/>
                <a:moveTo>
                  <a:pt x="50" y="16825"/>
                </a:moveTo>
                <a:lnTo>
                  <a:pt x="50" y="16975"/>
                </a:lnTo>
                <a:cubicBezTo>
                  <a:pt x="50" y="16989"/>
                  <a:pt x="39" y="17000"/>
                  <a:pt x="25" y="17000"/>
                </a:cubicBezTo>
                <a:cubicBezTo>
                  <a:pt x="11" y="17000"/>
                  <a:pt x="0" y="16989"/>
                  <a:pt x="0" y="16975"/>
                </a:cubicBezTo>
                <a:lnTo>
                  <a:pt x="0" y="16825"/>
                </a:lnTo>
                <a:cubicBezTo>
                  <a:pt x="0" y="16811"/>
                  <a:pt x="11" y="16800"/>
                  <a:pt x="25" y="16800"/>
                </a:cubicBezTo>
                <a:cubicBezTo>
                  <a:pt x="39" y="16800"/>
                  <a:pt x="50" y="16811"/>
                  <a:pt x="50" y="16825"/>
                </a:cubicBezTo>
                <a:close/>
                <a:moveTo>
                  <a:pt x="50" y="17175"/>
                </a:moveTo>
                <a:lnTo>
                  <a:pt x="50" y="17325"/>
                </a:lnTo>
                <a:cubicBezTo>
                  <a:pt x="50" y="17339"/>
                  <a:pt x="39" y="17350"/>
                  <a:pt x="25" y="17350"/>
                </a:cubicBezTo>
                <a:cubicBezTo>
                  <a:pt x="11" y="17350"/>
                  <a:pt x="0" y="17339"/>
                  <a:pt x="0" y="17325"/>
                </a:cubicBezTo>
                <a:lnTo>
                  <a:pt x="0" y="17175"/>
                </a:lnTo>
                <a:cubicBezTo>
                  <a:pt x="0" y="17161"/>
                  <a:pt x="11" y="17150"/>
                  <a:pt x="25" y="17150"/>
                </a:cubicBezTo>
                <a:cubicBezTo>
                  <a:pt x="39" y="17150"/>
                  <a:pt x="50" y="17161"/>
                  <a:pt x="50" y="17175"/>
                </a:cubicBezTo>
                <a:close/>
                <a:moveTo>
                  <a:pt x="50" y="17525"/>
                </a:moveTo>
                <a:lnTo>
                  <a:pt x="50" y="17675"/>
                </a:lnTo>
                <a:cubicBezTo>
                  <a:pt x="50" y="17689"/>
                  <a:pt x="39" y="17700"/>
                  <a:pt x="25" y="17700"/>
                </a:cubicBezTo>
                <a:cubicBezTo>
                  <a:pt x="11" y="17700"/>
                  <a:pt x="0" y="17689"/>
                  <a:pt x="0" y="17675"/>
                </a:cubicBezTo>
                <a:lnTo>
                  <a:pt x="0" y="17525"/>
                </a:lnTo>
                <a:cubicBezTo>
                  <a:pt x="0" y="17511"/>
                  <a:pt x="11" y="17500"/>
                  <a:pt x="25" y="17500"/>
                </a:cubicBezTo>
                <a:cubicBezTo>
                  <a:pt x="39" y="17500"/>
                  <a:pt x="50" y="17511"/>
                  <a:pt x="50" y="17525"/>
                </a:cubicBez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32640" y="2071800"/>
            <a:ext cx="9360" cy="3251160"/>
          </a:xfrm>
          <a:custGeom>
            <a:avLst/>
            <a:gdLst/>
            <a:ahLst/>
            <a:rect l="l" t="t" r="r" b="b"/>
            <a:pathLst>
              <a:path w="50" h="17700">
                <a:moveTo>
                  <a:pt x="50" y="25"/>
                </a:moveTo>
                <a:lnTo>
                  <a:pt x="50" y="175"/>
                </a:lnTo>
                <a:cubicBezTo>
                  <a:pt x="50" y="189"/>
                  <a:pt x="39" y="200"/>
                  <a:pt x="25" y="200"/>
                </a:cubicBezTo>
                <a:cubicBezTo>
                  <a:pt x="11" y="200"/>
                  <a:pt x="0" y="189"/>
                  <a:pt x="0" y="175"/>
                </a:cubicBezTo>
                <a:lnTo>
                  <a:pt x="0" y="25"/>
                </a:lnTo>
                <a:cubicBezTo>
                  <a:pt x="0" y="11"/>
                  <a:pt x="11" y="0"/>
                  <a:pt x="25" y="0"/>
                </a:cubicBezTo>
                <a:cubicBezTo>
                  <a:pt x="39" y="0"/>
                  <a:pt x="50" y="11"/>
                  <a:pt x="50" y="25"/>
                </a:cubicBezTo>
                <a:close/>
                <a:moveTo>
                  <a:pt x="50" y="375"/>
                </a:moveTo>
                <a:lnTo>
                  <a:pt x="50" y="525"/>
                </a:lnTo>
                <a:cubicBezTo>
                  <a:pt x="50" y="539"/>
                  <a:pt x="39" y="550"/>
                  <a:pt x="25" y="550"/>
                </a:cubicBezTo>
                <a:cubicBezTo>
                  <a:pt x="11" y="550"/>
                  <a:pt x="0" y="539"/>
                  <a:pt x="0" y="525"/>
                </a:cubicBezTo>
                <a:lnTo>
                  <a:pt x="0" y="375"/>
                </a:lnTo>
                <a:cubicBezTo>
                  <a:pt x="0" y="361"/>
                  <a:pt x="11" y="350"/>
                  <a:pt x="25" y="350"/>
                </a:cubicBezTo>
                <a:cubicBezTo>
                  <a:pt x="39" y="350"/>
                  <a:pt x="50" y="361"/>
                  <a:pt x="50" y="375"/>
                </a:cubicBezTo>
                <a:close/>
                <a:moveTo>
                  <a:pt x="50" y="725"/>
                </a:moveTo>
                <a:lnTo>
                  <a:pt x="50" y="875"/>
                </a:lnTo>
                <a:cubicBezTo>
                  <a:pt x="50" y="889"/>
                  <a:pt x="39" y="900"/>
                  <a:pt x="25" y="900"/>
                </a:cubicBezTo>
                <a:cubicBezTo>
                  <a:pt x="11" y="900"/>
                  <a:pt x="0" y="889"/>
                  <a:pt x="0" y="875"/>
                </a:cubicBezTo>
                <a:lnTo>
                  <a:pt x="0" y="725"/>
                </a:lnTo>
                <a:cubicBezTo>
                  <a:pt x="0" y="711"/>
                  <a:pt x="11" y="700"/>
                  <a:pt x="25" y="700"/>
                </a:cubicBezTo>
                <a:cubicBezTo>
                  <a:pt x="39" y="700"/>
                  <a:pt x="50" y="711"/>
                  <a:pt x="50" y="725"/>
                </a:cubicBezTo>
                <a:close/>
                <a:moveTo>
                  <a:pt x="50" y="1075"/>
                </a:moveTo>
                <a:lnTo>
                  <a:pt x="50" y="1225"/>
                </a:lnTo>
                <a:cubicBezTo>
                  <a:pt x="50" y="1239"/>
                  <a:pt x="39" y="1250"/>
                  <a:pt x="25" y="1250"/>
                </a:cubicBezTo>
                <a:cubicBezTo>
                  <a:pt x="11" y="1250"/>
                  <a:pt x="0" y="1239"/>
                  <a:pt x="0" y="1225"/>
                </a:cubicBezTo>
                <a:lnTo>
                  <a:pt x="0" y="1075"/>
                </a:lnTo>
                <a:cubicBezTo>
                  <a:pt x="0" y="1061"/>
                  <a:pt x="11" y="1050"/>
                  <a:pt x="25" y="1050"/>
                </a:cubicBezTo>
                <a:cubicBezTo>
                  <a:pt x="39" y="1050"/>
                  <a:pt x="50" y="1061"/>
                  <a:pt x="50" y="1075"/>
                </a:cubicBezTo>
                <a:close/>
                <a:moveTo>
                  <a:pt x="50" y="1425"/>
                </a:moveTo>
                <a:lnTo>
                  <a:pt x="50" y="1575"/>
                </a:lnTo>
                <a:cubicBezTo>
                  <a:pt x="50" y="1589"/>
                  <a:pt x="39" y="1600"/>
                  <a:pt x="25" y="1600"/>
                </a:cubicBezTo>
                <a:cubicBezTo>
                  <a:pt x="11" y="1600"/>
                  <a:pt x="0" y="1589"/>
                  <a:pt x="0" y="1575"/>
                </a:cubicBezTo>
                <a:lnTo>
                  <a:pt x="0" y="1425"/>
                </a:lnTo>
                <a:cubicBezTo>
                  <a:pt x="0" y="1411"/>
                  <a:pt x="11" y="1400"/>
                  <a:pt x="25" y="1400"/>
                </a:cubicBezTo>
                <a:cubicBezTo>
                  <a:pt x="39" y="1400"/>
                  <a:pt x="50" y="1411"/>
                  <a:pt x="50" y="1425"/>
                </a:cubicBezTo>
                <a:close/>
                <a:moveTo>
                  <a:pt x="50" y="1775"/>
                </a:moveTo>
                <a:lnTo>
                  <a:pt x="50" y="1925"/>
                </a:lnTo>
                <a:cubicBezTo>
                  <a:pt x="50" y="1939"/>
                  <a:pt x="39" y="1950"/>
                  <a:pt x="25" y="1950"/>
                </a:cubicBezTo>
                <a:cubicBezTo>
                  <a:pt x="11" y="1950"/>
                  <a:pt x="0" y="1939"/>
                  <a:pt x="0" y="1925"/>
                </a:cubicBezTo>
                <a:lnTo>
                  <a:pt x="0" y="1775"/>
                </a:lnTo>
                <a:cubicBezTo>
                  <a:pt x="0" y="1761"/>
                  <a:pt x="11" y="1750"/>
                  <a:pt x="25" y="1750"/>
                </a:cubicBezTo>
                <a:cubicBezTo>
                  <a:pt x="39" y="1750"/>
                  <a:pt x="50" y="1761"/>
                  <a:pt x="50" y="1775"/>
                </a:cubicBezTo>
                <a:close/>
                <a:moveTo>
                  <a:pt x="50" y="2125"/>
                </a:moveTo>
                <a:lnTo>
                  <a:pt x="50" y="2275"/>
                </a:lnTo>
                <a:cubicBezTo>
                  <a:pt x="50" y="2289"/>
                  <a:pt x="39" y="2300"/>
                  <a:pt x="25" y="2300"/>
                </a:cubicBezTo>
                <a:cubicBezTo>
                  <a:pt x="11" y="2300"/>
                  <a:pt x="0" y="2289"/>
                  <a:pt x="0" y="2275"/>
                </a:cubicBezTo>
                <a:lnTo>
                  <a:pt x="0" y="2125"/>
                </a:lnTo>
                <a:cubicBezTo>
                  <a:pt x="0" y="2111"/>
                  <a:pt x="11" y="2100"/>
                  <a:pt x="25" y="2100"/>
                </a:cubicBezTo>
                <a:cubicBezTo>
                  <a:pt x="39" y="2100"/>
                  <a:pt x="50" y="2111"/>
                  <a:pt x="50" y="2125"/>
                </a:cubicBezTo>
                <a:close/>
                <a:moveTo>
                  <a:pt x="50" y="2475"/>
                </a:moveTo>
                <a:lnTo>
                  <a:pt x="50" y="2625"/>
                </a:lnTo>
                <a:cubicBezTo>
                  <a:pt x="50" y="2639"/>
                  <a:pt x="39" y="2650"/>
                  <a:pt x="25" y="2650"/>
                </a:cubicBezTo>
                <a:cubicBezTo>
                  <a:pt x="11" y="2650"/>
                  <a:pt x="0" y="2639"/>
                  <a:pt x="0" y="2625"/>
                </a:cubicBezTo>
                <a:lnTo>
                  <a:pt x="0" y="2475"/>
                </a:lnTo>
                <a:cubicBezTo>
                  <a:pt x="0" y="2461"/>
                  <a:pt x="11" y="2450"/>
                  <a:pt x="25" y="2450"/>
                </a:cubicBezTo>
                <a:cubicBezTo>
                  <a:pt x="39" y="2450"/>
                  <a:pt x="50" y="2461"/>
                  <a:pt x="50" y="2475"/>
                </a:cubicBezTo>
                <a:close/>
                <a:moveTo>
                  <a:pt x="50" y="2825"/>
                </a:moveTo>
                <a:lnTo>
                  <a:pt x="50" y="2975"/>
                </a:lnTo>
                <a:cubicBezTo>
                  <a:pt x="50" y="2989"/>
                  <a:pt x="39" y="3000"/>
                  <a:pt x="25" y="3000"/>
                </a:cubicBezTo>
                <a:cubicBezTo>
                  <a:pt x="11" y="3000"/>
                  <a:pt x="0" y="2989"/>
                  <a:pt x="0" y="2975"/>
                </a:cubicBezTo>
                <a:lnTo>
                  <a:pt x="0" y="2825"/>
                </a:lnTo>
                <a:cubicBezTo>
                  <a:pt x="0" y="2811"/>
                  <a:pt x="11" y="2800"/>
                  <a:pt x="25" y="2800"/>
                </a:cubicBezTo>
                <a:cubicBezTo>
                  <a:pt x="39" y="2800"/>
                  <a:pt x="50" y="2811"/>
                  <a:pt x="50" y="2825"/>
                </a:cubicBezTo>
                <a:close/>
                <a:moveTo>
                  <a:pt x="50" y="3175"/>
                </a:moveTo>
                <a:lnTo>
                  <a:pt x="50" y="3325"/>
                </a:lnTo>
                <a:cubicBezTo>
                  <a:pt x="50" y="3339"/>
                  <a:pt x="39" y="3350"/>
                  <a:pt x="25" y="3350"/>
                </a:cubicBezTo>
                <a:cubicBezTo>
                  <a:pt x="11" y="3350"/>
                  <a:pt x="0" y="3339"/>
                  <a:pt x="0" y="3325"/>
                </a:cubicBezTo>
                <a:lnTo>
                  <a:pt x="0" y="3175"/>
                </a:lnTo>
                <a:cubicBezTo>
                  <a:pt x="0" y="3161"/>
                  <a:pt x="11" y="3150"/>
                  <a:pt x="25" y="3150"/>
                </a:cubicBezTo>
                <a:cubicBezTo>
                  <a:pt x="39" y="3150"/>
                  <a:pt x="50" y="3161"/>
                  <a:pt x="50" y="3175"/>
                </a:cubicBezTo>
                <a:close/>
                <a:moveTo>
                  <a:pt x="50" y="3525"/>
                </a:moveTo>
                <a:lnTo>
                  <a:pt x="50" y="3675"/>
                </a:lnTo>
                <a:cubicBezTo>
                  <a:pt x="50" y="3689"/>
                  <a:pt x="39" y="3700"/>
                  <a:pt x="25" y="3700"/>
                </a:cubicBezTo>
                <a:cubicBezTo>
                  <a:pt x="11" y="3700"/>
                  <a:pt x="0" y="3689"/>
                  <a:pt x="0" y="3675"/>
                </a:cubicBezTo>
                <a:lnTo>
                  <a:pt x="0" y="3525"/>
                </a:lnTo>
                <a:cubicBezTo>
                  <a:pt x="0" y="3511"/>
                  <a:pt x="11" y="3500"/>
                  <a:pt x="25" y="3500"/>
                </a:cubicBezTo>
                <a:cubicBezTo>
                  <a:pt x="39" y="3500"/>
                  <a:pt x="50" y="3511"/>
                  <a:pt x="50" y="3525"/>
                </a:cubicBezTo>
                <a:close/>
                <a:moveTo>
                  <a:pt x="50" y="3875"/>
                </a:moveTo>
                <a:lnTo>
                  <a:pt x="50" y="4025"/>
                </a:lnTo>
                <a:cubicBezTo>
                  <a:pt x="50" y="4039"/>
                  <a:pt x="39" y="4050"/>
                  <a:pt x="25" y="4050"/>
                </a:cubicBezTo>
                <a:cubicBezTo>
                  <a:pt x="11" y="4050"/>
                  <a:pt x="0" y="4039"/>
                  <a:pt x="0" y="4025"/>
                </a:cubicBezTo>
                <a:lnTo>
                  <a:pt x="0" y="3875"/>
                </a:lnTo>
                <a:cubicBezTo>
                  <a:pt x="0" y="3861"/>
                  <a:pt x="11" y="3850"/>
                  <a:pt x="25" y="3850"/>
                </a:cubicBezTo>
                <a:cubicBezTo>
                  <a:pt x="39" y="3850"/>
                  <a:pt x="50" y="3861"/>
                  <a:pt x="50" y="3875"/>
                </a:cubicBezTo>
                <a:close/>
                <a:moveTo>
                  <a:pt x="50" y="4225"/>
                </a:moveTo>
                <a:lnTo>
                  <a:pt x="50" y="4375"/>
                </a:lnTo>
                <a:cubicBezTo>
                  <a:pt x="50" y="4389"/>
                  <a:pt x="39" y="4400"/>
                  <a:pt x="25" y="4400"/>
                </a:cubicBezTo>
                <a:cubicBezTo>
                  <a:pt x="11" y="4400"/>
                  <a:pt x="0" y="4389"/>
                  <a:pt x="0" y="4375"/>
                </a:cubicBezTo>
                <a:lnTo>
                  <a:pt x="0" y="4225"/>
                </a:lnTo>
                <a:cubicBezTo>
                  <a:pt x="0" y="4211"/>
                  <a:pt x="11" y="4200"/>
                  <a:pt x="25" y="4200"/>
                </a:cubicBezTo>
                <a:cubicBezTo>
                  <a:pt x="39" y="4200"/>
                  <a:pt x="50" y="4211"/>
                  <a:pt x="50" y="4225"/>
                </a:cubicBezTo>
                <a:close/>
                <a:moveTo>
                  <a:pt x="50" y="4575"/>
                </a:moveTo>
                <a:lnTo>
                  <a:pt x="50" y="4725"/>
                </a:lnTo>
                <a:cubicBezTo>
                  <a:pt x="50" y="4739"/>
                  <a:pt x="39" y="4750"/>
                  <a:pt x="25" y="4750"/>
                </a:cubicBezTo>
                <a:cubicBezTo>
                  <a:pt x="11" y="4750"/>
                  <a:pt x="0" y="4739"/>
                  <a:pt x="0" y="4725"/>
                </a:cubicBezTo>
                <a:lnTo>
                  <a:pt x="0" y="4575"/>
                </a:lnTo>
                <a:cubicBezTo>
                  <a:pt x="0" y="4561"/>
                  <a:pt x="11" y="4550"/>
                  <a:pt x="25" y="4550"/>
                </a:cubicBezTo>
                <a:cubicBezTo>
                  <a:pt x="39" y="4550"/>
                  <a:pt x="50" y="4561"/>
                  <a:pt x="50" y="4575"/>
                </a:cubicBezTo>
                <a:close/>
                <a:moveTo>
                  <a:pt x="50" y="4925"/>
                </a:moveTo>
                <a:lnTo>
                  <a:pt x="50" y="5075"/>
                </a:lnTo>
                <a:cubicBezTo>
                  <a:pt x="50" y="5089"/>
                  <a:pt x="39" y="5100"/>
                  <a:pt x="25" y="5100"/>
                </a:cubicBezTo>
                <a:cubicBezTo>
                  <a:pt x="11" y="5100"/>
                  <a:pt x="0" y="5089"/>
                  <a:pt x="0" y="5075"/>
                </a:cubicBezTo>
                <a:lnTo>
                  <a:pt x="0" y="4925"/>
                </a:lnTo>
                <a:cubicBezTo>
                  <a:pt x="0" y="4911"/>
                  <a:pt x="11" y="4900"/>
                  <a:pt x="25" y="4900"/>
                </a:cubicBezTo>
                <a:cubicBezTo>
                  <a:pt x="39" y="4900"/>
                  <a:pt x="50" y="4911"/>
                  <a:pt x="50" y="4925"/>
                </a:cubicBezTo>
                <a:close/>
                <a:moveTo>
                  <a:pt x="50" y="5275"/>
                </a:moveTo>
                <a:lnTo>
                  <a:pt x="50" y="5425"/>
                </a:lnTo>
                <a:cubicBezTo>
                  <a:pt x="50" y="5439"/>
                  <a:pt x="39" y="5450"/>
                  <a:pt x="25" y="5450"/>
                </a:cubicBezTo>
                <a:cubicBezTo>
                  <a:pt x="11" y="5450"/>
                  <a:pt x="0" y="5439"/>
                  <a:pt x="0" y="5425"/>
                </a:cubicBezTo>
                <a:lnTo>
                  <a:pt x="0" y="5275"/>
                </a:lnTo>
                <a:cubicBezTo>
                  <a:pt x="0" y="5261"/>
                  <a:pt x="11" y="5250"/>
                  <a:pt x="25" y="5250"/>
                </a:cubicBezTo>
                <a:cubicBezTo>
                  <a:pt x="39" y="5250"/>
                  <a:pt x="50" y="5261"/>
                  <a:pt x="50" y="5275"/>
                </a:cubicBezTo>
                <a:close/>
                <a:moveTo>
                  <a:pt x="50" y="5625"/>
                </a:moveTo>
                <a:lnTo>
                  <a:pt x="50" y="5775"/>
                </a:lnTo>
                <a:cubicBezTo>
                  <a:pt x="50" y="5789"/>
                  <a:pt x="39" y="5800"/>
                  <a:pt x="25" y="5800"/>
                </a:cubicBezTo>
                <a:cubicBezTo>
                  <a:pt x="11" y="5800"/>
                  <a:pt x="0" y="5789"/>
                  <a:pt x="0" y="5775"/>
                </a:cubicBezTo>
                <a:lnTo>
                  <a:pt x="0" y="5625"/>
                </a:lnTo>
                <a:cubicBezTo>
                  <a:pt x="0" y="5611"/>
                  <a:pt x="11" y="5600"/>
                  <a:pt x="25" y="5600"/>
                </a:cubicBezTo>
                <a:cubicBezTo>
                  <a:pt x="39" y="5600"/>
                  <a:pt x="50" y="5611"/>
                  <a:pt x="50" y="5625"/>
                </a:cubicBezTo>
                <a:close/>
                <a:moveTo>
                  <a:pt x="50" y="5975"/>
                </a:moveTo>
                <a:lnTo>
                  <a:pt x="50" y="6125"/>
                </a:lnTo>
                <a:cubicBezTo>
                  <a:pt x="50" y="6139"/>
                  <a:pt x="39" y="6150"/>
                  <a:pt x="25" y="6150"/>
                </a:cubicBezTo>
                <a:cubicBezTo>
                  <a:pt x="11" y="6150"/>
                  <a:pt x="0" y="6139"/>
                  <a:pt x="0" y="6125"/>
                </a:cubicBezTo>
                <a:lnTo>
                  <a:pt x="0" y="5975"/>
                </a:lnTo>
                <a:cubicBezTo>
                  <a:pt x="0" y="5961"/>
                  <a:pt x="11" y="5950"/>
                  <a:pt x="25" y="5950"/>
                </a:cubicBezTo>
                <a:cubicBezTo>
                  <a:pt x="39" y="5950"/>
                  <a:pt x="50" y="5961"/>
                  <a:pt x="50" y="5975"/>
                </a:cubicBezTo>
                <a:close/>
                <a:moveTo>
                  <a:pt x="50" y="6325"/>
                </a:moveTo>
                <a:lnTo>
                  <a:pt x="50" y="6475"/>
                </a:lnTo>
                <a:cubicBezTo>
                  <a:pt x="50" y="6489"/>
                  <a:pt x="39" y="6500"/>
                  <a:pt x="25" y="6500"/>
                </a:cubicBezTo>
                <a:cubicBezTo>
                  <a:pt x="11" y="6500"/>
                  <a:pt x="0" y="6489"/>
                  <a:pt x="0" y="6475"/>
                </a:cubicBezTo>
                <a:lnTo>
                  <a:pt x="0" y="6325"/>
                </a:lnTo>
                <a:cubicBezTo>
                  <a:pt x="0" y="6311"/>
                  <a:pt x="11" y="6300"/>
                  <a:pt x="25" y="6300"/>
                </a:cubicBezTo>
                <a:cubicBezTo>
                  <a:pt x="39" y="6300"/>
                  <a:pt x="50" y="6311"/>
                  <a:pt x="50" y="6325"/>
                </a:cubicBezTo>
                <a:close/>
                <a:moveTo>
                  <a:pt x="50" y="6675"/>
                </a:moveTo>
                <a:lnTo>
                  <a:pt x="50" y="6825"/>
                </a:lnTo>
                <a:cubicBezTo>
                  <a:pt x="50" y="6839"/>
                  <a:pt x="39" y="6850"/>
                  <a:pt x="25" y="6850"/>
                </a:cubicBezTo>
                <a:cubicBezTo>
                  <a:pt x="11" y="6850"/>
                  <a:pt x="0" y="6839"/>
                  <a:pt x="0" y="6825"/>
                </a:cubicBezTo>
                <a:lnTo>
                  <a:pt x="0" y="6675"/>
                </a:lnTo>
                <a:cubicBezTo>
                  <a:pt x="0" y="6661"/>
                  <a:pt x="11" y="6650"/>
                  <a:pt x="25" y="6650"/>
                </a:cubicBezTo>
                <a:cubicBezTo>
                  <a:pt x="39" y="6650"/>
                  <a:pt x="50" y="6661"/>
                  <a:pt x="50" y="6675"/>
                </a:cubicBezTo>
                <a:close/>
                <a:moveTo>
                  <a:pt x="50" y="7025"/>
                </a:moveTo>
                <a:lnTo>
                  <a:pt x="50" y="7175"/>
                </a:lnTo>
                <a:cubicBezTo>
                  <a:pt x="50" y="7189"/>
                  <a:pt x="39" y="7200"/>
                  <a:pt x="25" y="7200"/>
                </a:cubicBezTo>
                <a:cubicBezTo>
                  <a:pt x="11" y="7200"/>
                  <a:pt x="0" y="7189"/>
                  <a:pt x="0" y="7175"/>
                </a:cubicBezTo>
                <a:lnTo>
                  <a:pt x="0" y="7025"/>
                </a:lnTo>
                <a:cubicBezTo>
                  <a:pt x="0" y="7011"/>
                  <a:pt x="11" y="7000"/>
                  <a:pt x="25" y="7000"/>
                </a:cubicBezTo>
                <a:cubicBezTo>
                  <a:pt x="39" y="7000"/>
                  <a:pt x="50" y="7011"/>
                  <a:pt x="50" y="7025"/>
                </a:cubicBezTo>
                <a:close/>
                <a:moveTo>
                  <a:pt x="50" y="7375"/>
                </a:moveTo>
                <a:lnTo>
                  <a:pt x="50" y="7525"/>
                </a:lnTo>
                <a:cubicBezTo>
                  <a:pt x="50" y="7539"/>
                  <a:pt x="39" y="7550"/>
                  <a:pt x="25" y="7550"/>
                </a:cubicBezTo>
                <a:cubicBezTo>
                  <a:pt x="11" y="7550"/>
                  <a:pt x="0" y="7539"/>
                  <a:pt x="0" y="7525"/>
                </a:cubicBezTo>
                <a:lnTo>
                  <a:pt x="0" y="7375"/>
                </a:lnTo>
                <a:cubicBezTo>
                  <a:pt x="0" y="7361"/>
                  <a:pt x="11" y="7350"/>
                  <a:pt x="25" y="7350"/>
                </a:cubicBezTo>
                <a:cubicBezTo>
                  <a:pt x="39" y="7350"/>
                  <a:pt x="50" y="7361"/>
                  <a:pt x="50" y="7375"/>
                </a:cubicBezTo>
                <a:close/>
                <a:moveTo>
                  <a:pt x="50" y="7725"/>
                </a:moveTo>
                <a:lnTo>
                  <a:pt x="50" y="7875"/>
                </a:lnTo>
                <a:cubicBezTo>
                  <a:pt x="50" y="7889"/>
                  <a:pt x="39" y="7900"/>
                  <a:pt x="25" y="7900"/>
                </a:cubicBezTo>
                <a:cubicBezTo>
                  <a:pt x="11" y="7900"/>
                  <a:pt x="0" y="7889"/>
                  <a:pt x="0" y="7875"/>
                </a:cubicBezTo>
                <a:lnTo>
                  <a:pt x="0" y="7725"/>
                </a:lnTo>
                <a:cubicBezTo>
                  <a:pt x="0" y="7711"/>
                  <a:pt x="11" y="7700"/>
                  <a:pt x="25" y="7700"/>
                </a:cubicBezTo>
                <a:cubicBezTo>
                  <a:pt x="39" y="7700"/>
                  <a:pt x="50" y="7711"/>
                  <a:pt x="50" y="7725"/>
                </a:cubicBezTo>
                <a:close/>
                <a:moveTo>
                  <a:pt x="50" y="8075"/>
                </a:moveTo>
                <a:lnTo>
                  <a:pt x="50" y="8225"/>
                </a:lnTo>
                <a:cubicBezTo>
                  <a:pt x="50" y="8239"/>
                  <a:pt x="39" y="8250"/>
                  <a:pt x="25" y="8250"/>
                </a:cubicBezTo>
                <a:cubicBezTo>
                  <a:pt x="11" y="8250"/>
                  <a:pt x="0" y="8239"/>
                  <a:pt x="0" y="8225"/>
                </a:cubicBezTo>
                <a:lnTo>
                  <a:pt x="0" y="8075"/>
                </a:lnTo>
                <a:cubicBezTo>
                  <a:pt x="0" y="8061"/>
                  <a:pt x="11" y="8050"/>
                  <a:pt x="25" y="8050"/>
                </a:cubicBezTo>
                <a:cubicBezTo>
                  <a:pt x="39" y="8050"/>
                  <a:pt x="50" y="8061"/>
                  <a:pt x="50" y="8075"/>
                </a:cubicBezTo>
                <a:close/>
                <a:moveTo>
                  <a:pt x="50" y="8425"/>
                </a:moveTo>
                <a:lnTo>
                  <a:pt x="50" y="8575"/>
                </a:lnTo>
                <a:cubicBezTo>
                  <a:pt x="50" y="8589"/>
                  <a:pt x="39" y="8600"/>
                  <a:pt x="25" y="8600"/>
                </a:cubicBezTo>
                <a:cubicBezTo>
                  <a:pt x="11" y="8600"/>
                  <a:pt x="0" y="8589"/>
                  <a:pt x="0" y="8575"/>
                </a:cubicBezTo>
                <a:lnTo>
                  <a:pt x="0" y="8425"/>
                </a:lnTo>
                <a:cubicBezTo>
                  <a:pt x="0" y="8411"/>
                  <a:pt x="11" y="8400"/>
                  <a:pt x="25" y="8400"/>
                </a:cubicBezTo>
                <a:cubicBezTo>
                  <a:pt x="39" y="8400"/>
                  <a:pt x="50" y="8411"/>
                  <a:pt x="50" y="8425"/>
                </a:cubicBezTo>
                <a:close/>
                <a:moveTo>
                  <a:pt x="50" y="8775"/>
                </a:moveTo>
                <a:lnTo>
                  <a:pt x="50" y="8925"/>
                </a:lnTo>
                <a:cubicBezTo>
                  <a:pt x="50" y="8939"/>
                  <a:pt x="39" y="8950"/>
                  <a:pt x="25" y="8950"/>
                </a:cubicBezTo>
                <a:cubicBezTo>
                  <a:pt x="11" y="8950"/>
                  <a:pt x="0" y="8939"/>
                  <a:pt x="0" y="8925"/>
                </a:cubicBezTo>
                <a:lnTo>
                  <a:pt x="0" y="8775"/>
                </a:lnTo>
                <a:cubicBezTo>
                  <a:pt x="0" y="8761"/>
                  <a:pt x="11" y="8750"/>
                  <a:pt x="25" y="8750"/>
                </a:cubicBezTo>
                <a:cubicBezTo>
                  <a:pt x="39" y="8750"/>
                  <a:pt x="50" y="8761"/>
                  <a:pt x="50" y="8775"/>
                </a:cubicBezTo>
                <a:close/>
                <a:moveTo>
                  <a:pt x="50" y="9125"/>
                </a:moveTo>
                <a:lnTo>
                  <a:pt x="50" y="9275"/>
                </a:lnTo>
                <a:cubicBezTo>
                  <a:pt x="50" y="9289"/>
                  <a:pt x="39" y="9300"/>
                  <a:pt x="25" y="9300"/>
                </a:cubicBezTo>
                <a:cubicBezTo>
                  <a:pt x="11" y="9300"/>
                  <a:pt x="0" y="9289"/>
                  <a:pt x="0" y="9275"/>
                </a:cubicBezTo>
                <a:lnTo>
                  <a:pt x="0" y="9125"/>
                </a:lnTo>
                <a:cubicBezTo>
                  <a:pt x="0" y="9111"/>
                  <a:pt x="11" y="9100"/>
                  <a:pt x="25" y="9100"/>
                </a:cubicBezTo>
                <a:cubicBezTo>
                  <a:pt x="39" y="9100"/>
                  <a:pt x="50" y="9111"/>
                  <a:pt x="50" y="9125"/>
                </a:cubicBezTo>
                <a:close/>
                <a:moveTo>
                  <a:pt x="50" y="9475"/>
                </a:moveTo>
                <a:lnTo>
                  <a:pt x="50" y="9625"/>
                </a:lnTo>
                <a:cubicBezTo>
                  <a:pt x="50" y="9639"/>
                  <a:pt x="39" y="9650"/>
                  <a:pt x="25" y="9650"/>
                </a:cubicBezTo>
                <a:cubicBezTo>
                  <a:pt x="11" y="9650"/>
                  <a:pt x="0" y="9639"/>
                  <a:pt x="0" y="9625"/>
                </a:cubicBezTo>
                <a:lnTo>
                  <a:pt x="0" y="9475"/>
                </a:lnTo>
                <a:cubicBezTo>
                  <a:pt x="0" y="9461"/>
                  <a:pt x="11" y="9450"/>
                  <a:pt x="25" y="9450"/>
                </a:cubicBezTo>
                <a:cubicBezTo>
                  <a:pt x="39" y="9450"/>
                  <a:pt x="50" y="9461"/>
                  <a:pt x="50" y="9475"/>
                </a:cubicBezTo>
                <a:close/>
                <a:moveTo>
                  <a:pt x="50" y="9825"/>
                </a:moveTo>
                <a:lnTo>
                  <a:pt x="50" y="9975"/>
                </a:lnTo>
                <a:cubicBezTo>
                  <a:pt x="50" y="9989"/>
                  <a:pt x="39" y="10000"/>
                  <a:pt x="25" y="10000"/>
                </a:cubicBezTo>
                <a:cubicBezTo>
                  <a:pt x="11" y="10000"/>
                  <a:pt x="0" y="9989"/>
                  <a:pt x="0" y="9975"/>
                </a:cubicBezTo>
                <a:lnTo>
                  <a:pt x="0" y="9825"/>
                </a:lnTo>
                <a:cubicBezTo>
                  <a:pt x="0" y="9811"/>
                  <a:pt x="11" y="9800"/>
                  <a:pt x="25" y="9800"/>
                </a:cubicBezTo>
                <a:cubicBezTo>
                  <a:pt x="39" y="9800"/>
                  <a:pt x="50" y="9811"/>
                  <a:pt x="50" y="9825"/>
                </a:cubicBezTo>
                <a:close/>
                <a:moveTo>
                  <a:pt x="50" y="10175"/>
                </a:moveTo>
                <a:lnTo>
                  <a:pt x="50" y="10325"/>
                </a:lnTo>
                <a:cubicBezTo>
                  <a:pt x="50" y="10339"/>
                  <a:pt x="39" y="10350"/>
                  <a:pt x="25" y="10350"/>
                </a:cubicBezTo>
                <a:cubicBezTo>
                  <a:pt x="11" y="10350"/>
                  <a:pt x="0" y="10339"/>
                  <a:pt x="0" y="10325"/>
                </a:cubicBezTo>
                <a:lnTo>
                  <a:pt x="0" y="10175"/>
                </a:lnTo>
                <a:cubicBezTo>
                  <a:pt x="0" y="10161"/>
                  <a:pt x="11" y="10150"/>
                  <a:pt x="25" y="10150"/>
                </a:cubicBezTo>
                <a:cubicBezTo>
                  <a:pt x="39" y="10150"/>
                  <a:pt x="50" y="10161"/>
                  <a:pt x="50" y="10175"/>
                </a:cubicBezTo>
                <a:close/>
                <a:moveTo>
                  <a:pt x="50" y="10525"/>
                </a:moveTo>
                <a:lnTo>
                  <a:pt x="50" y="10675"/>
                </a:lnTo>
                <a:cubicBezTo>
                  <a:pt x="50" y="10689"/>
                  <a:pt x="39" y="10700"/>
                  <a:pt x="25" y="10700"/>
                </a:cubicBezTo>
                <a:cubicBezTo>
                  <a:pt x="11" y="10700"/>
                  <a:pt x="0" y="10689"/>
                  <a:pt x="0" y="10675"/>
                </a:cubicBezTo>
                <a:lnTo>
                  <a:pt x="0" y="10525"/>
                </a:lnTo>
                <a:cubicBezTo>
                  <a:pt x="0" y="10511"/>
                  <a:pt x="11" y="10500"/>
                  <a:pt x="25" y="10500"/>
                </a:cubicBezTo>
                <a:cubicBezTo>
                  <a:pt x="39" y="10500"/>
                  <a:pt x="50" y="10511"/>
                  <a:pt x="50" y="10525"/>
                </a:cubicBezTo>
                <a:close/>
                <a:moveTo>
                  <a:pt x="50" y="10875"/>
                </a:moveTo>
                <a:lnTo>
                  <a:pt x="50" y="11025"/>
                </a:lnTo>
                <a:cubicBezTo>
                  <a:pt x="50" y="11039"/>
                  <a:pt x="39" y="11050"/>
                  <a:pt x="25" y="11050"/>
                </a:cubicBezTo>
                <a:cubicBezTo>
                  <a:pt x="11" y="11050"/>
                  <a:pt x="0" y="11039"/>
                  <a:pt x="0" y="11025"/>
                </a:cubicBezTo>
                <a:lnTo>
                  <a:pt x="0" y="10875"/>
                </a:lnTo>
                <a:cubicBezTo>
                  <a:pt x="0" y="10861"/>
                  <a:pt x="11" y="10850"/>
                  <a:pt x="25" y="10850"/>
                </a:cubicBezTo>
                <a:cubicBezTo>
                  <a:pt x="39" y="10850"/>
                  <a:pt x="50" y="10861"/>
                  <a:pt x="50" y="10875"/>
                </a:cubicBezTo>
                <a:close/>
                <a:moveTo>
                  <a:pt x="50" y="11225"/>
                </a:moveTo>
                <a:lnTo>
                  <a:pt x="50" y="11375"/>
                </a:lnTo>
                <a:cubicBezTo>
                  <a:pt x="50" y="11389"/>
                  <a:pt x="39" y="11400"/>
                  <a:pt x="25" y="11400"/>
                </a:cubicBezTo>
                <a:cubicBezTo>
                  <a:pt x="11" y="11400"/>
                  <a:pt x="0" y="11389"/>
                  <a:pt x="0" y="11375"/>
                </a:cubicBezTo>
                <a:lnTo>
                  <a:pt x="0" y="11225"/>
                </a:lnTo>
                <a:cubicBezTo>
                  <a:pt x="0" y="11211"/>
                  <a:pt x="11" y="11200"/>
                  <a:pt x="25" y="11200"/>
                </a:cubicBezTo>
                <a:cubicBezTo>
                  <a:pt x="39" y="11200"/>
                  <a:pt x="50" y="11211"/>
                  <a:pt x="50" y="11225"/>
                </a:cubicBezTo>
                <a:close/>
                <a:moveTo>
                  <a:pt x="50" y="11575"/>
                </a:moveTo>
                <a:lnTo>
                  <a:pt x="50" y="11725"/>
                </a:lnTo>
                <a:cubicBezTo>
                  <a:pt x="50" y="11739"/>
                  <a:pt x="39" y="11750"/>
                  <a:pt x="25" y="11750"/>
                </a:cubicBezTo>
                <a:cubicBezTo>
                  <a:pt x="11" y="11750"/>
                  <a:pt x="0" y="11739"/>
                  <a:pt x="0" y="11725"/>
                </a:cubicBezTo>
                <a:lnTo>
                  <a:pt x="0" y="11575"/>
                </a:lnTo>
                <a:cubicBezTo>
                  <a:pt x="0" y="11561"/>
                  <a:pt x="11" y="11550"/>
                  <a:pt x="25" y="11550"/>
                </a:cubicBezTo>
                <a:cubicBezTo>
                  <a:pt x="39" y="11550"/>
                  <a:pt x="50" y="11561"/>
                  <a:pt x="50" y="11575"/>
                </a:cubicBezTo>
                <a:close/>
                <a:moveTo>
                  <a:pt x="50" y="11925"/>
                </a:moveTo>
                <a:lnTo>
                  <a:pt x="50" y="12075"/>
                </a:lnTo>
                <a:cubicBezTo>
                  <a:pt x="50" y="12089"/>
                  <a:pt x="39" y="12100"/>
                  <a:pt x="25" y="12100"/>
                </a:cubicBezTo>
                <a:cubicBezTo>
                  <a:pt x="11" y="12100"/>
                  <a:pt x="0" y="12089"/>
                  <a:pt x="0" y="12075"/>
                </a:cubicBezTo>
                <a:lnTo>
                  <a:pt x="0" y="11925"/>
                </a:lnTo>
                <a:cubicBezTo>
                  <a:pt x="0" y="11911"/>
                  <a:pt x="11" y="11900"/>
                  <a:pt x="25" y="11900"/>
                </a:cubicBezTo>
                <a:cubicBezTo>
                  <a:pt x="39" y="11900"/>
                  <a:pt x="50" y="11911"/>
                  <a:pt x="50" y="11925"/>
                </a:cubicBezTo>
                <a:close/>
                <a:moveTo>
                  <a:pt x="50" y="12275"/>
                </a:moveTo>
                <a:lnTo>
                  <a:pt x="50" y="12425"/>
                </a:lnTo>
                <a:cubicBezTo>
                  <a:pt x="50" y="12439"/>
                  <a:pt x="39" y="12450"/>
                  <a:pt x="25" y="12450"/>
                </a:cubicBezTo>
                <a:cubicBezTo>
                  <a:pt x="11" y="12450"/>
                  <a:pt x="0" y="12439"/>
                  <a:pt x="0" y="12425"/>
                </a:cubicBezTo>
                <a:lnTo>
                  <a:pt x="0" y="12275"/>
                </a:lnTo>
                <a:cubicBezTo>
                  <a:pt x="0" y="12261"/>
                  <a:pt x="11" y="12250"/>
                  <a:pt x="25" y="12250"/>
                </a:cubicBezTo>
                <a:cubicBezTo>
                  <a:pt x="39" y="12250"/>
                  <a:pt x="50" y="12261"/>
                  <a:pt x="50" y="12275"/>
                </a:cubicBezTo>
                <a:close/>
                <a:moveTo>
                  <a:pt x="50" y="12625"/>
                </a:moveTo>
                <a:lnTo>
                  <a:pt x="50" y="12775"/>
                </a:lnTo>
                <a:cubicBezTo>
                  <a:pt x="50" y="12789"/>
                  <a:pt x="39" y="12800"/>
                  <a:pt x="25" y="12800"/>
                </a:cubicBezTo>
                <a:cubicBezTo>
                  <a:pt x="11" y="12800"/>
                  <a:pt x="0" y="12789"/>
                  <a:pt x="0" y="12775"/>
                </a:cubicBezTo>
                <a:lnTo>
                  <a:pt x="0" y="12625"/>
                </a:lnTo>
                <a:cubicBezTo>
                  <a:pt x="0" y="12611"/>
                  <a:pt x="11" y="12600"/>
                  <a:pt x="25" y="12600"/>
                </a:cubicBezTo>
                <a:cubicBezTo>
                  <a:pt x="39" y="12600"/>
                  <a:pt x="50" y="12611"/>
                  <a:pt x="50" y="12625"/>
                </a:cubicBezTo>
                <a:close/>
                <a:moveTo>
                  <a:pt x="50" y="12975"/>
                </a:moveTo>
                <a:lnTo>
                  <a:pt x="50" y="13125"/>
                </a:lnTo>
                <a:cubicBezTo>
                  <a:pt x="50" y="13139"/>
                  <a:pt x="39" y="13150"/>
                  <a:pt x="25" y="13150"/>
                </a:cubicBezTo>
                <a:cubicBezTo>
                  <a:pt x="11" y="13150"/>
                  <a:pt x="0" y="13139"/>
                  <a:pt x="0" y="13125"/>
                </a:cubicBezTo>
                <a:lnTo>
                  <a:pt x="0" y="12975"/>
                </a:lnTo>
                <a:cubicBezTo>
                  <a:pt x="0" y="12961"/>
                  <a:pt x="11" y="12950"/>
                  <a:pt x="25" y="12950"/>
                </a:cubicBezTo>
                <a:cubicBezTo>
                  <a:pt x="39" y="12950"/>
                  <a:pt x="50" y="12961"/>
                  <a:pt x="50" y="12975"/>
                </a:cubicBezTo>
                <a:close/>
                <a:moveTo>
                  <a:pt x="50" y="13325"/>
                </a:moveTo>
                <a:lnTo>
                  <a:pt x="50" y="13475"/>
                </a:lnTo>
                <a:cubicBezTo>
                  <a:pt x="50" y="13489"/>
                  <a:pt x="39" y="13500"/>
                  <a:pt x="25" y="13500"/>
                </a:cubicBezTo>
                <a:cubicBezTo>
                  <a:pt x="11" y="13500"/>
                  <a:pt x="0" y="13489"/>
                  <a:pt x="0" y="13475"/>
                </a:cubicBezTo>
                <a:lnTo>
                  <a:pt x="0" y="13325"/>
                </a:lnTo>
                <a:cubicBezTo>
                  <a:pt x="0" y="13311"/>
                  <a:pt x="11" y="13300"/>
                  <a:pt x="25" y="13300"/>
                </a:cubicBezTo>
                <a:cubicBezTo>
                  <a:pt x="39" y="13300"/>
                  <a:pt x="50" y="13311"/>
                  <a:pt x="50" y="13325"/>
                </a:cubicBezTo>
                <a:close/>
                <a:moveTo>
                  <a:pt x="50" y="13675"/>
                </a:moveTo>
                <a:lnTo>
                  <a:pt x="50" y="13825"/>
                </a:lnTo>
                <a:cubicBezTo>
                  <a:pt x="50" y="13839"/>
                  <a:pt x="39" y="13850"/>
                  <a:pt x="25" y="13850"/>
                </a:cubicBezTo>
                <a:cubicBezTo>
                  <a:pt x="11" y="13850"/>
                  <a:pt x="0" y="13839"/>
                  <a:pt x="0" y="13825"/>
                </a:cubicBezTo>
                <a:lnTo>
                  <a:pt x="0" y="13675"/>
                </a:lnTo>
                <a:cubicBezTo>
                  <a:pt x="0" y="13661"/>
                  <a:pt x="11" y="13650"/>
                  <a:pt x="25" y="13650"/>
                </a:cubicBezTo>
                <a:cubicBezTo>
                  <a:pt x="39" y="13650"/>
                  <a:pt x="50" y="13661"/>
                  <a:pt x="50" y="13675"/>
                </a:cubicBezTo>
                <a:close/>
                <a:moveTo>
                  <a:pt x="50" y="14025"/>
                </a:moveTo>
                <a:lnTo>
                  <a:pt x="50" y="14175"/>
                </a:lnTo>
                <a:cubicBezTo>
                  <a:pt x="50" y="14189"/>
                  <a:pt x="39" y="14200"/>
                  <a:pt x="25" y="14200"/>
                </a:cubicBezTo>
                <a:cubicBezTo>
                  <a:pt x="11" y="14200"/>
                  <a:pt x="0" y="14189"/>
                  <a:pt x="0" y="14175"/>
                </a:cubicBezTo>
                <a:lnTo>
                  <a:pt x="0" y="14025"/>
                </a:lnTo>
                <a:cubicBezTo>
                  <a:pt x="0" y="14011"/>
                  <a:pt x="11" y="14000"/>
                  <a:pt x="25" y="14000"/>
                </a:cubicBezTo>
                <a:cubicBezTo>
                  <a:pt x="39" y="14000"/>
                  <a:pt x="50" y="14011"/>
                  <a:pt x="50" y="14025"/>
                </a:cubicBezTo>
                <a:close/>
                <a:moveTo>
                  <a:pt x="50" y="14375"/>
                </a:moveTo>
                <a:lnTo>
                  <a:pt x="50" y="14525"/>
                </a:lnTo>
                <a:cubicBezTo>
                  <a:pt x="50" y="14539"/>
                  <a:pt x="39" y="14550"/>
                  <a:pt x="25" y="14550"/>
                </a:cubicBezTo>
                <a:cubicBezTo>
                  <a:pt x="11" y="14550"/>
                  <a:pt x="0" y="14539"/>
                  <a:pt x="0" y="14525"/>
                </a:cubicBezTo>
                <a:lnTo>
                  <a:pt x="0" y="14375"/>
                </a:lnTo>
                <a:cubicBezTo>
                  <a:pt x="0" y="14361"/>
                  <a:pt x="11" y="14350"/>
                  <a:pt x="25" y="14350"/>
                </a:cubicBezTo>
                <a:cubicBezTo>
                  <a:pt x="39" y="14350"/>
                  <a:pt x="50" y="14361"/>
                  <a:pt x="50" y="14375"/>
                </a:cubicBezTo>
                <a:close/>
                <a:moveTo>
                  <a:pt x="50" y="14725"/>
                </a:moveTo>
                <a:lnTo>
                  <a:pt x="50" y="14875"/>
                </a:lnTo>
                <a:cubicBezTo>
                  <a:pt x="50" y="14889"/>
                  <a:pt x="39" y="14900"/>
                  <a:pt x="25" y="14900"/>
                </a:cubicBezTo>
                <a:cubicBezTo>
                  <a:pt x="11" y="14900"/>
                  <a:pt x="0" y="14889"/>
                  <a:pt x="0" y="14875"/>
                </a:cubicBezTo>
                <a:lnTo>
                  <a:pt x="0" y="14725"/>
                </a:lnTo>
                <a:cubicBezTo>
                  <a:pt x="0" y="14711"/>
                  <a:pt x="11" y="14700"/>
                  <a:pt x="25" y="14700"/>
                </a:cubicBezTo>
                <a:cubicBezTo>
                  <a:pt x="39" y="14700"/>
                  <a:pt x="50" y="14711"/>
                  <a:pt x="50" y="14725"/>
                </a:cubicBezTo>
                <a:close/>
                <a:moveTo>
                  <a:pt x="50" y="15075"/>
                </a:moveTo>
                <a:lnTo>
                  <a:pt x="50" y="15225"/>
                </a:lnTo>
                <a:cubicBezTo>
                  <a:pt x="50" y="15239"/>
                  <a:pt x="39" y="15250"/>
                  <a:pt x="25" y="15250"/>
                </a:cubicBezTo>
                <a:cubicBezTo>
                  <a:pt x="11" y="15250"/>
                  <a:pt x="0" y="15239"/>
                  <a:pt x="0" y="15225"/>
                </a:cubicBezTo>
                <a:lnTo>
                  <a:pt x="0" y="15075"/>
                </a:lnTo>
                <a:cubicBezTo>
                  <a:pt x="0" y="15061"/>
                  <a:pt x="11" y="15050"/>
                  <a:pt x="25" y="15050"/>
                </a:cubicBezTo>
                <a:cubicBezTo>
                  <a:pt x="39" y="15050"/>
                  <a:pt x="50" y="15061"/>
                  <a:pt x="50" y="15075"/>
                </a:cubicBezTo>
                <a:close/>
                <a:moveTo>
                  <a:pt x="50" y="15425"/>
                </a:moveTo>
                <a:lnTo>
                  <a:pt x="50" y="15575"/>
                </a:lnTo>
                <a:cubicBezTo>
                  <a:pt x="50" y="15589"/>
                  <a:pt x="39" y="15600"/>
                  <a:pt x="25" y="15600"/>
                </a:cubicBezTo>
                <a:cubicBezTo>
                  <a:pt x="11" y="15600"/>
                  <a:pt x="0" y="15589"/>
                  <a:pt x="0" y="15575"/>
                </a:cubicBezTo>
                <a:lnTo>
                  <a:pt x="0" y="15425"/>
                </a:lnTo>
                <a:cubicBezTo>
                  <a:pt x="0" y="15411"/>
                  <a:pt x="11" y="15400"/>
                  <a:pt x="25" y="15400"/>
                </a:cubicBezTo>
                <a:cubicBezTo>
                  <a:pt x="39" y="15400"/>
                  <a:pt x="50" y="15411"/>
                  <a:pt x="50" y="15425"/>
                </a:cubicBezTo>
                <a:close/>
                <a:moveTo>
                  <a:pt x="50" y="15775"/>
                </a:moveTo>
                <a:lnTo>
                  <a:pt x="50" y="15925"/>
                </a:lnTo>
                <a:cubicBezTo>
                  <a:pt x="50" y="15939"/>
                  <a:pt x="39" y="15950"/>
                  <a:pt x="25" y="15950"/>
                </a:cubicBezTo>
                <a:cubicBezTo>
                  <a:pt x="11" y="15950"/>
                  <a:pt x="0" y="15939"/>
                  <a:pt x="0" y="15925"/>
                </a:cubicBezTo>
                <a:lnTo>
                  <a:pt x="0" y="15775"/>
                </a:lnTo>
                <a:cubicBezTo>
                  <a:pt x="0" y="15761"/>
                  <a:pt x="11" y="15750"/>
                  <a:pt x="25" y="15750"/>
                </a:cubicBezTo>
                <a:cubicBezTo>
                  <a:pt x="39" y="15750"/>
                  <a:pt x="50" y="15761"/>
                  <a:pt x="50" y="15775"/>
                </a:cubicBezTo>
                <a:close/>
                <a:moveTo>
                  <a:pt x="50" y="16125"/>
                </a:moveTo>
                <a:lnTo>
                  <a:pt x="50" y="16275"/>
                </a:lnTo>
                <a:cubicBezTo>
                  <a:pt x="50" y="16289"/>
                  <a:pt x="39" y="16300"/>
                  <a:pt x="25" y="16300"/>
                </a:cubicBezTo>
                <a:cubicBezTo>
                  <a:pt x="11" y="16300"/>
                  <a:pt x="0" y="16289"/>
                  <a:pt x="0" y="16275"/>
                </a:cubicBezTo>
                <a:lnTo>
                  <a:pt x="0" y="16125"/>
                </a:lnTo>
                <a:cubicBezTo>
                  <a:pt x="0" y="16111"/>
                  <a:pt x="11" y="16100"/>
                  <a:pt x="25" y="16100"/>
                </a:cubicBezTo>
                <a:cubicBezTo>
                  <a:pt x="39" y="16100"/>
                  <a:pt x="50" y="16111"/>
                  <a:pt x="50" y="16125"/>
                </a:cubicBezTo>
                <a:close/>
                <a:moveTo>
                  <a:pt x="50" y="16475"/>
                </a:moveTo>
                <a:lnTo>
                  <a:pt x="50" y="16625"/>
                </a:lnTo>
                <a:cubicBezTo>
                  <a:pt x="50" y="16639"/>
                  <a:pt x="39" y="16650"/>
                  <a:pt x="25" y="16650"/>
                </a:cubicBezTo>
                <a:cubicBezTo>
                  <a:pt x="11" y="16650"/>
                  <a:pt x="0" y="16639"/>
                  <a:pt x="0" y="16625"/>
                </a:cubicBezTo>
                <a:lnTo>
                  <a:pt x="0" y="16475"/>
                </a:lnTo>
                <a:cubicBezTo>
                  <a:pt x="0" y="16461"/>
                  <a:pt x="11" y="16450"/>
                  <a:pt x="25" y="16450"/>
                </a:cubicBezTo>
                <a:cubicBezTo>
                  <a:pt x="39" y="16450"/>
                  <a:pt x="50" y="16461"/>
                  <a:pt x="50" y="16475"/>
                </a:cubicBezTo>
                <a:close/>
                <a:moveTo>
                  <a:pt x="50" y="16825"/>
                </a:moveTo>
                <a:lnTo>
                  <a:pt x="50" y="16975"/>
                </a:lnTo>
                <a:cubicBezTo>
                  <a:pt x="50" y="16989"/>
                  <a:pt x="39" y="17000"/>
                  <a:pt x="25" y="17000"/>
                </a:cubicBezTo>
                <a:cubicBezTo>
                  <a:pt x="11" y="17000"/>
                  <a:pt x="0" y="16989"/>
                  <a:pt x="0" y="16975"/>
                </a:cubicBezTo>
                <a:lnTo>
                  <a:pt x="0" y="16825"/>
                </a:lnTo>
                <a:cubicBezTo>
                  <a:pt x="0" y="16811"/>
                  <a:pt x="11" y="16800"/>
                  <a:pt x="25" y="16800"/>
                </a:cubicBezTo>
                <a:cubicBezTo>
                  <a:pt x="39" y="16800"/>
                  <a:pt x="50" y="16811"/>
                  <a:pt x="50" y="16825"/>
                </a:cubicBezTo>
                <a:close/>
                <a:moveTo>
                  <a:pt x="50" y="17175"/>
                </a:moveTo>
                <a:lnTo>
                  <a:pt x="50" y="17325"/>
                </a:lnTo>
                <a:cubicBezTo>
                  <a:pt x="50" y="17339"/>
                  <a:pt x="39" y="17350"/>
                  <a:pt x="25" y="17350"/>
                </a:cubicBezTo>
                <a:cubicBezTo>
                  <a:pt x="11" y="17350"/>
                  <a:pt x="0" y="17339"/>
                  <a:pt x="0" y="17325"/>
                </a:cubicBezTo>
                <a:lnTo>
                  <a:pt x="0" y="17175"/>
                </a:lnTo>
                <a:cubicBezTo>
                  <a:pt x="0" y="17161"/>
                  <a:pt x="11" y="17150"/>
                  <a:pt x="25" y="17150"/>
                </a:cubicBezTo>
                <a:cubicBezTo>
                  <a:pt x="39" y="17150"/>
                  <a:pt x="50" y="17161"/>
                  <a:pt x="50" y="17175"/>
                </a:cubicBezTo>
                <a:close/>
                <a:moveTo>
                  <a:pt x="50" y="17525"/>
                </a:moveTo>
                <a:lnTo>
                  <a:pt x="50" y="17675"/>
                </a:lnTo>
                <a:cubicBezTo>
                  <a:pt x="50" y="17689"/>
                  <a:pt x="39" y="17700"/>
                  <a:pt x="25" y="17700"/>
                </a:cubicBezTo>
                <a:cubicBezTo>
                  <a:pt x="11" y="17700"/>
                  <a:pt x="0" y="17689"/>
                  <a:pt x="0" y="17675"/>
                </a:cubicBezTo>
                <a:lnTo>
                  <a:pt x="0" y="17525"/>
                </a:lnTo>
                <a:cubicBezTo>
                  <a:pt x="0" y="17511"/>
                  <a:pt x="11" y="17500"/>
                  <a:pt x="25" y="17500"/>
                </a:cubicBezTo>
                <a:cubicBezTo>
                  <a:pt x="39" y="17500"/>
                  <a:pt x="50" y="17511"/>
                  <a:pt x="50" y="17525"/>
                </a:cubicBez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73200" y="2422440"/>
            <a:ext cx="41641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73200" y="3672000"/>
            <a:ext cx="41641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73200" y="5408640"/>
            <a:ext cx="763560" cy="139680"/>
          </a:xfrm>
          <a:custGeom>
            <a:avLst/>
            <a:gdLst/>
            <a:ahLst/>
            <a:rect l="l" t="t" r="r" b="b"/>
            <a:pathLst>
              <a:path w="4158" h="759">
                <a:moveTo>
                  <a:pt x="4158" y="0"/>
                </a:moveTo>
                <a:cubicBezTo>
                  <a:pt x="4158" y="210"/>
                  <a:pt x="4003" y="380"/>
                  <a:pt x="3812" y="380"/>
                </a:cubicBezTo>
                <a:lnTo>
                  <a:pt x="2426" y="380"/>
                </a:lnTo>
                <a:cubicBezTo>
                  <a:pt x="2234" y="380"/>
                  <a:pt x="2079" y="549"/>
                  <a:pt x="2079" y="759"/>
                </a:cubicBezTo>
                <a:cubicBezTo>
                  <a:pt x="2079" y="549"/>
                  <a:pt x="1924" y="380"/>
                  <a:pt x="1733" y="380"/>
                </a:cubicBezTo>
                <a:lnTo>
                  <a:pt x="347" y="380"/>
                </a:lnTo>
                <a:cubicBezTo>
                  <a:pt x="155" y="380"/>
                  <a:pt x="0" y="210"/>
                  <a:pt x="0" y="0"/>
                </a:cubicBez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75000" y="5408640"/>
            <a:ext cx="1111320" cy="139680"/>
          </a:xfrm>
          <a:custGeom>
            <a:avLst/>
            <a:gdLst/>
            <a:ahLst/>
            <a:rect l="l" t="t" r="r" b="b"/>
            <a:pathLst>
              <a:path w="6050" h="759">
                <a:moveTo>
                  <a:pt x="6050" y="0"/>
                </a:moveTo>
                <a:cubicBezTo>
                  <a:pt x="6050" y="210"/>
                  <a:pt x="5825" y="380"/>
                  <a:pt x="5546" y="380"/>
                </a:cubicBezTo>
                <a:lnTo>
                  <a:pt x="3530" y="380"/>
                </a:lnTo>
                <a:cubicBezTo>
                  <a:pt x="3251" y="380"/>
                  <a:pt x="3025" y="549"/>
                  <a:pt x="3025" y="759"/>
                </a:cubicBezTo>
                <a:cubicBezTo>
                  <a:pt x="3025" y="549"/>
                  <a:pt x="2800" y="380"/>
                  <a:pt x="2521" y="380"/>
                </a:cubicBezTo>
                <a:lnTo>
                  <a:pt x="505" y="380"/>
                </a:lnTo>
                <a:cubicBezTo>
                  <a:pt x="226" y="380"/>
                  <a:pt x="0" y="210"/>
                  <a:pt x="0" y="0"/>
                </a:cubicBez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24200" y="5408640"/>
            <a:ext cx="1944720" cy="139680"/>
          </a:xfrm>
          <a:custGeom>
            <a:avLst/>
            <a:gdLst/>
            <a:ahLst/>
            <a:rect l="l" t="t" r="r" b="b"/>
            <a:pathLst>
              <a:path w="10583" h="759">
                <a:moveTo>
                  <a:pt x="10583" y="0"/>
                </a:moveTo>
                <a:cubicBezTo>
                  <a:pt x="10583" y="210"/>
                  <a:pt x="10188" y="380"/>
                  <a:pt x="9701" y="380"/>
                </a:cubicBezTo>
                <a:lnTo>
                  <a:pt x="6173" y="380"/>
                </a:lnTo>
                <a:cubicBezTo>
                  <a:pt x="5686" y="380"/>
                  <a:pt x="5291" y="549"/>
                  <a:pt x="5291" y="759"/>
                </a:cubicBezTo>
                <a:cubicBezTo>
                  <a:pt x="5291" y="549"/>
                  <a:pt x="4897" y="380"/>
                  <a:pt x="4410" y="380"/>
                </a:cubicBezTo>
                <a:lnTo>
                  <a:pt x="882" y="380"/>
                </a:lnTo>
                <a:cubicBezTo>
                  <a:pt x="395" y="380"/>
                  <a:pt x="0" y="210"/>
                  <a:pt x="0" y="0"/>
                </a:cubicBez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73200" y="3811680"/>
            <a:ext cx="41641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573200" y="3672000"/>
            <a:ext cx="831960" cy="13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405160" y="2214720"/>
            <a:ext cx="3332160" cy="145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73200" y="3672000"/>
            <a:ext cx="8319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405160" y="2214360"/>
            <a:ext cx="3332160" cy="207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03360" y="2408400"/>
            <a:ext cx="3335400" cy="374400"/>
          </a:xfrm>
          <a:custGeom>
            <a:avLst/>
            <a:gdLst/>
            <a:ahLst/>
            <a:rect l="l" t="t" r="r" b="b"/>
            <a:pathLst>
              <a:path w="2101" h="236">
                <a:moveTo>
                  <a:pt x="2" y="0"/>
                </a:moveTo>
                <a:lnTo>
                  <a:pt x="71" y="7"/>
                </a:lnTo>
                <a:lnTo>
                  <a:pt x="69" y="24"/>
                </a:lnTo>
                <a:lnTo>
                  <a:pt x="0" y="17"/>
                </a:lnTo>
                <a:lnTo>
                  <a:pt x="2" y="0"/>
                </a:lnTo>
                <a:close/>
                <a:moveTo>
                  <a:pt x="123" y="13"/>
                </a:moveTo>
                <a:lnTo>
                  <a:pt x="140" y="14"/>
                </a:lnTo>
                <a:lnTo>
                  <a:pt x="138" y="32"/>
                </a:lnTo>
                <a:lnTo>
                  <a:pt x="121" y="30"/>
                </a:lnTo>
                <a:lnTo>
                  <a:pt x="123" y="13"/>
                </a:lnTo>
                <a:close/>
                <a:moveTo>
                  <a:pt x="192" y="20"/>
                </a:moveTo>
                <a:lnTo>
                  <a:pt x="261" y="27"/>
                </a:lnTo>
                <a:lnTo>
                  <a:pt x="259" y="44"/>
                </a:lnTo>
                <a:lnTo>
                  <a:pt x="190" y="37"/>
                </a:lnTo>
                <a:lnTo>
                  <a:pt x="192" y="20"/>
                </a:lnTo>
                <a:close/>
                <a:moveTo>
                  <a:pt x="313" y="32"/>
                </a:moveTo>
                <a:lnTo>
                  <a:pt x="330" y="34"/>
                </a:lnTo>
                <a:lnTo>
                  <a:pt x="328" y="51"/>
                </a:lnTo>
                <a:lnTo>
                  <a:pt x="311" y="50"/>
                </a:lnTo>
                <a:lnTo>
                  <a:pt x="313" y="32"/>
                </a:lnTo>
                <a:close/>
                <a:moveTo>
                  <a:pt x="382" y="40"/>
                </a:moveTo>
                <a:lnTo>
                  <a:pt x="451" y="47"/>
                </a:lnTo>
                <a:lnTo>
                  <a:pt x="449" y="64"/>
                </a:lnTo>
                <a:lnTo>
                  <a:pt x="380" y="57"/>
                </a:lnTo>
                <a:lnTo>
                  <a:pt x="382" y="40"/>
                </a:lnTo>
                <a:close/>
                <a:moveTo>
                  <a:pt x="503" y="52"/>
                </a:moveTo>
                <a:lnTo>
                  <a:pt x="520" y="54"/>
                </a:lnTo>
                <a:lnTo>
                  <a:pt x="518" y="71"/>
                </a:lnTo>
                <a:lnTo>
                  <a:pt x="501" y="69"/>
                </a:lnTo>
                <a:lnTo>
                  <a:pt x="503" y="52"/>
                </a:lnTo>
                <a:close/>
                <a:moveTo>
                  <a:pt x="572" y="59"/>
                </a:moveTo>
                <a:lnTo>
                  <a:pt x="641" y="67"/>
                </a:lnTo>
                <a:lnTo>
                  <a:pt x="639" y="84"/>
                </a:lnTo>
                <a:lnTo>
                  <a:pt x="570" y="77"/>
                </a:lnTo>
                <a:lnTo>
                  <a:pt x="572" y="59"/>
                </a:lnTo>
                <a:close/>
                <a:moveTo>
                  <a:pt x="693" y="72"/>
                </a:moveTo>
                <a:lnTo>
                  <a:pt x="710" y="74"/>
                </a:lnTo>
                <a:lnTo>
                  <a:pt x="708" y="91"/>
                </a:lnTo>
                <a:lnTo>
                  <a:pt x="691" y="89"/>
                </a:lnTo>
                <a:lnTo>
                  <a:pt x="693" y="72"/>
                </a:lnTo>
                <a:close/>
                <a:moveTo>
                  <a:pt x="762" y="79"/>
                </a:moveTo>
                <a:lnTo>
                  <a:pt x="831" y="86"/>
                </a:lnTo>
                <a:lnTo>
                  <a:pt x="829" y="104"/>
                </a:lnTo>
                <a:lnTo>
                  <a:pt x="760" y="96"/>
                </a:lnTo>
                <a:lnTo>
                  <a:pt x="762" y="79"/>
                </a:lnTo>
                <a:close/>
                <a:moveTo>
                  <a:pt x="883" y="92"/>
                </a:moveTo>
                <a:lnTo>
                  <a:pt x="900" y="94"/>
                </a:lnTo>
                <a:lnTo>
                  <a:pt x="898" y="111"/>
                </a:lnTo>
                <a:lnTo>
                  <a:pt x="881" y="109"/>
                </a:lnTo>
                <a:lnTo>
                  <a:pt x="883" y="92"/>
                </a:lnTo>
                <a:close/>
                <a:moveTo>
                  <a:pt x="952" y="99"/>
                </a:moveTo>
                <a:lnTo>
                  <a:pt x="1021" y="106"/>
                </a:lnTo>
                <a:lnTo>
                  <a:pt x="1019" y="124"/>
                </a:lnTo>
                <a:lnTo>
                  <a:pt x="950" y="116"/>
                </a:lnTo>
                <a:lnTo>
                  <a:pt x="952" y="99"/>
                </a:lnTo>
                <a:close/>
                <a:moveTo>
                  <a:pt x="1072" y="112"/>
                </a:moveTo>
                <a:lnTo>
                  <a:pt x="1090" y="113"/>
                </a:lnTo>
                <a:lnTo>
                  <a:pt x="1088" y="131"/>
                </a:lnTo>
                <a:lnTo>
                  <a:pt x="1071" y="129"/>
                </a:lnTo>
                <a:lnTo>
                  <a:pt x="1072" y="112"/>
                </a:lnTo>
                <a:close/>
                <a:moveTo>
                  <a:pt x="1141" y="119"/>
                </a:moveTo>
                <a:lnTo>
                  <a:pt x="1211" y="126"/>
                </a:lnTo>
                <a:lnTo>
                  <a:pt x="1209" y="143"/>
                </a:lnTo>
                <a:lnTo>
                  <a:pt x="1140" y="136"/>
                </a:lnTo>
                <a:lnTo>
                  <a:pt x="1141" y="119"/>
                </a:lnTo>
                <a:close/>
                <a:moveTo>
                  <a:pt x="1262" y="131"/>
                </a:moveTo>
                <a:lnTo>
                  <a:pt x="1279" y="133"/>
                </a:lnTo>
                <a:lnTo>
                  <a:pt x="1278" y="151"/>
                </a:lnTo>
                <a:lnTo>
                  <a:pt x="1261" y="149"/>
                </a:lnTo>
                <a:lnTo>
                  <a:pt x="1262" y="131"/>
                </a:lnTo>
                <a:close/>
                <a:moveTo>
                  <a:pt x="1331" y="139"/>
                </a:moveTo>
                <a:lnTo>
                  <a:pt x="1400" y="146"/>
                </a:lnTo>
                <a:lnTo>
                  <a:pt x="1399" y="163"/>
                </a:lnTo>
                <a:lnTo>
                  <a:pt x="1329" y="156"/>
                </a:lnTo>
                <a:lnTo>
                  <a:pt x="1331" y="139"/>
                </a:lnTo>
                <a:close/>
                <a:moveTo>
                  <a:pt x="1452" y="151"/>
                </a:moveTo>
                <a:lnTo>
                  <a:pt x="1469" y="153"/>
                </a:lnTo>
                <a:lnTo>
                  <a:pt x="1468" y="170"/>
                </a:lnTo>
                <a:lnTo>
                  <a:pt x="1450" y="168"/>
                </a:lnTo>
                <a:lnTo>
                  <a:pt x="1452" y="151"/>
                </a:lnTo>
                <a:close/>
                <a:moveTo>
                  <a:pt x="1521" y="158"/>
                </a:moveTo>
                <a:lnTo>
                  <a:pt x="1590" y="166"/>
                </a:lnTo>
                <a:lnTo>
                  <a:pt x="1588" y="183"/>
                </a:lnTo>
                <a:lnTo>
                  <a:pt x="1519" y="176"/>
                </a:lnTo>
                <a:lnTo>
                  <a:pt x="1521" y="158"/>
                </a:lnTo>
                <a:close/>
                <a:moveTo>
                  <a:pt x="1642" y="171"/>
                </a:moveTo>
                <a:lnTo>
                  <a:pt x="1659" y="173"/>
                </a:lnTo>
                <a:lnTo>
                  <a:pt x="1657" y="190"/>
                </a:lnTo>
                <a:lnTo>
                  <a:pt x="1640" y="188"/>
                </a:lnTo>
                <a:lnTo>
                  <a:pt x="1642" y="171"/>
                </a:lnTo>
                <a:close/>
                <a:moveTo>
                  <a:pt x="1711" y="178"/>
                </a:moveTo>
                <a:lnTo>
                  <a:pt x="1780" y="185"/>
                </a:lnTo>
                <a:lnTo>
                  <a:pt x="1778" y="203"/>
                </a:lnTo>
                <a:lnTo>
                  <a:pt x="1709" y="196"/>
                </a:lnTo>
                <a:lnTo>
                  <a:pt x="1711" y="178"/>
                </a:lnTo>
                <a:close/>
                <a:moveTo>
                  <a:pt x="1832" y="191"/>
                </a:moveTo>
                <a:lnTo>
                  <a:pt x="1849" y="193"/>
                </a:lnTo>
                <a:lnTo>
                  <a:pt x="1847" y="210"/>
                </a:lnTo>
                <a:lnTo>
                  <a:pt x="1830" y="208"/>
                </a:lnTo>
                <a:lnTo>
                  <a:pt x="1832" y="191"/>
                </a:lnTo>
                <a:close/>
                <a:moveTo>
                  <a:pt x="1901" y="198"/>
                </a:moveTo>
                <a:lnTo>
                  <a:pt x="1970" y="205"/>
                </a:lnTo>
                <a:lnTo>
                  <a:pt x="1968" y="222"/>
                </a:lnTo>
                <a:lnTo>
                  <a:pt x="1899" y="215"/>
                </a:lnTo>
                <a:lnTo>
                  <a:pt x="1901" y="198"/>
                </a:lnTo>
                <a:close/>
                <a:moveTo>
                  <a:pt x="2022" y="211"/>
                </a:moveTo>
                <a:lnTo>
                  <a:pt x="2039" y="212"/>
                </a:lnTo>
                <a:lnTo>
                  <a:pt x="2037" y="230"/>
                </a:lnTo>
                <a:lnTo>
                  <a:pt x="2020" y="228"/>
                </a:lnTo>
                <a:lnTo>
                  <a:pt x="2022" y="211"/>
                </a:lnTo>
                <a:close/>
                <a:moveTo>
                  <a:pt x="2091" y="218"/>
                </a:moveTo>
                <a:lnTo>
                  <a:pt x="2101" y="219"/>
                </a:lnTo>
                <a:lnTo>
                  <a:pt x="2099" y="236"/>
                </a:lnTo>
                <a:lnTo>
                  <a:pt x="2089" y="235"/>
                </a:lnTo>
                <a:lnTo>
                  <a:pt x="2091" y="218"/>
                </a:lnTo>
                <a:close/>
              </a:path>
            </a:pathLst>
          </a:custGeom>
          <a:solidFill>
            <a:srgbClr val="333399"/>
          </a:solidFill>
          <a:ln w="1440">
            <a:solidFill>
              <a:srgbClr val="3333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01920" y="2759040"/>
            <a:ext cx="3330720" cy="927000"/>
          </a:xfrm>
          <a:custGeom>
            <a:avLst/>
            <a:gdLst/>
            <a:ahLst/>
            <a:rect l="l" t="t" r="r" b="b"/>
            <a:pathLst>
              <a:path w="2098" h="584">
                <a:moveTo>
                  <a:pt x="0" y="567"/>
                </a:moveTo>
                <a:lnTo>
                  <a:pt x="67" y="549"/>
                </a:lnTo>
                <a:lnTo>
                  <a:pt x="72" y="566"/>
                </a:lnTo>
                <a:lnTo>
                  <a:pt x="5" y="584"/>
                </a:lnTo>
                <a:lnTo>
                  <a:pt x="0" y="567"/>
                </a:lnTo>
                <a:close/>
                <a:moveTo>
                  <a:pt x="117" y="535"/>
                </a:moveTo>
                <a:lnTo>
                  <a:pt x="134" y="531"/>
                </a:lnTo>
                <a:lnTo>
                  <a:pt x="139" y="548"/>
                </a:lnTo>
                <a:lnTo>
                  <a:pt x="122" y="552"/>
                </a:lnTo>
                <a:lnTo>
                  <a:pt x="117" y="535"/>
                </a:lnTo>
                <a:close/>
                <a:moveTo>
                  <a:pt x="184" y="517"/>
                </a:moveTo>
                <a:lnTo>
                  <a:pt x="251" y="499"/>
                </a:lnTo>
                <a:lnTo>
                  <a:pt x="256" y="516"/>
                </a:lnTo>
                <a:lnTo>
                  <a:pt x="189" y="534"/>
                </a:lnTo>
                <a:lnTo>
                  <a:pt x="184" y="517"/>
                </a:lnTo>
                <a:close/>
                <a:moveTo>
                  <a:pt x="302" y="485"/>
                </a:moveTo>
                <a:lnTo>
                  <a:pt x="318" y="481"/>
                </a:lnTo>
                <a:lnTo>
                  <a:pt x="323" y="498"/>
                </a:lnTo>
                <a:lnTo>
                  <a:pt x="306" y="502"/>
                </a:lnTo>
                <a:lnTo>
                  <a:pt x="302" y="485"/>
                </a:lnTo>
                <a:close/>
                <a:moveTo>
                  <a:pt x="369" y="467"/>
                </a:moveTo>
                <a:lnTo>
                  <a:pt x="436" y="449"/>
                </a:lnTo>
                <a:lnTo>
                  <a:pt x="440" y="466"/>
                </a:lnTo>
                <a:lnTo>
                  <a:pt x="373" y="484"/>
                </a:lnTo>
                <a:lnTo>
                  <a:pt x="369" y="467"/>
                </a:lnTo>
                <a:close/>
                <a:moveTo>
                  <a:pt x="486" y="435"/>
                </a:moveTo>
                <a:lnTo>
                  <a:pt x="503" y="431"/>
                </a:lnTo>
                <a:lnTo>
                  <a:pt x="507" y="448"/>
                </a:lnTo>
                <a:lnTo>
                  <a:pt x="490" y="452"/>
                </a:lnTo>
                <a:lnTo>
                  <a:pt x="486" y="435"/>
                </a:lnTo>
                <a:close/>
                <a:moveTo>
                  <a:pt x="553" y="417"/>
                </a:moveTo>
                <a:lnTo>
                  <a:pt x="620" y="399"/>
                </a:lnTo>
                <a:lnTo>
                  <a:pt x="624" y="416"/>
                </a:lnTo>
                <a:lnTo>
                  <a:pt x="557" y="434"/>
                </a:lnTo>
                <a:lnTo>
                  <a:pt x="553" y="417"/>
                </a:lnTo>
                <a:close/>
                <a:moveTo>
                  <a:pt x="670" y="386"/>
                </a:moveTo>
                <a:lnTo>
                  <a:pt x="687" y="381"/>
                </a:lnTo>
                <a:lnTo>
                  <a:pt x="691" y="398"/>
                </a:lnTo>
                <a:lnTo>
                  <a:pt x="675" y="402"/>
                </a:lnTo>
                <a:lnTo>
                  <a:pt x="670" y="386"/>
                </a:lnTo>
                <a:close/>
                <a:moveTo>
                  <a:pt x="737" y="367"/>
                </a:moveTo>
                <a:lnTo>
                  <a:pt x="804" y="349"/>
                </a:lnTo>
                <a:lnTo>
                  <a:pt x="809" y="366"/>
                </a:lnTo>
                <a:lnTo>
                  <a:pt x="742" y="384"/>
                </a:lnTo>
                <a:lnTo>
                  <a:pt x="737" y="367"/>
                </a:lnTo>
                <a:close/>
                <a:moveTo>
                  <a:pt x="854" y="336"/>
                </a:moveTo>
                <a:lnTo>
                  <a:pt x="871" y="331"/>
                </a:lnTo>
                <a:lnTo>
                  <a:pt x="876" y="348"/>
                </a:lnTo>
                <a:lnTo>
                  <a:pt x="859" y="352"/>
                </a:lnTo>
                <a:lnTo>
                  <a:pt x="854" y="336"/>
                </a:lnTo>
                <a:close/>
                <a:moveTo>
                  <a:pt x="921" y="317"/>
                </a:moveTo>
                <a:lnTo>
                  <a:pt x="988" y="299"/>
                </a:lnTo>
                <a:lnTo>
                  <a:pt x="993" y="316"/>
                </a:lnTo>
                <a:lnTo>
                  <a:pt x="926" y="334"/>
                </a:lnTo>
                <a:lnTo>
                  <a:pt x="921" y="317"/>
                </a:lnTo>
                <a:close/>
                <a:moveTo>
                  <a:pt x="1039" y="286"/>
                </a:moveTo>
                <a:lnTo>
                  <a:pt x="1055" y="281"/>
                </a:lnTo>
                <a:lnTo>
                  <a:pt x="1060" y="298"/>
                </a:lnTo>
                <a:lnTo>
                  <a:pt x="1043" y="302"/>
                </a:lnTo>
                <a:lnTo>
                  <a:pt x="1039" y="286"/>
                </a:lnTo>
                <a:close/>
                <a:moveTo>
                  <a:pt x="1106" y="267"/>
                </a:moveTo>
                <a:lnTo>
                  <a:pt x="1173" y="249"/>
                </a:lnTo>
                <a:lnTo>
                  <a:pt x="1177" y="266"/>
                </a:lnTo>
                <a:lnTo>
                  <a:pt x="1110" y="284"/>
                </a:lnTo>
                <a:lnTo>
                  <a:pt x="1106" y="267"/>
                </a:lnTo>
                <a:close/>
                <a:moveTo>
                  <a:pt x="1223" y="236"/>
                </a:moveTo>
                <a:lnTo>
                  <a:pt x="1240" y="231"/>
                </a:lnTo>
                <a:lnTo>
                  <a:pt x="1244" y="248"/>
                </a:lnTo>
                <a:lnTo>
                  <a:pt x="1227" y="253"/>
                </a:lnTo>
                <a:lnTo>
                  <a:pt x="1223" y="236"/>
                </a:lnTo>
                <a:close/>
                <a:moveTo>
                  <a:pt x="1290" y="218"/>
                </a:moveTo>
                <a:lnTo>
                  <a:pt x="1357" y="199"/>
                </a:lnTo>
                <a:lnTo>
                  <a:pt x="1361" y="216"/>
                </a:lnTo>
                <a:lnTo>
                  <a:pt x="1294" y="234"/>
                </a:lnTo>
                <a:lnTo>
                  <a:pt x="1290" y="218"/>
                </a:lnTo>
                <a:close/>
                <a:moveTo>
                  <a:pt x="1407" y="186"/>
                </a:moveTo>
                <a:lnTo>
                  <a:pt x="1424" y="181"/>
                </a:lnTo>
                <a:lnTo>
                  <a:pt x="1428" y="198"/>
                </a:lnTo>
                <a:lnTo>
                  <a:pt x="1412" y="203"/>
                </a:lnTo>
                <a:lnTo>
                  <a:pt x="1407" y="186"/>
                </a:lnTo>
                <a:close/>
                <a:moveTo>
                  <a:pt x="1474" y="168"/>
                </a:moveTo>
                <a:lnTo>
                  <a:pt x="1541" y="149"/>
                </a:lnTo>
                <a:lnTo>
                  <a:pt x="1546" y="166"/>
                </a:lnTo>
                <a:lnTo>
                  <a:pt x="1479" y="184"/>
                </a:lnTo>
                <a:lnTo>
                  <a:pt x="1474" y="168"/>
                </a:lnTo>
                <a:close/>
                <a:moveTo>
                  <a:pt x="1591" y="136"/>
                </a:moveTo>
                <a:lnTo>
                  <a:pt x="1608" y="131"/>
                </a:lnTo>
                <a:lnTo>
                  <a:pt x="1613" y="148"/>
                </a:lnTo>
                <a:lnTo>
                  <a:pt x="1596" y="153"/>
                </a:lnTo>
                <a:lnTo>
                  <a:pt x="1591" y="136"/>
                </a:lnTo>
                <a:close/>
                <a:moveTo>
                  <a:pt x="1658" y="118"/>
                </a:moveTo>
                <a:lnTo>
                  <a:pt x="1725" y="100"/>
                </a:lnTo>
                <a:lnTo>
                  <a:pt x="1730" y="116"/>
                </a:lnTo>
                <a:lnTo>
                  <a:pt x="1663" y="134"/>
                </a:lnTo>
                <a:lnTo>
                  <a:pt x="1658" y="118"/>
                </a:lnTo>
                <a:close/>
                <a:moveTo>
                  <a:pt x="1776" y="86"/>
                </a:moveTo>
                <a:lnTo>
                  <a:pt x="1792" y="81"/>
                </a:lnTo>
                <a:lnTo>
                  <a:pt x="1797" y="98"/>
                </a:lnTo>
                <a:lnTo>
                  <a:pt x="1780" y="103"/>
                </a:lnTo>
                <a:lnTo>
                  <a:pt x="1776" y="86"/>
                </a:lnTo>
                <a:close/>
                <a:moveTo>
                  <a:pt x="1843" y="68"/>
                </a:moveTo>
                <a:lnTo>
                  <a:pt x="1910" y="50"/>
                </a:lnTo>
                <a:lnTo>
                  <a:pt x="1914" y="66"/>
                </a:lnTo>
                <a:lnTo>
                  <a:pt x="1847" y="84"/>
                </a:lnTo>
                <a:lnTo>
                  <a:pt x="1843" y="68"/>
                </a:lnTo>
                <a:close/>
                <a:moveTo>
                  <a:pt x="1960" y="36"/>
                </a:moveTo>
                <a:lnTo>
                  <a:pt x="1977" y="31"/>
                </a:lnTo>
                <a:lnTo>
                  <a:pt x="1981" y="48"/>
                </a:lnTo>
                <a:lnTo>
                  <a:pt x="1964" y="53"/>
                </a:lnTo>
                <a:lnTo>
                  <a:pt x="1960" y="36"/>
                </a:lnTo>
                <a:close/>
                <a:moveTo>
                  <a:pt x="2027" y="18"/>
                </a:moveTo>
                <a:lnTo>
                  <a:pt x="2094" y="0"/>
                </a:lnTo>
                <a:lnTo>
                  <a:pt x="2098" y="16"/>
                </a:lnTo>
                <a:lnTo>
                  <a:pt x="2031" y="34"/>
                </a:lnTo>
                <a:lnTo>
                  <a:pt x="2027" y="18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03920" y="2384280"/>
            <a:ext cx="73080" cy="74880"/>
          </a:xfrm>
          <a:custGeom>
            <a:avLst/>
            <a:gdLst/>
            <a:ahLst/>
            <a:rect l="l" t="t" r="r" b="b"/>
            <a:pathLst>
              <a:path w="46" h="47">
                <a:moveTo>
                  <a:pt x="0" y="0"/>
                </a:moveTo>
                <a:lnTo>
                  <a:pt x="46" y="24"/>
                </a:lnTo>
                <a:lnTo>
                  <a:pt x="0" y="4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19200" y="2011320"/>
            <a:ext cx="106560" cy="3328920"/>
          </a:xfrm>
          <a:custGeom>
            <a:avLst/>
            <a:gdLst/>
            <a:ahLst/>
            <a:rect l="l" t="t" r="r" b="b"/>
            <a:pathLst>
              <a:path w="581" h="18115">
                <a:moveTo>
                  <a:pt x="340" y="99"/>
                </a:moveTo>
                <a:lnTo>
                  <a:pt x="340" y="18115"/>
                </a:lnTo>
                <a:lnTo>
                  <a:pt x="240" y="18115"/>
                </a:lnTo>
                <a:lnTo>
                  <a:pt x="240" y="99"/>
                </a:lnTo>
                <a:lnTo>
                  <a:pt x="340" y="99"/>
                </a:lnTo>
                <a:close/>
                <a:moveTo>
                  <a:pt x="14" y="474"/>
                </a:moveTo>
                <a:lnTo>
                  <a:pt x="290" y="0"/>
                </a:lnTo>
                <a:lnTo>
                  <a:pt x="567" y="474"/>
                </a:lnTo>
                <a:cubicBezTo>
                  <a:pt x="581" y="497"/>
                  <a:pt x="573" y="528"/>
                  <a:pt x="549" y="542"/>
                </a:cubicBezTo>
                <a:cubicBezTo>
                  <a:pt x="525" y="556"/>
                  <a:pt x="494" y="548"/>
                  <a:pt x="480" y="524"/>
                </a:cubicBezTo>
                <a:lnTo>
                  <a:pt x="247" y="124"/>
                </a:lnTo>
                <a:lnTo>
                  <a:pt x="333" y="124"/>
                </a:lnTo>
                <a:lnTo>
                  <a:pt x="100" y="524"/>
                </a:lnTo>
                <a:cubicBezTo>
                  <a:pt x="86" y="548"/>
                  <a:pt x="55" y="556"/>
                  <a:pt x="32" y="542"/>
                </a:cubicBezTo>
                <a:cubicBezTo>
                  <a:pt x="8" y="528"/>
                  <a:pt x="0" y="497"/>
                  <a:pt x="14" y="474"/>
                </a:cubicBez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73200" y="5286240"/>
            <a:ext cx="6450120" cy="108000"/>
          </a:xfrm>
          <a:custGeom>
            <a:avLst/>
            <a:gdLst/>
            <a:ahLst/>
            <a:rect l="l" t="t" r="r" b="b"/>
            <a:pathLst>
              <a:path w="17558" h="291">
                <a:moveTo>
                  <a:pt x="0" y="120"/>
                </a:moveTo>
                <a:lnTo>
                  <a:pt x="17509" y="120"/>
                </a:lnTo>
                <a:lnTo>
                  <a:pt x="17509" y="170"/>
                </a:lnTo>
                <a:lnTo>
                  <a:pt x="0" y="170"/>
                </a:lnTo>
                <a:lnTo>
                  <a:pt x="0" y="120"/>
                </a:lnTo>
                <a:close/>
                <a:moveTo>
                  <a:pt x="17321" y="7"/>
                </a:moveTo>
                <a:lnTo>
                  <a:pt x="17558" y="145"/>
                </a:lnTo>
                <a:lnTo>
                  <a:pt x="17321" y="284"/>
                </a:lnTo>
                <a:cubicBezTo>
                  <a:pt x="17309" y="291"/>
                  <a:pt x="17294" y="287"/>
                  <a:pt x="17287" y="275"/>
                </a:cubicBezTo>
                <a:cubicBezTo>
                  <a:pt x="17280" y="263"/>
                  <a:pt x="17284" y="247"/>
                  <a:pt x="17296" y="241"/>
                </a:cubicBezTo>
                <a:lnTo>
                  <a:pt x="17496" y="124"/>
                </a:lnTo>
                <a:lnTo>
                  <a:pt x="17496" y="167"/>
                </a:lnTo>
                <a:lnTo>
                  <a:pt x="17296" y="50"/>
                </a:lnTo>
                <a:cubicBezTo>
                  <a:pt x="17284" y="43"/>
                  <a:pt x="17280" y="28"/>
                  <a:pt x="17287" y="16"/>
                </a:cubicBezTo>
                <a:cubicBezTo>
                  <a:pt x="17294" y="4"/>
                  <a:pt x="17309" y="0"/>
                  <a:pt x="17321" y="7"/>
                </a:cubicBez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2276640"/>
            <a:ext cx="143964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Середній тари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за використання мереж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35480" y="5484960"/>
            <a:ext cx="30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ча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95360" y="2125800"/>
            <a:ext cx="2719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вень, який відображає витра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основі переоцінки актив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00480" y="2071800"/>
            <a:ext cx="9360" cy="3251160"/>
          </a:xfrm>
          <a:custGeom>
            <a:avLst/>
            <a:gdLst/>
            <a:ahLst/>
            <a:rect l="l" t="t" r="r" b="b"/>
            <a:pathLst>
              <a:path w="50" h="17700">
                <a:moveTo>
                  <a:pt x="50" y="25"/>
                </a:moveTo>
                <a:lnTo>
                  <a:pt x="50" y="175"/>
                </a:lnTo>
                <a:cubicBezTo>
                  <a:pt x="50" y="189"/>
                  <a:pt x="39" y="200"/>
                  <a:pt x="25" y="200"/>
                </a:cubicBezTo>
                <a:cubicBezTo>
                  <a:pt x="12" y="200"/>
                  <a:pt x="0" y="189"/>
                  <a:pt x="0" y="175"/>
                </a:cubicBezTo>
                <a:lnTo>
                  <a:pt x="0" y="25"/>
                </a:lnTo>
                <a:cubicBezTo>
                  <a:pt x="0" y="11"/>
                  <a:pt x="12" y="0"/>
                  <a:pt x="25" y="0"/>
                </a:cubicBezTo>
                <a:cubicBezTo>
                  <a:pt x="39" y="0"/>
                  <a:pt x="50" y="11"/>
                  <a:pt x="50" y="25"/>
                </a:cubicBezTo>
                <a:close/>
                <a:moveTo>
                  <a:pt x="50" y="375"/>
                </a:moveTo>
                <a:lnTo>
                  <a:pt x="50" y="525"/>
                </a:lnTo>
                <a:cubicBezTo>
                  <a:pt x="50" y="539"/>
                  <a:pt x="39" y="550"/>
                  <a:pt x="25" y="550"/>
                </a:cubicBezTo>
                <a:cubicBezTo>
                  <a:pt x="12" y="550"/>
                  <a:pt x="0" y="539"/>
                  <a:pt x="0" y="525"/>
                </a:cubicBezTo>
                <a:lnTo>
                  <a:pt x="0" y="375"/>
                </a:lnTo>
                <a:cubicBezTo>
                  <a:pt x="0" y="361"/>
                  <a:pt x="12" y="350"/>
                  <a:pt x="25" y="350"/>
                </a:cubicBezTo>
                <a:cubicBezTo>
                  <a:pt x="39" y="350"/>
                  <a:pt x="50" y="361"/>
                  <a:pt x="50" y="375"/>
                </a:cubicBezTo>
                <a:close/>
                <a:moveTo>
                  <a:pt x="50" y="725"/>
                </a:moveTo>
                <a:lnTo>
                  <a:pt x="50" y="875"/>
                </a:lnTo>
                <a:cubicBezTo>
                  <a:pt x="50" y="889"/>
                  <a:pt x="39" y="900"/>
                  <a:pt x="25" y="900"/>
                </a:cubicBezTo>
                <a:cubicBezTo>
                  <a:pt x="12" y="900"/>
                  <a:pt x="0" y="889"/>
                  <a:pt x="0" y="875"/>
                </a:cubicBezTo>
                <a:lnTo>
                  <a:pt x="0" y="725"/>
                </a:lnTo>
                <a:cubicBezTo>
                  <a:pt x="0" y="711"/>
                  <a:pt x="12" y="700"/>
                  <a:pt x="25" y="700"/>
                </a:cubicBezTo>
                <a:cubicBezTo>
                  <a:pt x="39" y="700"/>
                  <a:pt x="50" y="711"/>
                  <a:pt x="50" y="725"/>
                </a:cubicBezTo>
                <a:close/>
                <a:moveTo>
                  <a:pt x="50" y="1075"/>
                </a:moveTo>
                <a:lnTo>
                  <a:pt x="50" y="1225"/>
                </a:lnTo>
                <a:cubicBezTo>
                  <a:pt x="50" y="1239"/>
                  <a:pt x="39" y="1250"/>
                  <a:pt x="25" y="1250"/>
                </a:cubicBezTo>
                <a:cubicBezTo>
                  <a:pt x="12" y="1250"/>
                  <a:pt x="0" y="1239"/>
                  <a:pt x="0" y="1225"/>
                </a:cubicBezTo>
                <a:lnTo>
                  <a:pt x="0" y="1075"/>
                </a:lnTo>
                <a:cubicBezTo>
                  <a:pt x="0" y="1061"/>
                  <a:pt x="12" y="1050"/>
                  <a:pt x="25" y="1050"/>
                </a:cubicBezTo>
                <a:cubicBezTo>
                  <a:pt x="39" y="1050"/>
                  <a:pt x="50" y="1061"/>
                  <a:pt x="50" y="1075"/>
                </a:cubicBezTo>
                <a:close/>
                <a:moveTo>
                  <a:pt x="50" y="1425"/>
                </a:moveTo>
                <a:lnTo>
                  <a:pt x="50" y="1575"/>
                </a:lnTo>
                <a:cubicBezTo>
                  <a:pt x="50" y="1589"/>
                  <a:pt x="39" y="1600"/>
                  <a:pt x="25" y="1600"/>
                </a:cubicBezTo>
                <a:cubicBezTo>
                  <a:pt x="12" y="1600"/>
                  <a:pt x="0" y="1589"/>
                  <a:pt x="0" y="1575"/>
                </a:cubicBezTo>
                <a:lnTo>
                  <a:pt x="0" y="1425"/>
                </a:lnTo>
                <a:cubicBezTo>
                  <a:pt x="0" y="1411"/>
                  <a:pt x="12" y="1400"/>
                  <a:pt x="25" y="1400"/>
                </a:cubicBezTo>
                <a:cubicBezTo>
                  <a:pt x="39" y="1400"/>
                  <a:pt x="50" y="1411"/>
                  <a:pt x="50" y="1425"/>
                </a:cubicBezTo>
                <a:close/>
                <a:moveTo>
                  <a:pt x="50" y="1775"/>
                </a:moveTo>
                <a:lnTo>
                  <a:pt x="50" y="1925"/>
                </a:lnTo>
                <a:cubicBezTo>
                  <a:pt x="50" y="1939"/>
                  <a:pt x="39" y="1950"/>
                  <a:pt x="25" y="1950"/>
                </a:cubicBezTo>
                <a:cubicBezTo>
                  <a:pt x="12" y="1950"/>
                  <a:pt x="0" y="1939"/>
                  <a:pt x="0" y="1925"/>
                </a:cubicBezTo>
                <a:lnTo>
                  <a:pt x="0" y="1775"/>
                </a:lnTo>
                <a:cubicBezTo>
                  <a:pt x="0" y="1761"/>
                  <a:pt x="12" y="1750"/>
                  <a:pt x="25" y="1750"/>
                </a:cubicBezTo>
                <a:cubicBezTo>
                  <a:pt x="39" y="1750"/>
                  <a:pt x="50" y="1761"/>
                  <a:pt x="50" y="1775"/>
                </a:cubicBezTo>
                <a:close/>
                <a:moveTo>
                  <a:pt x="50" y="2125"/>
                </a:moveTo>
                <a:lnTo>
                  <a:pt x="50" y="2275"/>
                </a:lnTo>
                <a:cubicBezTo>
                  <a:pt x="50" y="2289"/>
                  <a:pt x="39" y="2300"/>
                  <a:pt x="25" y="2300"/>
                </a:cubicBezTo>
                <a:cubicBezTo>
                  <a:pt x="12" y="2300"/>
                  <a:pt x="0" y="2289"/>
                  <a:pt x="0" y="2275"/>
                </a:cubicBezTo>
                <a:lnTo>
                  <a:pt x="0" y="2125"/>
                </a:lnTo>
                <a:cubicBezTo>
                  <a:pt x="0" y="2111"/>
                  <a:pt x="12" y="2100"/>
                  <a:pt x="25" y="2100"/>
                </a:cubicBezTo>
                <a:cubicBezTo>
                  <a:pt x="39" y="2100"/>
                  <a:pt x="50" y="2111"/>
                  <a:pt x="50" y="2125"/>
                </a:cubicBezTo>
                <a:close/>
                <a:moveTo>
                  <a:pt x="50" y="2475"/>
                </a:moveTo>
                <a:lnTo>
                  <a:pt x="50" y="2625"/>
                </a:lnTo>
                <a:cubicBezTo>
                  <a:pt x="50" y="2639"/>
                  <a:pt x="39" y="2650"/>
                  <a:pt x="25" y="2650"/>
                </a:cubicBezTo>
                <a:cubicBezTo>
                  <a:pt x="12" y="2650"/>
                  <a:pt x="0" y="2639"/>
                  <a:pt x="0" y="2625"/>
                </a:cubicBezTo>
                <a:lnTo>
                  <a:pt x="0" y="2475"/>
                </a:lnTo>
                <a:cubicBezTo>
                  <a:pt x="0" y="2461"/>
                  <a:pt x="12" y="2450"/>
                  <a:pt x="25" y="2450"/>
                </a:cubicBezTo>
                <a:cubicBezTo>
                  <a:pt x="39" y="2450"/>
                  <a:pt x="50" y="2461"/>
                  <a:pt x="50" y="2475"/>
                </a:cubicBezTo>
                <a:close/>
                <a:moveTo>
                  <a:pt x="50" y="2825"/>
                </a:moveTo>
                <a:lnTo>
                  <a:pt x="50" y="2975"/>
                </a:lnTo>
                <a:cubicBezTo>
                  <a:pt x="50" y="2989"/>
                  <a:pt x="39" y="3000"/>
                  <a:pt x="25" y="3000"/>
                </a:cubicBezTo>
                <a:cubicBezTo>
                  <a:pt x="12" y="3000"/>
                  <a:pt x="0" y="2989"/>
                  <a:pt x="0" y="2975"/>
                </a:cubicBezTo>
                <a:lnTo>
                  <a:pt x="0" y="2825"/>
                </a:lnTo>
                <a:cubicBezTo>
                  <a:pt x="0" y="2811"/>
                  <a:pt x="12" y="2800"/>
                  <a:pt x="25" y="2800"/>
                </a:cubicBezTo>
                <a:cubicBezTo>
                  <a:pt x="39" y="2800"/>
                  <a:pt x="50" y="2811"/>
                  <a:pt x="50" y="2825"/>
                </a:cubicBezTo>
                <a:close/>
                <a:moveTo>
                  <a:pt x="50" y="3175"/>
                </a:moveTo>
                <a:lnTo>
                  <a:pt x="50" y="3325"/>
                </a:lnTo>
                <a:cubicBezTo>
                  <a:pt x="50" y="3339"/>
                  <a:pt x="39" y="3350"/>
                  <a:pt x="25" y="3350"/>
                </a:cubicBezTo>
                <a:cubicBezTo>
                  <a:pt x="12" y="3350"/>
                  <a:pt x="0" y="3339"/>
                  <a:pt x="0" y="3325"/>
                </a:cubicBezTo>
                <a:lnTo>
                  <a:pt x="0" y="3175"/>
                </a:lnTo>
                <a:cubicBezTo>
                  <a:pt x="0" y="3161"/>
                  <a:pt x="12" y="3150"/>
                  <a:pt x="25" y="3150"/>
                </a:cubicBezTo>
                <a:cubicBezTo>
                  <a:pt x="39" y="3150"/>
                  <a:pt x="50" y="3161"/>
                  <a:pt x="50" y="3175"/>
                </a:cubicBezTo>
                <a:close/>
                <a:moveTo>
                  <a:pt x="50" y="3525"/>
                </a:moveTo>
                <a:lnTo>
                  <a:pt x="50" y="3675"/>
                </a:lnTo>
                <a:cubicBezTo>
                  <a:pt x="50" y="3689"/>
                  <a:pt x="39" y="3700"/>
                  <a:pt x="25" y="3700"/>
                </a:cubicBezTo>
                <a:cubicBezTo>
                  <a:pt x="12" y="3700"/>
                  <a:pt x="0" y="3689"/>
                  <a:pt x="0" y="3675"/>
                </a:cubicBezTo>
                <a:lnTo>
                  <a:pt x="0" y="3525"/>
                </a:lnTo>
                <a:cubicBezTo>
                  <a:pt x="0" y="3511"/>
                  <a:pt x="12" y="3500"/>
                  <a:pt x="25" y="3500"/>
                </a:cubicBezTo>
                <a:cubicBezTo>
                  <a:pt x="39" y="3500"/>
                  <a:pt x="50" y="3511"/>
                  <a:pt x="50" y="3525"/>
                </a:cubicBezTo>
                <a:close/>
                <a:moveTo>
                  <a:pt x="50" y="3875"/>
                </a:moveTo>
                <a:lnTo>
                  <a:pt x="50" y="4025"/>
                </a:lnTo>
                <a:cubicBezTo>
                  <a:pt x="50" y="4039"/>
                  <a:pt x="39" y="4050"/>
                  <a:pt x="25" y="4050"/>
                </a:cubicBezTo>
                <a:cubicBezTo>
                  <a:pt x="12" y="4050"/>
                  <a:pt x="0" y="4039"/>
                  <a:pt x="0" y="4025"/>
                </a:cubicBezTo>
                <a:lnTo>
                  <a:pt x="0" y="3875"/>
                </a:lnTo>
                <a:cubicBezTo>
                  <a:pt x="0" y="3861"/>
                  <a:pt x="12" y="3850"/>
                  <a:pt x="25" y="3850"/>
                </a:cubicBezTo>
                <a:cubicBezTo>
                  <a:pt x="39" y="3850"/>
                  <a:pt x="50" y="3861"/>
                  <a:pt x="50" y="3875"/>
                </a:cubicBezTo>
                <a:close/>
                <a:moveTo>
                  <a:pt x="50" y="4225"/>
                </a:moveTo>
                <a:lnTo>
                  <a:pt x="50" y="4375"/>
                </a:lnTo>
                <a:cubicBezTo>
                  <a:pt x="50" y="4389"/>
                  <a:pt x="39" y="4400"/>
                  <a:pt x="25" y="4400"/>
                </a:cubicBezTo>
                <a:cubicBezTo>
                  <a:pt x="12" y="4400"/>
                  <a:pt x="0" y="4389"/>
                  <a:pt x="0" y="4375"/>
                </a:cubicBezTo>
                <a:lnTo>
                  <a:pt x="0" y="4225"/>
                </a:lnTo>
                <a:cubicBezTo>
                  <a:pt x="0" y="4211"/>
                  <a:pt x="12" y="4200"/>
                  <a:pt x="25" y="4200"/>
                </a:cubicBezTo>
                <a:cubicBezTo>
                  <a:pt x="39" y="4200"/>
                  <a:pt x="50" y="4211"/>
                  <a:pt x="50" y="4225"/>
                </a:cubicBezTo>
                <a:close/>
                <a:moveTo>
                  <a:pt x="50" y="4575"/>
                </a:moveTo>
                <a:lnTo>
                  <a:pt x="50" y="4725"/>
                </a:lnTo>
                <a:cubicBezTo>
                  <a:pt x="50" y="4739"/>
                  <a:pt x="39" y="4750"/>
                  <a:pt x="25" y="4750"/>
                </a:cubicBezTo>
                <a:cubicBezTo>
                  <a:pt x="12" y="4750"/>
                  <a:pt x="0" y="4739"/>
                  <a:pt x="0" y="4725"/>
                </a:cubicBezTo>
                <a:lnTo>
                  <a:pt x="0" y="4575"/>
                </a:lnTo>
                <a:cubicBezTo>
                  <a:pt x="0" y="4561"/>
                  <a:pt x="12" y="4550"/>
                  <a:pt x="25" y="4550"/>
                </a:cubicBezTo>
                <a:cubicBezTo>
                  <a:pt x="39" y="4550"/>
                  <a:pt x="50" y="4561"/>
                  <a:pt x="50" y="4575"/>
                </a:cubicBezTo>
                <a:close/>
                <a:moveTo>
                  <a:pt x="50" y="4925"/>
                </a:moveTo>
                <a:lnTo>
                  <a:pt x="50" y="5075"/>
                </a:lnTo>
                <a:cubicBezTo>
                  <a:pt x="50" y="5089"/>
                  <a:pt x="39" y="5100"/>
                  <a:pt x="25" y="5100"/>
                </a:cubicBezTo>
                <a:cubicBezTo>
                  <a:pt x="12" y="5100"/>
                  <a:pt x="0" y="5089"/>
                  <a:pt x="0" y="5075"/>
                </a:cubicBezTo>
                <a:lnTo>
                  <a:pt x="0" y="4925"/>
                </a:lnTo>
                <a:cubicBezTo>
                  <a:pt x="0" y="4911"/>
                  <a:pt x="12" y="4900"/>
                  <a:pt x="25" y="4900"/>
                </a:cubicBezTo>
                <a:cubicBezTo>
                  <a:pt x="39" y="4900"/>
                  <a:pt x="50" y="4911"/>
                  <a:pt x="50" y="4925"/>
                </a:cubicBezTo>
                <a:close/>
                <a:moveTo>
                  <a:pt x="50" y="5275"/>
                </a:moveTo>
                <a:lnTo>
                  <a:pt x="50" y="5425"/>
                </a:lnTo>
                <a:cubicBezTo>
                  <a:pt x="50" y="5439"/>
                  <a:pt x="39" y="5450"/>
                  <a:pt x="25" y="5450"/>
                </a:cubicBezTo>
                <a:cubicBezTo>
                  <a:pt x="12" y="5450"/>
                  <a:pt x="0" y="5439"/>
                  <a:pt x="0" y="5425"/>
                </a:cubicBezTo>
                <a:lnTo>
                  <a:pt x="0" y="5275"/>
                </a:lnTo>
                <a:cubicBezTo>
                  <a:pt x="0" y="5261"/>
                  <a:pt x="12" y="5250"/>
                  <a:pt x="25" y="5250"/>
                </a:cubicBezTo>
                <a:cubicBezTo>
                  <a:pt x="39" y="5250"/>
                  <a:pt x="50" y="5261"/>
                  <a:pt x="50" y="5275"/>
                </a:cubicBezTo>
                <a:close/>
                <a:moveTo>
                  <a:pt x="50" y="5625"/>
                </a:moveTo>
                <a:lnTo>
                  <a:pt x="50" y="5775"/>
                </a:lnTo>
                <a:cubicBezTo>
                  <a:pt x="50" y="5789"/>
                  <a:pt x="39" y="5800"/>
                  <a:pt x="25" y="5800"/>
                </a:cubicBezTo>
                <a:cubicBezTo>
                  <a:pt x="12" y="5800"/>
                  <a:pt x="0" y="5789"/>
                  <a:pt x="0" y="5775"/>
                </a:cubicBezTo>
                <a:lnTo>
                  <a:pt x="0" y="5625"/>
                </a:lnTo>
                <a:cubicBezTo>
                  <a:pt x="0" y="5611"/>
                  <a:pt x="12" y="5600"/>
                  <a:pt x="25" y="5600"/>
                </a:cubicBezTo>
                <a:cubicBezTo>
                  <a:pt x="39" y="5600"/>
                  <a:pt x="50" y="5611"/>
                  <a:pt x="50" y="5625"/>
                </a:cubicBezTo>
                <a:close/>
                <a:moveTo>
                  <a:pt x="50" y="5975"/>
                </a:moveTo>
                <a:lnTo>
                  <a:pt x="50" y="6125"/>
                </a:lnTo>
                <a:cubicBezTo>
                  <a:pt x="50" y="6139"/>
                  <a:pt x="39" y="6150"/>
                  <a:pt x="25" y="6150"/>
                </a:cubicBezTo>
                <a:cubicBezTo>
                  <a:pt x="12" y="6150"/>
                  <a:pt x="0" y="6139"/>
                  <a:pt x="0" y="6125"/>
                </a:cubicBezTo>
                <a:lnTo>
                  <a:pt x="0" y="5975"/>
                </a:lnTo>
                <a:cubicBezTo>
                  <a:pt x="0" y="5961"/>
                  <a:pt x="12" y="5950"/>
                  <a:pt x="25" y="5950"/>
                </a:cubicBezTo>
                <a:cubicBezTo>
                  <a:pt x="39" y="5950"/>
                  <a:pt x="50" y="5961"/>
                  <a:pt x="50" y="5975"/>
                </a:cubicBezTo>
                <a:close/>
                <a:moveTo>
                  <a:pt x="50" y="6325"/>
                </a:moveTo>
                <a:lnTo>
                  <a:pt x="50" y="6475"/>
                </a:lnTo>
                <a:cubicBezTo>
                  <a:pt x="50" y="6489"/>
                  <a:pt x="39" y="6500"/>
                  <a:pt x="25" y="6500"/>
                </a:cubicBezTo>
                <a:cubicBezTo>
                  <a:pt x="12" y="6500"/>
                  <a:pt x="0" y="6489"/>
                  <a:pt x="0" y="6475"/>
                </a:cubicBezTo>
                <a:lnTo>
                  <a:pt x="0" y="6325"/>
                </a:lnTo>
                <a:cubicBezTo>
                  <a:pt x="0" y="6311"/>
                  <a:pt x="12" y="6300"/>
                  <a:pt x="25" y="6300"/>
                </a:cubicBezTo>
                <a:cubicBezTo>
                  <a:pt x="39" y="6300"/>
                  <a:pt x="50" y="6311"/>
                  <a:pt x="50" y="6325"/>
                </a:cubicBezTo>
                <a:close/>
                <a:moveTo>
                  <a:pt x="50" y="6675"/>
                </a:moveTo>
                <a:lnTo>
                  <a:pt x="50" y="6825"/>
                </a:lnTo>
                <a:cubicBezTo>
                  <a:pt x="50" y="6839"/>
                  <a:pt x="39" y="6850"/>
                  <a:pt x="25" y="6850"/>
                </a:cubicBezTo>
                <a:cubicBezTo>
                  <a:pt x="12" y="6850"/>
                  <a:pt x="0" y="6839"/>
                  <a:pt x="0" y="6825"/>
                </a:cubicBezTo>
                <a:lnTo>
                  <a:pt x="0" y="6675"/>
                </a:lnTo>
                <a:cubicBezTo>
                  <a:pt x="0" y="6661"/>
                  <a:pt x="12" y="6650"/>
                  <a:pt x="25" y="6650"/>
                </a:cubicBezTo>
                <a:cubicBezTo>
                  <a:pt x="39" y="6650"/>
                  <a:pt x="50" y="6661"/>
                  <a:pt x="50" y="6675"/>
                </a:cubicBezTo>
                <a:close/>
                <a:moveTo>
                  <a:pt x="50" y="7025"/>
                </a:moveTo>
                <a:lnTo>
                  <a:pt x="50" y="7175"/>
                </a:lnTo>
                <a:cubicBezTo>
                  <a:pt x="50" y="7189"/>
                  <a:pt x="39" y="7200"/>
                  <a:pt x="25" y="7200"/>
                </a:cubicBezTo>
                <a:cubicBezTo>
                  <a:pt x="12" y="7200"/>
                  <a:pt x="0" y="7189"/>
                  <a:pt x="0" y="7175"/>
                </a:cubicBezTo>
                <a:lnTo>
                  <a:pt x="0" y="7025"/>
                </a:lnTo>
                <a:cubicBezTo>
                  <a:pt x="0" y="7011"/>
                  <a:pt x="12" y="7000"/>
                  <a:pt x="25" y="7000"/>
                </a:cubicBezTo>
                <a:cubicBezTo>
                  <a:pt x="39" y="7000"/>
                  <a:pt x="50" y="7011"/>
                  <a:pt x="50" y="7025"/>
                </a:cubicBezTo>
                <a:close/>
                <a:moveTo>
                  <a:pt x="50" y="7375"/>
                </a:moveTo>
                <a:lnTo>
                  <a:pt x="50" y="7525"/>
                </a:lnTo>
                <a:cubicBezTo>
                  <a:pt x="50" y="7539"/>
                  <a:pt x="39" y="7550"/>
                  <a:pt x="25" y="7550"/>
                </a:cubicBezTo>
                <a:cubicBezTo>
                  <a:pt x="12" y="7550"/>
                  <a:pt x="0" y="7539"/>
                  <a:pt x="0" y="7525"/>
                </a:cubicBezTo>
                <a:lnTo>
                  <a:pt x="0" y="7375"/>
                </a:lnTo>
                <a:cubicBezTo>
                  <a:pt x="0" y="7361"/>
                  <a:pt x="12" y="7350"/>
                  <a:pt x="25" y="7350"/>
                </a:cubicBezTo>
                <a:cubicBezTo>
                  <a:pt x="39" y="7350"/>
                  <a:pt x="50" y="7361"/>
                  <a:pt x="50" y="7375"/>
                </a:cubicBezTo>
                <a:close/>
                <a:moveTo>
                  <a:pt x="50" y="7725"/>
                </a:moveTo>
                <a:lnTo>
                  <a:pt x="50" y="7875"/>
                </a:lnTo>
                <a:cubicBezTo>
                  <a:pt x="50" y="7889"/>
                  <a:pt x="39" y="7900"/>
                  <a:pt x="25" y="7900"/>
                </a:cubicBezTo>
                <a:cubicBezTo>
                  <a:pt x="12" y="7900"/>
                  <a:pt x="0" y="7889"/>
                  <a:pt x="0" y="7875"/>
                </a:cubicBezTo>
                <a:lnTo>
                  <a:pt x="0" y="7725"/>
                </a:lnTo>
                <a:cubicBezTo>
                  <a:pt x="0" y="7711"/>
                  <a:pt x="12" y="7700"/>
                  <a:pt x="25" y="7700"/>
                </a:cubicBezTo>
                <a:cubicBezTo>
                  <a:pt x="39" y="7700"/>
                  <a:pt x="50" y="7711"/>
                  <a:pt x="50" y="7725"/>
                </a:cubicBezTo>
                <a:close/>
                <a:moveTo>
                  <a:pt x="50" y="8075"/>
                </a:moveTo>
                <a:lnTo>
                  <a:pt x="50" y="8225"/>
                </a:lnTo>
                <a:cubicBezTo>
                  <a:pt x="50" y="8239"/>
                  <a:pt x="39" y="8250"/>
                  <a:pt x="25" y="8250"/>
                </a:cubicBezTo>
                <a:cubicBezTo>
                  <a:pt x="12" y="8250"/>
                  <a:pt x="0" y="8239"/>
                  <a:pt x="0" y="8225"/>
                </a:cubicBezTo>
                <a:lnTo>
                  <a:pt x="0" y="8075"/>
                </a:lnTo>
                <a:cubicBezTo>
                  <a:pt x="0" y="8061"/>
                  <a:pt x="12" y="8050"/>
                  <a:pt x="25" y="8050"/>
                </a:cubicBezTo>
                <a:cubicBezTo>
                  <a:pt x="39" y="8050"/>
                  <a:pt x="50" y="8061"/>
                  <a:pt x="50" y="8075"/>
                </a:cubicBezTo>
                <a:close/>
                <a:moveTo>
                  <a:pt x="50" y="8425"/>
                </a:moveTo>
                <a:lnTo>
                  <a:pt x="50" y="8575"/>
                </a:lnTo>
                <a:cubicBezTo>
                  <a:pt x="50" y="8589"/>
                  <a:pt x="39" y="8600"/>
                  <a:pt x="25" y="8600"/>
                </a:cubicBezTo>
                <a:cubicBezTo>
                  <a:pt x="12" y="8600"/>
                  <a:pt x="0" y="8589"/>
                  <a:pt x="0" y="8575"/>
                </a:cubicBezTo>
                <a:lnTo>
                  <a:pt x="0" y="8425"/>
                </a:lnTo>
                <a:cubicBezTo>
                  <a:pt x="0" y="8411"/>
                  <a:pt x="12" y="8400"/>
                  <a:pt x="25" y="8400"/>
                </a:cubicBezTo>
                <a:cubicBezTo>
                  <a:pt x="39" y="8400"/>
                  <a:pt x="50" y="8411"/>
                  <a:pt x="50" y="8425"/>
                </a:cubicBezTo>
                <a:close/>
                <a:moveTo>
                  <a:pt x="50" y="8775"/>
                </a:moveTo>
                <a:lnTo>
                  <a:pt x="50" y="8925"/>
                </a:lnTo>
                <a:cubicBezTo>
                  <a:pt x="50" y="8939"/>
                  <a:pt x="39" y="8950"/>
                  <a:pt x="25" y="8950"/>
                </a:cubicBezTo>
                <a:cubicBezTo>
                  <a:pt x="12" y="8950"/>
                  <a:pt x="0" y="8939"/>
                  <a:pt x="0" y="8925"/>
                </a:cubicBezTo>
                <a:lnTo>
                  <a:pt x="0" y="8775"/>
                </a:lnTo>
                <a:cubicBezTo>
                  <a:pt x="0" y="8761"/>
                  <a:pt x="12" y="8750"/>
                  <a:pt x="25" y="8750"/>
                </a:cubicBezTo>
                <a:cubicBezTo>
                  <a:pt x="39" y="8750"/>
                  <a:pt x="50" y="8761"/>
                  <a:pt x="50" y="8775"/>
                </a:cubicBezTo>
                <a:close/>
                <a:moveTo>
                  <a:pt x="50" y="9125"/>
                </a:moveTo>
                <a:lnTo>
                  <a:pt x="50" y="9275"/>
                </a:lnTo>
                <a:cubicBezTo>
                  <a:pt x="50" y="9289"/>
                  <a:pt x="39" y="9300"/>
                  <a:pt x="25" y="9300"/>
                </a:cubicBezTo>
                <a:cubicBezTo>
                  <a:pt x="12" y="9300"/>
                  <a:pt x="0" y="9289"/>
                  <a:pt x="0" y="9275"/>
                </a:cubicBezTo>
                <a:lnTo>
                  <a:pt x="0" y="9125"/>
                </a:lnTo>
                <a:cubicBezTo>
                  <a:pt x="0" y="9111"/>
                  <a:pt x="12" y="9100"/>
                  <a:pt x="25" y="9100"/>
                </a:cubicBezTo>
                <a:cubicBezTo>
                  <a:pt x="39" y="9100"/>
                  <a:pt x="50" y="9111"/>
                  <a:pt x="50" y="9125"/>
                </a:cubicBezTo>
                <a:close/>
                <a:moveTo>
                  <a:pt x="50" y="9475"/>
                </a:moveTo>
                <a:lnTo>
                  <a:pt x="50" y="9625"/>
                </a:lnTo>
                <a:cubicBezTo>
                  <a:pt x="50" y="9639"/>
                  <a:pt x="39" y="9650"/>
                  <a:pt x="25" y="9650"/>
                </a:cubicBezTo>
                <a:cubicBezTo>
                  <a:pt x="12" y="9650"/>
                  <a:pt x="0" y="9639"/>
                  <a:pt x="0" y="9625"/>
                </a:cubicBezTo>
                <a:lnTo>
                  <a:pt x="0" y="9475"/>
                </a:lnTo>
                <a:cubicBezTo>
                  <a:pt x="0" y="9461"/>
                  <a:pt x="12" y="9450"/>
                  <a:pt x="25" y="9450"/>
                </a:cubicBezTo>
                <a:cubicBezTo>
                  <a:pt x="39" y="9450"/>
                  <a:pt x="50" y="9461"/>
                  <a:pt x="50" y="9475"/>
                </a:cubicBezTo>
                <a:close/>
                <a:moveTo>
                  <a:pt x="50" y="9825"/>
                </a:moveTo>
                <a:lnTo>
                  <a:pt x="50" y="9975"/>
                </a:lnTo>
                <a:cubicBezTo>
                  <a:pt x="50" y="9989"/>
                  <a:pt x="39" y="10000"/>
                  <a:pt x="25" y="10000"/>
                </a:cubicBezTo>
                <a:cubicBezTo>
                  <a:pt x="12" y="10000"/>
                  <a:pt x="0" y="9989"/>
                  <a:pt x="0" y="9975"/>
                </a:cubicBezTo>
                <a:lnTo>
                  <a:pt x="0" y="9825"/>
                </a:lnTo>
                <a:cubicBezTo>
                  <a:pt x="0" y="9811"/>
                  <a:pt x="12" y="9800"/>
                  <a:pt x="25" y="9800"/>
                </a:cubicBezTo>
                <a:cubicBezTo>
                  <a:pt x="39" y="9800"/>
                  <a:pt x="50" y="9811"/>
                  <a:pt x="50" y="9825"/>
                </a:cubicBezTo>
                <a:close/>
                <a:moveTo>
                  <a:pt x="50" y="10175"/>
                </a:moveTo>
                <a:lnTo>
                  <a:pt x="50" y="10325"/>
                </a:lnTo>
                <a:cubicBezTo>
                  <a:pt x="50" y="10339"/>
                  <a:pt x="39" y="10350"/>
                  <a:pt x="25" y="10350"/>
                </a:cubicBezTo>
                <a:cubicBezTo>
                  <a:pt x="12" y="10350"/>
                  <a:pt x="0" y="10339"/>
                  <a:pt x="0" y="10325"/>
                </a:cubicBezTo>
                <a:lnTo>
                  <a:pt x="0" y="10175"/>
                </a:lnTo>
                <a:cubicBezTo>
                  <a:pt x="0" y="10161"/>
                  <a:pt x="12" y="10150"/>
                  <a:pt x="25" y="10150"/>
                </a:cubicBezTo>
                <a:cubicBezTo>
                  <a:pt x="39" y="10150"/>
                  <a:pt x="50" y="10161"/>
                  <a:pt x="50" y="10175"/>
                </a:cubicBezTo>
                <a:close/>
                <a:moveTo>
                  <a:pt x="50" y="10525"/>
                </a:moveTo>
                <a:lnTo>
                  <a:pt x="50" y="10675"/>
                </a:lnTo>
                <a:cubicBezTo>
                  <a:pt x="50" y="10689"/>
                  <a:pt x="39" y="10700"/>
                  <a:pt x="25" y="10700"/>
                </a:cubicBezTo>
                <a:cubicBezTo>
                  <a:pt x="12" y="10700"/>
                  <a:pt x="0" y="10689"/>
                  <a:pt x="0" y="10675"/>
                </a:cubicBezTo>
                <a:lnTo>
                  <a:pt x="0" y="10525"/>
                </a:lnTo>
                <a:cubicBezTo>
                  <a:pt x="0" y="10511"/>
                  <a:pt x="12" y="10500"/>
                  <a:pt x="25" y="10500"/>
                </a:cubicBezTo>
                <a:cubicBezTo>
                  <a:pt x="39" y="10500"/>
                  <a:pt x="50" y="10511"/>
                  <a:pt x="50" y="10525"/>
                </a:cubicBezTo>
                <a:close/>
                <a:moveTo>
                  <a:pt x="50" y="10875"/>
                </a:moveTo>
                <a:lnTo>
                  <a:pt x="50" y="11025"/>
                </a:lnTo>
                <a:cubicBezTo>
                  <a:pt x="50" y="11039"/>
                  <a:pt x="39" y="11050"/>
                  <a:pt x="25" y="11050"/>
                </a:cubicBezTo>
                <a:cubicBezTo>
                  <a:pt x="12" y="11050"/>
                  <a:pt x="0" y="11039"/>
                  <a:pt x="0" y="11025"/>
                </a:cubicBezTo>
                <a:lnTo>
                  <a:pt x="0" y="10875"/>
                </a:lnTo>
                <a:cubicBezTo>
                  <a:pt x="0" y="10861"/>
                  <a:pt x="12" y="10850"/>
                  <a:pt x="25" y="10850"/>
                </a:cubicBezTo>
                <a:cubicBezTo>
                  <a:pt x="39" y="10850"/>
                  <a:pt x="50" y="10861"/>
                  <a:pt x="50" y="10875"/>
                </a:cubicBezTo>
                <a:close/>
                <a:moveTo>
                  <a:pt x="50" y="11225"/>
                </a:moveTo>
                <a:lnTo>
                  <a:pt x="50" y="11375"/>
                </a:lnTo>
                <a:cubicBezTo>
                  <a:pt x="50" y="11389"/>
                  <a:pt x="39" y="11400"/>
                  <a:pt x="25" y="11400"/>
                </a:cubicBezTo>
                <a:cubicBezTo>
                  <a:pt x="12" y="11400"/>
                  <a:pt x="0" y="11389"/>
                  <a:pt x="0" y="11375"/>
                </a:cubicBezTo>
                <a:lnTo>
                  <a:pt x="0" y="11225"/>
                </a:lnTo>
                <a:cubicBezTo>
                  <a:pt x="0" y="11211"/>
                  <a:pt x="12" y="11200"/>
                  <a:pt x="25" y="11200"/>
                </a:cubicBezTo>
                <a:cubicBezTo>
                  <a:pt x="39" y="11200"/>
                  <a:pt x="50" y="11211"/>
                  <a:pt x="50" y="11225"/>
                </a:cubicBezTo>
                <a:close/>
                <a:moveTo>
                  <a:pt x="50" y="11575"/>
                </a:moveTo>
                <a:lnTo>
                  <a:pt x="50" y="11725"/>
                </a:lnTo>
                <a:cubicBezTo>
                  <a:pt x="50" y="11739"/>
                  <a:pt x="39" y="11750"/>
                  <a:pt x="25" y="11750"/>
                </a:cubicBezTo>
                <a:cubicBezTo>
                  <a:pt x="12" y="11750"/>
                  <a:pt x="0" y="11739"/>
                  <a:pt x="0" y="11725"/>
                </a:cubicBezTo>
                <a:lnTo>
                  <a:pt x="0" y="11575"/>
                </a:lnTo>
                <a:cubicBezTo>
                  <a:pt x="0" y="11561"/>
                  <a:pt x="12" y="11550"/>
                  <a:pt x="25" y="11550"/>
                </a:cubicBezTo>
                <a:cubicBezTo>
                  <a:pt x="39" y="11550"/>
                  <a:pt x="50" y="11561"/>
                  <a:pt x="50" y="11575"/>
                </a:cubicBezTo>
                <a:close/>
                <a:moveTo>
                  <a:pt x="50" y="11925"/>
                </a:moveTo>
                <a:lnTo>
                  <a:pt x="50" y="12075"/>
                </a:lnTo>
                <a:cubicBezTo>
                  <a:pt x="50" y="12089"/>
                  <a:pt x="39" y="12100"/>
                  <a:pt x="25" y="12100"/>
                </a:cubicBezTo>
                <a:cubicBezTo>
                  <a:pt x="12" y="12100"/>
                  <a:pt x="0" y="12089"/>
                  <a:pt x="0" y="12075"/>
                </a:cubicBezTo>
                <a:lnTo>
                  <a:pt x="0" y="11925"/>
                </a:lnTo>
                <a:cubicBezTo>
                  <a:pt x="0" y="11911"/>
                  <a:pt x="12" y="11900"/>
                  <a:pt x="25" y="11900"/>
                </a:cubicBezTo>
                <a:cubicBezTo>
                  <a:pt x="39" y="11900"/>
                  <a:pt x="50" y="11911"/>
                  <a:pt x="50" y="11925"/>
                </a:cubicBezTo>
                <a:close/>
                <a:moveTo>
                  <a:pt x="50" y="12275"/>
                </a:moveTo>
                <a:lnTo>
                  <a:pt x="50" y="12425"/>
                </a:lnTo>
                <a:cubicBezTo>
                  <a:pt x="50" y="12439"/>
                  <a:pt x="39" y="12450"/>
                  <a:pt x="25" y="12450"/>
                </a:cubicBezTo>
                <a:cubicBezTo>
                  <a:pt x="12" y="12450"/>
                  <a:pt x="0" y="12439"/>
                  <a:pt x="0" y="12425"/>
                </a:cubicBezTo>
                <a:lnTo>
                  <a:pt x="0" y="12275"/>
                </a:lnTo>
                <a:cubicBezTo>
                  <a:pt x="0" y="12261"/>
                  <a:pt x="12" y="12250"/>
                  <a:pt x="25" y="12250"/>
                </a:cubicBezTo>
                <a:cubicBezTo>
                  <a:pt x="39" y="12250"/>
                  <a:pt x="50" y="12261"/>
                  <a:pt x="50" y="12275"/>
                </a:cubicBezTo>
                <a:close/>
                <a:moveTo>
                  <a:pt x="50" y="12625"/>
                </a:moveTo>
                <a:lnTo>
                  <a:pt x="50" y="12775"/>
                </a:lnTo>
                <a:cubicBezTo>
                  <a:pt x="50" y="12789"/>
                  <a:pt x="39" y="12800"/>
                  <a:pt x="25" y="12800"/>
                </a:cubicBezTo>
                <a:cubicBezTo>
                  <a:pt x="12" y="12800"/>
                  <a:pt x="0" y="12789"/>
                  <a:pt x="0" y="12775"/>
                </a:cubicBezTo>
                <a:lnTo>
                  <a:pt x="0" y="12625"/>
                </a:lnTo>
                <a:cubicBezTo>
                  <a:pt x="0" y="12611"/>
                  <a:pt x="12" y="12600"/>
                  <a:pt x="25" y="12600"/>
                </a:cubicBezTo>
                <a:cubicBezTo>
                  <a:pt x="39" y="12600"/>
                  <a:pt x="50" y="12611"/>
                  <a:pt x="50" y="12625"/>
                </a:cubicBezTo>
                <a:close/>
                <a:moveTo>
                  <a:pt x="50" y="12975"/>
                </a:moveTo>
                <a:lnTo>
                  <a:pt x="50" y="13125"/>
                </a:lnTo>
                <a:cubicBezTo>
                  <a:pt x="50" y="13139"/>
                  <a:pt x="39" y="13150"/>
                  <a:pt x="25" y="13150"/>
                </a:cubicBezTo>
                <a:cubicBezTo>
                  <a:pt x="12" y="13150"/>
                  <a:pt x="0" y="13139"/>
                  <a:pt x="0" y="13125"/>
                </a:cubicBezTo>
                <a:lnTo>
                  <a:pt x="0" y="12975"/>
                </a:lnTo>
                <a:cubicBezTo>
                  <a:pt x="0" y="12961"/>
                  <a:pt x="12" y="12950"/>
                  <a:pt x="25" y="12950"/>
                </a:cubicBezTo>
                <a:cubicBezTo>
                  <a:pt x="39" y="12950"/>
                  <a:pt x="50" y="12961"/>
                  <a:pt x="50" y="12975"/>
                </a:cubicBezTo>
                <a:close/>
                <a:moveTo>
                  <a:pt x="50" y="13325"/>
                </a:moveTo>
                <a:lnTo>
                  <a:pt x="50" y="13475"/>
                </a:lnTo>
                <a:cubicBezTo>
                  <a:pt x="50" y="13489"/>
                  <a:pt x="39" y="13500"/>
                  <a:pt x="25" y="13500"/>
                </a:cubicBezTo>
                <a:cubicBezTo>
                  <a:pt x="12" y="13500"/>
                  <a:pt x="0" y="13489"/>
                  <a:pt x="0" y="13475"/>
                </a:cubicBezTo>
                <a:lnTo>
                  <a:pt x="0" y="13325"/>
                </a:lnTo>
                <a:cubicBezTo>
                  <a:pt x="0" y="13311"/>
                  <a:pt x="12" y="13300"/>
                  <a:pt x="25" y="13300"/>
                </a:cubicBezTo>
                <a:cubicBezTo>
                  <a:pt x="39" y="13300"/>
                  <a:pt x="50" y="13311"/>
                  <a:pt x="50" y="13325"/>
                </a:cubicBezTo>
                <a:close/>
                <a:moveTo>
                  <a:pt x="50" y="13675"/>
                </a:moveTo>
                <a:lnTo>
                  <a:pt x="50" y="13825"/>
                </a:lnTo>
                <a:cubicBezTo>
                  <a:pt x="50" y="13839"/>
                  <a:pt x="39" y="13850"/>
                  <a:pt x="25" y="13850"/>
                </a:cubicBezTo>
                <a:cubicBezTo>
                  <a:pt x="12" y="13850"/>
                  <a:pt x="0" y="13839"/>
                  <a:pt x="0" y="13825"/>
                </a:cubicBezTo>
                <a:lnTo>
                  <a:pt x="0" y="13675"/>
                </a:lnTo>
                <a:cubicBezTo>
                  <a:pt x="0" y="13661"/>
                  <a:pt x="12" y="13650"/>
                  <a:pt x="25" y="13650"/>
                </a:cubicBezTo>
                <a:cubicBezTo>
                  <a:pt x="39" y="13650"/>
                  <a:pt x="50" y="13661"/>
                  <a:pt x="50" y="13675"/>
                </a:cubicBezTo>
                <a:close/>
                <a:moveTo>
                  <a:pt x="50" y="14025"/>
                </a:moveTo>
                <a:lnTo>
                  <a:pt x="50" y="14175"/>
                </a:lnTo>
                <a:cubicBezTo>
                  <a:pt x="50" y="14189"/>
                  <a:pt x="39" y="14200"/>
                  <a:pt x="25" y="14200"/>
                </a:cubicBezTo>
                <a:cubicBezTo>
                  <a:pt x="12" y="14200"/>
                  <a:pt x="0" y="14189"/>
                  <a:pt x="0" y="14175"/>
                </a:cubicBezTo>
                <a:lnTo>
                  <a:pt x="0" y="14025"/>
                </a:lnTo>
                <a:cubicBezTo>
                  <a:pt x="0" y="14011"/>
                  <a:pt x="12" y="14000"/>
                  <a:pt x="25" y="14000"/>
                </a:cubicBezTo>
                <a:cubicBezTo>
                  <a:pt x="39" y="14000"/>
                  <a:pt x="50" y="14011"/>
                  <a:pt x="50" y="14025"/>
                </a:cubicBezTo>
                <a:close/>
                <a:moveTo>
                  <a:pt x="50" y="14375"/>
                </a:moveTo>
                <a:lnTo>
                  <a:pt x="50" y="14525"/>
                </a:lnTo>
                <a:cubicBezTo>
                  <a:pt x="50" y="14539"/>
                  <a:pt x="39" y="14550"/>
                  <a:pt x="25" y="14550"/>
                </a:cubicBezTo>
                <a:cubicBezTo>
                  <a:pt x="12" y="14550"/>
                  <a:pt x="0" y="14539"/>
                  <a:pt x="0" y="14525"/>
                </a:cubicBezTo>
                <a:lnTo>
                  <a:pt x="0" y="14375"/>
                </a:lnTo>
                <a:cubicBezTo>
                  <a:pt x="0" y="14361"/>
                  <a:pt x="12" y="14350"/>
                  <a:pt x="25" y="14350"/>
                </a:cubicBezTo>
                <a:cubicBezTo>
                  <a:pt x="39" y="14350"/>
                  <a:pt x="50" y="14361"/>
                  <a:pt x="50" y="14375"/>
                </a:cubicBezTo>
                <a:close/>
                <a:moveTo>
                  <a:pt x="50" y="14725"/>
                </a:moveTo>
                <a:lnTo>
                  <a:pt x="50" y="14875"/>
                </a:lnTo>
                <a:cubicBezTo>
                  <a:pt x="50" y="14889"/>
                  <a:pt x="39" y="14900"/>
                  <a:pt x="25" y="14900"/>
                </a:cubicBezTo>
                <a:cubicBezTo>
                  <a:pt x="12" y="14900"/>
                  <a:pt x="0" y="14889"/>
                  <a:pt x="0" y="14875"/>
                </a:cubicBezTo>
                <a:lnTo>
                  <a:pt x="0" y="14725"/>
                </a:lnTo>
                <a:cubicBezTo>
                  <a:pt x="0" y="14711"/>
                  <a:pt x="12" y="14700"/>
                  <a:pt x="25" y="14700"/>
                </a:cubicBezTo>
                <a:cubicBezTo>
                  <a:pt x="39" y="14700"/>
                  <a:pt x="50" y="14711"/>
                  <a:pt x="50" y="14725"/>
                </a:cubicBezTo>
                <a:close/>
                <a:moveTo>
                  <a:pt x="50" y="15075"/>
                </a:moveTo>
                <a:lnTo>
                  <a:pt x="50" y="15225"/>
                </a:lnTo>
                <a:cubicBezTo>
                  <a:pt x="50" y="15239"/>
                  <a:pt x="39" y="15250"/>
                  <a:pt x="25" y="15250"/>
                </a:cubicBezTo>
                <a:cubicBezTo>
                  <a:pt x="12" y="15250"/>
                  <a:pt x="0" y="15239"/>
                  <a:pt x="0" y="15225"/>
                </a:cubicBezTo>
                <a:lnTo>
                  <a:pt x="0" y="15075"/>
                </a:lnTo>
                <a:cubicBezTo>
                  <a:pt x="0" y="15061"/>
                  <a:pt x="12" y="15050"/>
                  <a:pt x="25" y="15050"/>
                </a:cubicBezTo>
                <a:cubicBezTo>
                  <a:pt x="39" y="15050"/>
                  <a:pt x="50" y="15061"/>
                  <a:pt x="50" y="15075"/>
                </a:cubicBezTo>
                <a:close/>
                <a:moveTo>
                  <a:pt x="50" y="15425"/>
                </a:moveTo>
                <a:lnTo>
                  <a:pt x="50" y="15575"/>
                </a:lnTo>
                <a:cubicBezTo>
                  <a:pt x="50" y="15589"/>
                  <a:pt x="39" y="15600"/>
                  <a:pt x="25" y="15600"/>
                </a:cubicBezTo>
                <a:cubicBezTo>
                  <a:pt x="12" y="15600"/>
                  <a:pt x="0" y="15589"/>
                  <a:pt x="0" y="15575"/>
                </a:cubicBezTo>
                <a:lnTo>
                  <a:pt x="0" y="15425"/>
                </a:lnTo>
                <a:cubicBezTo>
                  <a:pt x="0" y="15411"/>
                  <a:pt x="12" y="15400"/>
                  <a:pt x="25" y="15400"/>
                </a:cubicBezTo>
                <a:cubicBezTo>
                  <a:pt x="39" y="15400"/>
                  <a:pt x="50" y="15411"/>
                  <a:pt x="50" y="15425"/>
                </a:cubicBezTo>
                <a:close/>
                <a:moveTo>
                  <a:pt x="50" y="15775"/>
                </a:moveTo>
                <a:lnTo>
                  <a:pt x="50" y="15925"/>
                </a:lnTo>
                <a:cubicBezTo>
                  <a:pt x="50" y="15939"/>
                  <a:pt x="39" y="15950"/>
                  <a:pt x="25" y="15950"/>
                </a:cubicBezTo>
                <a:cubicBezTo>
                  <a:pt x="12" y="15950"/>
                  <a:pt x="0" y="15939"/>
                  <a:pt x="0" y="15925"/>
                </a:cubicBezTo>
                <a:lnTo>
                  <a:pt x="0" y="15775"/>
                </a:lnTo>
                <a:cubicBezTo>
                  <a:pt x="0" y="15761"/>
                  <a:pt x="12" y="15750"/>
                  <a:pt x="25" y="15750"/>
                </a:cubicBezTo>
                <a:cubicBezTo>
                  <a:pt x="39" y="15750"/>
                  <a:pt x="50" y="15761"/>
                  <a:pt x="50" y="15775"/>
                </a:cubicBezTo>
                <a:close/>
                <a:moveTo>
                  <a:pt x="50" y="16125"/>
                </a:moveTo>
                <a:lnTo>
                  <a:pt x="50" y="16275"/>
                </a:lnTo>
                <a:cubicBezTo>
                  <a:pt x="50" y="16289"/>
                  <a:pt x="39" y="16300"/>
                  <a:pt x="25" y="16300"/>
                </a:cubicBezTo>
                <a:cubicBezTo>
                  <a:pt x="12" y="16300"/>
                  <a:pt x="0" y="16289"/>
                  <a:pt x="0" y="16275"/>
                </a:cubicBezTo>
                <a:lnTo>
                  <a:pt x="0" y="16125"/>
                </a:lnTo>
                <a:cubicBezTo>
                  <a:pt x="0" y="16111"/>
                  <a:pt x="12" y="16100"/>
                  <a:pt x="25" y="16100"/>
                </a:cubicBezTo>
                <a:cubicBezTo>
                  <a:pt x="39" y="16100"/>
                  <a:pt x="50" y="16111"/>
                  <a:pt x="50" y="16125"/>
                </a:cubicBezTo>
                <a:close/>
                <a:moveTo>
                  <a:pt x="50" y="16475"/>
                </a:moveTo>
                <a:lnTo>
                  <a:pt x="50" y="16625"/>
                </a:lnTo>
                <a:cubicBezTo>
                  <a:pt x="50" y="16639"/>
                  <a:pt x="39" y="16650"/>
                  <a:pt x="25" y="16650"/>
                </a:cubicBezTo>
                <a:cubicBezTo>
                  <a:pt x="12" y="16650"/>
                  <a:pt x="0" y="16639"/>
                  <a:pt x="0" y="16625"/>
                </a:cubicBezTo>
                <a:lnTo>
                  <a:pt x="0" y="16475"/>
                </a:lnTo>
                <a:cubicBezTo>
                  <a:pt x="0" y="16461"/>
                  <a:pt x="12" y="16450"/>
                  <a:pt x="25" y="16450"/>
                </a:cubicBezTo>
                <a:cubicBezTo>
                  <a:pt x="39" y="16450"/>
                  <a:pt x="50" y="16461"/>
                  <a:pt x="50" y="16475"/>
                </a:cubicBezTo>
                <a:close/>
                <a:moveTo>
                  <a:pt x="50" y="16825"/>
                </a:moveTo>
                <a:lnTo>
                  <a:pt x="50" y="16975"/>
                </a:lnTo>
                <a:cubicBezTo>
                  <a:pt x="50" y="16989"/>
                  <a:pt x="39" y="17000"/>
                  <a:pt x="25" y="17000"/>
                </a:cubicBezTo>
                <a:cubicBezTo>
                  <a:pt x="12" y="17000"/>
                  <a:pt x="0" y="16989"/>
                  <a:pt x="0" y="16975"/>
                </a:cubicBezTo>
                <a:lnTo>
                  <a:pt x="0" y="16825"/>
                </a:lnTo>
                <a:cubicBezTo>
                  <a:pt x="0" y="16811"/>
                  <a:pt x="12" y="16800"/>
                  <a:pt x="25" y="16800"/>
                </a:cubicBezTo>
                <a:cubicBezTo>
                  <a:pt x="39" y="16800"/>
                  <a:pt x="50" y="16811"/>
                  <a:pt x="50" y="16825"/>
                </a:cubicBezTo>
                <a:close/>
                <a:moveTo>
                  <a:pt x="50" y="17175"/>
                </a:moveTo>
                <a:lnTo>
                  <a:pt x="50" y="17325"/>
                </a:lnTo>
                <a:cubicBezTo>
                  <a:pt x="50" y="17339"/>
                  <a:pt x="39" y="17350"/>
                  <a:pt x="25" y="17350"/>
                </a:cubicBezTo>
                <a:cubicBezTo>
                  <a:pt x="12" y="17350"/>
                  <a:pt x="0" y="17339"/>
                  <a:pt x="0" y="17325"/>
                </a:cubicBezTo>
                <a:lnTo>
                  <a:pt x="0" y="17175"/>
                </a:lnTo>
                <a:cubicBezTo>
                  <a:pt x="0" y="17161"/>
                  <a:pt x="12" y="17150"/>
                  <a:pt x="25" y="17150"/>
                </a:cubicBezTo>
                <a:cubicBezTo>
                  <a:pt x="39" y="17150"/>
                  <a:pt x="50" y="17161"/>
                  <a:pt x="50" y="17175"/>
                </a:cubicBezTo>
                <a:close/>
                <a:moveTo>
                  <a:pt x="50" y="17525"/>
                </a:moveTo>
                <a:lnTo>
                  <a:pt x="50" y="17675"/>
                </a:lnTo>
                <a:cubicBezTo>
                  <a:pt x="50" y="17689"/>
                  <a:pt x="39" y="17700"/>
                  <a:pt x="25" y="17700"/>
                </a:cubicBezTo>
                <a:cubicBezTo>
                  <a:pt x="12" y="17700"/>
                  <a:pt x="0" y="17689"/>
                  <a:pt x="0" y="17675"/>
                </a:cubicBezTo>
                <a:lnTo>
                  <a:pt x="0" y="17525"/>
                </a:lnTo>
                <a:cubicBezTo>
                  <a:pt x="0" y="17511"/>
                  <a:pt x="12" y="17500"/>
                  <a:pt x="25" y="17500"/>
                </a:cubicBezTo>
                <a:cubicBezTo>
                  <a:pt x="39" y="17500"/>
                  <a:pt x="50" y="17511"/>
                  <a:pt x="50" y="17525"/>
                </a:cubicBez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1120" y="2071800"/>
            <a:ext cx="9720" cy="3251160"/>
          </a:xfrm>
          <a:custGeom>
            <a:avLst/>
            <a:gdLst/>
            <a:ahLst/>
            <a:rect l="l" t="t" r="r" b="b"/>
            <a:pathLst>
              <a:path w="50" h="17700">
                <a:moveTo>
                  <a:pt x="50" y="25"/>
                </a:moveTo>
                <a:lnTo>
                  <a:pt x="50" y="175"/>
                </a:lnTo>
                <a:cubicBezTo>
                  <a:pt x="50" y="189"/>
                  <a:pt x="39" y="200"/>
                  <a:pt x="25" y="200"/>
                </a:cubicBezTo>
                <a:cubicBezTo>
                  <a:pt x="11" y="200"/>
                  <a:pt x="0" y="189"/>
                  <a:pt x="0" y="175"/>
                </a:cubicBezTo>
                <a:lnTo>
                  <a:pt x="0" y="25"/>
                </a:lnTo>
                <a:cubicBezTo>
                  <a:pt x="0" y="11"/>
                  <a:pt x="11" y="0"/>
                  <a:pt x="25" y="0"/>
                </a:cubicBezTo>
                <a:cubicBezTo>
                  <a:pt x="39" y="0"/>
                  <a:pt x="50" y="11"/>
                  <a:pt x="50" y="25"/>
                </a:cubicBezTo>
                <a:close/>
                <a:moveTo>
                  <a:pt x="50" y="375"/>
                </a:moveTo>
                <a:lnTo>
                  <a:pt x="50" y="525"/>
                </a:lnTo>
                <a:cubicBezTo>
                  <a:pt x="50" y="539"/>
                  <a:pt x="39" y="550"/>
                  <a:pt x="25" y="550"/>
                </a:cubicBezTo>
                <a:cubicBezTo>
                  <a:pt x="11" y="550"/>
                  <a:pt x="0" y="539"/>
                  <a:pt x="0" y="525"/>
                </a:cubicBezTo>
                <a:lnTo>
                  <a:pt x="0" y="375"/>
                </a:lnTo>
                <a:cubicBezTo>
                  <a:pt x="0" y="361"/>
                  <a:pt x="11" y="350"/>
                  <a:pt x="25" y="350"/>
                </a:cubicBezTo>
                <a:cubicBezTo>
                  <a:pt x="39" y="350"/>
                  <a:pt x="50" y="361"/>
                  <a:pt x="50" y="375"/>
                </a:cubicBezTo>
                <a:close/>
                <a:moveTo>
                  <a:pt x="50" y="725"/>
                </a:moveTo>
                <a:lnTo>
                  <a:pt x="50" y="875"/>
                </a:lnTo>
                <a:cubicBezTo>
                  <a:pt x="50" y="889"/>
                  <a:pt x="39" y="900"/>
                  <a:pt x="25" y="900"/>
                </a:cubicBezTo>
                <a:cubicBezTo>
                  <a:pt x="11" y="900"/>
                  <a:pt x="0" y="889"/>
                  <a:pt x="0" y="875"/>
                </a:cubicBezTo>
                <a:lnTo>
                  <a:pt x="0" y="725"/>
                </a:lnTo>
                <a:cubicBezTo>
                  <a:pt x="0" y="711"/>
                  <a:pt x="11" y="700"/>
                  <a:pt x="25" y="700"/>
                </a:cubicBezTo>
                <a:cubicBezTo>
                  <a:pt x="39" y="700"/>
                  <a:pt x="50" y="711"/>
                  <a:pt x="50" y="725"/>
                </a:cubicBezTo>
                <a:close/>
                <a:moveTo>
                  <a:pt x="50" y="1075"/>
                </a:moveTo>
                <a:lnTo>
                  <a:pt x="50" y="1225"/>
                </a:lnTo>
                <a:cubicBezTo>
                  <a:pt x="50" y="1239"/>
                  <a:pt x="39" y="1250"/>
                  <a:pt x="25" y="1250"/>
                </a:cubicBezTo>
                <a:cubicBezTo>
                  <a:pt x="11" y="1250"/>
                  <a:pt x="0" y="1239"/>
                  <a:pt x="0" y="1225"/>
                </a:cubicBezTo>
                <a:lnTo>
                  <a:pt x="0" y="1075"/>
                </a:lnTo>
                <a:cubicBezTo>
                  <a:pt x="0" y="1061"/>
                  <a:pt x="11" y="1050"/>
                  <a:pt x="25" y="1050"/>
                </a:cubicBezTo>
                <a:cubicBezTo>
                  <a:pt x="39" y="1050"/>
                  <a:pt x="50" y="1061"/>
                  <a:pt x="50" y="1075"/>
                </a:cubicBezTo>
                <a:close/>
                <a:moveTo>
                  <a:pt x="50" y="1425"/>
                </a:moveTo>
                <a:lnTo>
                  <a:pt x="50" y="1575"/>
                </a:lnTo>
                <a:cubicBezTo>
                  <a:pt x="50" y="1589"/>
                  <a:pt x="39" y="1600"/>
                  <a:pt x="25" y="1600"/>
                </a:cubicBezTo>
                <a:cubicBezTo>
                  <a:pt x="11" y="1600"/>
                  <a:pt x="0" y="1589"/>
                  <a:pt x="0" y="1575"/>
                </a:cubicBezTo>
                <a:lnTo>
                  <a:pt x="0" y="1425"/>
                </a:lnTo>
                <a:cubicBezTo>
                  <a:pt x="0" y="1411"/>
                  <a:pt x="11" y="1400"/>
                  <a:pt x="25" y="1400"/>
                </a:cubicBezTo>
                <a:cubicBezTo>
                  <a:pt x="39" y="1400"/>
                  <a:pt x="50" y="1411"/>
                  <a:pt x="50" y="1425"/>
                </a:cubicBezTo>
                <a:close/>
                <a:moveTo>
                  <a:pt x="50" y="1775"/>
                </a:moveTo>
                <a:lnTo>
                  <a:pt x="50" y="1925"/>
                </a:lnTo>
                <a:cubicBezTo>
                  <a:pt x="50" y="1939"/>
                  <a:pt x="39" y="1950"/>
                  <a:pt x="25" y="1950"/>
                </a:cubicBezTo>
                <a:cubicBezTo>
                  <a:pt x="11" y="1950"/>
                  <a:pt x="0" y="1939"/>
                  <a:pt x="0" y="1925"/>
                </a:cubicBezTo>
                <a:lnTo>
                  <a:pt x="0" y="1775"/>
                </a:lnTo>
                <a:cubicBezTo>
                  <a:pt x="0" y="1761"/>
                  <a:pt x="11" y="1750"/>
                  <a:pt x="25" y="1750"/>
                </a:cubicBezTo>
                <a:cubicBezTo>
                  <a:pt x="39" y="1750"/>
                  <a:pt x="50" y="1761"/>
                  <a:pt x="50" y="1775"/>
                </a:cubicBezTo>
                <a:close/>
                <a:moveTo>
                  <a:pt x="50" y="2125"/>
                </a:moveTo>
                <a:lnTo>
                  <a:pt x="50" y="2275"/>
                </a:lnTo>
                <a:cubicBezTo>
                  <a:pt x="50" y="2289"/>
                  <a:pt x="39" y="2300"/>
                  <a:pt x="25" y="2300"/>
                </a:cubicBezTo>
                <a:cubicBezTo>
                  <a:pt x="11" y="2300"/>
                  <a:pt x="0" y="2289"/>
                  <a:pt x="0" y="2275"/>
                </a:cubicBezTo>
                <a:lnTo>
                  <a:pt x="0" y="2125"/>
                </a:lnTo>
                <a:cubicBezTo>
                  <a:pt x="0" y="2111"/>
                  <a:pt x="11" y="2100"/>
                  <a:pt x="25" y="2100"/>
                </a:cubicBezTo>
                <a:cubicBezTo>
                  <a:pt x="39" y="2100"/>
                  <a:pt x="50" y="2111"/>
                  <a:pt x="50" y="2125"/>
                </a:cubicBezTo>
                <a:close/>
                <a:moveTo>
                  <a:pt x="50" y="2475"/>
                </a:moveTo>
                <a:lnTo>
                  <a:pt x="50" y="2625"/>
                </a:lnTo>
                <a:cubicBezTo>
                  <a:pt x="50" y="2639"/>
                  <a:pt x="39" y="2650"/>
                  <a:pt x="25" y="2650"/>
                </a:cubicBezTo>
                <a:cubicBezTo>
                  <a:pt x="11" y="2650"/>
                  <a:pt x="0" y="2639"/>
                  <a:pt x="0" y="2625"/>
                </a:cubicBezTo>
                <a:lnTo>
                  <a:pt x="0" y="2475"/>
                </a:lnTo>
                <a:cubicBezTo>
                  <a:pt x="0" y="2461"/>
                  <a:pt x="11" y="2450"/>
                  <a:pt x="25" y="2450"/>
                </a:cubicBezTo>
                <a:cubicBezTo>
                  <a:pt x="39" y="2450"/>
                  <a:pt x="50" y="2461"/>
                  <a:pt x="50" y="2475"/>
                </a:cubicBezTo>
                <a:close/>
                <a:moveTo>
                  <a:pt x="50" y="2825"/>
                </a:moveTo>
                <a:lnTo>
                  <a:pt x="50" y="2975"/>
                </a:lnTo>
                <a:cubicBezTo>
                  <a:pt x="50" y="2989"/>
                  <a:pt x="39" y="3000"/>
                  <a:pt x="25" y="3000"/>
                </a:cubicBezTo>
                <a:cubicBezTo>
                  <a:pt x="11" y="3000"/>
                  <a:pt x="0" y="2989"/>
                  <a:pt x="0" y="2975"/>
                </a:cubicBezTo>
                <a:lnTo>
                  <a:pt x="0" y="2825"/>
                </a:lnTo>
                <a:cubicBezTo>
                  <a:pt x="0" y="2811"/>
                  <a:pt x="11" y="2800"/>
                  <a:pt x="25" y="2800"/>
                </a:cubicBezTo>
                <a:cubicBezTo>
                  <a:pt x="39" y="2800"/>
                  <a:pt x="50" y="2811"/>
                  <a:pt x="50" y="2825"/>
                </a:cubicBezTo>
                <a:close/>
                <a:moveTo>
                  <a:pt x="50" y="3175"/>
                </a:moveTo>
                <a:lnTo>
                  <a:pt x="50" y="3325"/>
                </a:lnTo>
                <a:cubicBezTo>
                  <a:pt x="50" y="3339"/>
                  <a:pt x="39" y="3350"/>
                  <a:pt x="25" y="3350"/>
                </a:cubicBezTo>
                <a:cubicBezTo>
                  <a:pt x="11" y="3350"/>
                  <a:pt x="0" y="3339"/>
                  <a:pt x="0" y="3325"/>
                </a:cubicBezTo>
                <a:lnTo>
                  <a:pt x="0" y="3175"/>
                </a:lnTo>
                <a:cubicBezTo>
                  <a:pt x="0" y="3161"/>
                  <a:pt x="11" y="3150"/>
                  <a:pt x="25" y="3150"/>
                </a:cubicBezTo>
                <a:cubicBezTo>
                  <a:pt x="39" y="3150"/>
                  <a:pt x="50" y="3161"/>
                  <a:pt x="50" y="3175"/>
                </a:cubicBezTo>
                <a:close/>
                <a:moveTo>
                  <a:pt x="50" y="3525"/>
                </a:moveTo>
                <a:lnTo>
                  <a:pt x="50" y="3675"/>
                </a:lnTo>
                <a:cubicBezTo>
                  <a:pt x="50" y="3689"/>
                  <a:pt x="39" y="3700"/>
                  <a:pt x="25" y="3700"/>
                </a:cubicBezTo>
                <a:cubicBezTo>
                  <a:pt x="11" y="3700"/>
                  <a:pt x="0" y="3689"/>
                  <a:pt x="0" y="3675"/>
                </a:cubicBezTo>
                <a:lnTo>
                  <a:pt x="0" y="3525"/>
                </a:lnTo>
                <a:cubicBezTo>
                  <a:pt x="0" y="3511"/>
                  <a:pt x="11" y="3500"/>
                  <a:pt x="25" y="3500"/>
                </a:cubicBezTo>
                <a:cubicBezTo>
                  <a:pt x="39" y="3500"/>
                  <a:pt x="50" y="3511"/>
                  <a:pt x="50" y="3525"/>
                </a:cubicBezTo>
                <a:close/>
                <a:moveTo>
                  <a:pt x="50" y="3875"/>
                </a:moveTo>
                <a:lnTo>
                  <a:pt x="50" y="4025"/>
                </a:lnTo>
                <a:cubicBezTo>
                  <a:pt x="50" y="4039"/>
                  <a:pt x="39" y="4050"/>
                  <a:pt x="25" y="4050"/>
                </a:cubicBezTo>
                <a:cubicBezTo>
                  <a:pt x="11" y="4050"/>
                  <a:pt x="0" y="4039"/>
                  <a:pt x="0" y="4025"/>
                </a:cubicBezTo>
                <a:lnTo>
                  <a:pt x="0" y="3875"/>
                </a:lnTo>
                <a:cubicBezTo>
                  <a:pt x="0" y="3861"/>
                  <a:pt x="11" y="3850"/>
                  <a:pt x="25" y="3850"/>
                </a:cubicBezTo>
                <a:cubicBezTo>
                  <a:pt x="39" y="3850"/>
                  <a:pt x="50" y="3861"/>
                  <a:pt x="50" y="3875"/>
                </a:cubicBezTo>
                <a:close/>
                <a:moveTo>
                  <a:pt x="50" y="4225"/>
                </a:moveTo>
                <a:lnTo>
                  <a:pt x="50" y="4375"/>
                </a:lnTo>
                <a:cubicBezTo>
                  <a:pt x="50" y="4389"/>
                  <a:pt x="39" y="4400"/>
                  <a:pt x="25" y="4400"/>
                </a:cubicBezTo>
                <a:cubicBezTo>
                  <a:pt x="11" y="4400"/>
                  <a:pt x="0" y="4389"/>
                  <a:pt x="0" y="4375"/>
                </a:cubicBezTo>
                <a:lnTo>
                  <a:pt x="0" y="4225"/>
                </a:lnTo>
                <a:cubicBezTo>
                  <a:pt x="0" y="4211"/>
                  <a:pt x="11" y="4200"/>
                  <a:pt x="25" y="4200"/>
                </a:cubicBezTo>
                <a:cubicBezTo>
                  <a:pt x="39" y="4200"/>
                  <a:pt x="50" y="4211"/>
                  <a:pt x="50" y="4225"/>
                </a:cubicBezTo>
                <a:close/>
                <a:moveTo>
                  <a:pt x="50" y="4575"/>
                </a:moveTo>
                <a:lnTo>
                  <a:pt x="50" y="4725"/>
                </a:lnTo>
                <a:cubicBezTo>
                  <a:pt x="50" y="4739"/>
                  <a:pt x="39" y="4750"/>
                  <a:pt x="25" y="4750"/>
                </a:cubicBezTo>
                <a:cubicBezTo>
                  <a:pt x="11" y="4750"/>
                  <a:pt x="0" y="4739"/>
                  <a:pt x="0" y="4725"/>
                </a:cubicBezTo>
                <a:lnTo>
                  <a:pt x="0" y="4575"/>
                </a:lnTo>
                <a:cubicBezTo>
                  <a:pt x="0" y="4561"/>
                  <a:pt x="11" y="4550"/>
                  <a:pt x="25" y="4550"/>
                </a:cubicBezTo>
                <a:cubicBezTo>
                  <a:pt x="39" y="4550"/>
                  <a:pt x="50" y="4561"/>
                  <a:pt x="50" y="4575"/>
                </a:cubicBezTo>
                <a:close/>
                <a:moveTo>
                  <a:pt x="50" y="4925"/>
                </a:moveTo>
                <a:lnTo>
                  <a:pt x="50" y="5075"/>
                </a:lnTo>
                <a:cubicBezTo>
                  <a:pt x="50" y="5089"/>
                  <a:pt x="39" y="5100"/>
                  <a:pt x="25" y="5100"/>
                </a:cubicBezTo>
                <a:cubicBezTo>
                  <a:pt x="11" y="5100"/>
                  <a:pt x="0" y="5089"/>
                  <a:pt x="0" y="5075"/>
                </a:cubicBezTo>
                <a:lnTo>
                  <a:pt x="0" y="4925"/>
                </a:lnTo>
                <a:cubicBezTo>
                  <a:pt x="0" y="4911"/>
                  <a:pt x="11" y="4900"/>
                  <a:pt x="25" y="4900"/>
                </a:cubicBezTo>
                <a:cubicBezTo>
                  <a:pt x="39" y="4900"/>
                  <a:pt x="50" y="4911"/>
                  <a:pt x="50" y="4925"/>
                </a:cubicBezTo>
                <a:close/>
                <a:moveTo>
                  <a:pt x="50" y="5275"/>
                </a:moveTo>
                <a:lnTo>
                  <a:pt x="50" y="5425"/>
                </a:lnTo>
                <a:cubicBezTo>
                  <a:pt x="50" y="5439"/>
                  <a:pt x="39" y="5450"/>
                  <a:pt x="25" y="5450"/>
                </a:cubicBezTo>
                <a:cubicBezTo>
                  <a:pt x="11" y="5450"/>
                  <a:pt x="0" y="5439"/>
                  <a:pt x="0" y="5425"/>
                </a:cubicBezTo>
                <a:lnTo>
                  <a:pt x="0" y="5275"/>
                </a:lnTo>
                <a:cubicBezTo>
                  <a:pt x="0" y="5261"/>
                  <a:pt x="11" y="5250"/>
                  <a:pt x="25" y="5250"/>
                </a:cubicBezTo>
                <a:cubicBezTo>
                  <a:pt x="39" y="5250"/>
                  <a:pt x="50" y="5261"/>
                  <a:pt x="50" y="5275"/>
                </a:cubicBezTo>
                <a:close/>
                <a:moveTo>
                  <a:pt x="50" y="5625"/>
                </a:moveTo>
                <a:lnTo>
                  <a:pt x="50" y="5775"/>
                </a:lnTo>
                <a:cubicBezTo>
                  <a:pt x="50" y="5789"/>
                  <a:pt x="39" y="5800"/>
                  <a:pt x="25" y="5800"/>
                </a:cubicBezTo>
                <a:cubicBezTo>
                  <a:pt x="11" y="5800"/>
                  <a:pt x="0" y="5789"/>
                  <a:pt x="0" y="5775"/>
                </a:cubicBezTo>
                <a:lnTo>
                  <a:pt x="0" y="5625"/>
                </a:lnTo>
                <a:cubicBezTo>
                  <a:pt x="0" y="5611"/>
                  <a:pt x="11" y="5600"/>
                  <a:pt x="25" y="5600"/>
                </a:cubicBezTo>
                <a:cubicBezTo>
                  <a:pt x="39" y="5600"/>
                  <a:pt x="50" y="5611"/>
                  <a:pt x="50" y="5625"/>
                </a:cubicBezTo>
                <a:close/>
                <a:moveTo>
                  <a:pt x="50" y="5975"/>
                </a:moveTo>
                <a:lnTo>
                  <a:pt x="50" y="6125"/>
                </a:lnTo>
                <a:cubicBezTo>
                  <a:pt x="50" y="6139"/>
                  <a:pt x="39" y="6150"/>
                  <a:pt x="25" y="6150"/>
                </a:cubicBezTo>
                <a:cubicBezTo>
                  <a:pt x="11" y="6150"/>
                  <a:pt x="0" y="6139"/>
                  <a:pt x="0" y="6125"/>
                </a:cubicBezTo>
                <a:lnTo>
                  <a:pt x="0" y="5975"/>
                </a:lnTo>
                <a:cubicBezTo>
                  <a:pt x="0" y="5961"/>
                  <a:pt x="11" y="5950"/>
                  <a:pt x="25" y="5950"/>
                </a:cubicBezTo>
                <a:cubicBezTo>
                  <a:pt x="39" y="5950"/>
                  <a:pt x="50" y="5961"/>
                  <a:pt x="50" y="5975"/>
                </a:cubicBezTo>
                <a:close/>
                <a:moveTo>
                  <a:pt x="50" y="6325"/>
                </a:moveTo>
                <a:lnTo>
                  <a:pt x="50" y="6475"/>
                </a:lnTo>
                <a:cubicBezTo>
                  <a:pt x="50" y="6489"/>
                  <a:pt x="39" y="6500"/>
                  <a:pt x="25" y="6500"/>
                </a:cubicBezTo>
                <a:cubicBezTo>
                  <a:pt x="11" y="6500"/>
                  <a:pt x="0" y="6489"/>
                  <a:pt x="0" y="6475"/>
                </a:cubicBezTo>
                <a:lnTo>
                  <a:pt x="0" y="6325"/>
                </a:lnTo>
                <a:cubicBezTo>
                  <a:pt x="0" y="6311"/>
                  <a:pt x="11" y="6300"/>
                  <a:pt x="25" y="6300"/>
                </a:cubicBezTo>
                <a:cubicBezTo>
                  <a:pt x="39" y="6300"/>
                  <a:pt x="50" y="6311"/>
                  <a:pt x="50" y="6325"/>
                </a:cubicBezTo>
                <a:close/>
                <a:moveTo>
                  <a:pt x="50" y="6675"/>
                </a:moveTo>
                <a:lnTo>
                  <a:pt x="50" y="6825"/>
                </a:lnTo>
                <a:cubicBezTo>
                  <a:pt x="50" y="6839"/>
                  <a:pt x="39" y="6850"/>
                  <a:pt x="25" y="6850"/>
                </a:cubicBezTo>
                <a:cubicBezTo>
                  <a:pt x="11" y="6850"/>
                  <a:pt x="0" y="6839"/>
                  <a:pt x="0" y="6825"/>
                </a:cubicBezTo>
                <a:lnTo>
                  <a:pt x="0" y="6675"/>
                </a:lnTo>
                <a:cubicBezTo>
                  <a:pt x="0" y="6661"/>
                  <a:pt x="11" y="6650"/>
                  <a:pt x="25" y="6650"/>
                </a:cubicBezTo>
                <a:cubicBezTo>
                  <a:pt x="39" y="6650"/>
                  <a:pt x="50" y="6661"/>
                  <a:pt x="50" y="6675"/>
                </a:cubicBezTo>
                <a:close/>
                <a:moveTo>
                  <a:pt x="50" y="7025"/>
                </a:moveTo>
                <a:lnTo>
                  <a:pt x="50" y="7175"/>
                </a:lnTo>
                <a:cubicBezTo>
                  <a:pt x="50" y="7189"/>
                  <a:pt x="39" y="7200"/>
                  <a:pt x="25" y="7200"/>
                </a:cubicBezTo>
                <a:cubicBezTo>
                  <a:pt x="11" y="7200"/>
                  <a:pt x="0" y="7189"/>
                  <a:pt x="0" y="7175"/>
                </a:cubicBezTo>
                <a:lnTo>
                  <a:pt x="0" y="7025"/>
                </a:lnTo>
                <a:cubicBezTo>
                  <a:pt x="0" y="7011"/>
                  <a:pt x="11" y="7000"/>
                  <a:pt x="25" y="7000"/>
                </a:cubicBezTo>
                <a:cubicBezTo>
                  <a:pt x="39" y="7000"/>
                  <a:pt x="50" y="7011"/>
                  <a:pt x="50" y="7025"/>
                </a:cubicBezTo>
                <a:close/>
                <a:moveTo>
                  <a:pt x="50" y="7375"/>
                </a:moveTo>
                <a:lnTo>
                  <a:pt x="50" y="7525"/>
                </a:lnTo>
                <a:cubicBezTo>
                  <a:pt x="50" y="7539"/>
                  <a:pt x="39" y="7550"/>
                  <a:pt x="25" y="7550"/>
                </a:cubicBezTo>
                <a:cubicBezTo>
                  <a:pt x="11" y="7550"/>
                  <a:pt x="0" y="7539"/>
                  <a:pt x="0" y="7525"/>
                </a:cubicBezTo>
                <a:lnTo>
                  <a:pt x="0" y="7375"/>
                </a:lnTo>
                <a:cubicBezTo>
                  <a:pt x="0" y="7361"/>
                  <a:pt x="11" y="7350"/>
                  <a:pt x="25" y="7350"/>
                </a:cubicBezTo>
                <a:cubicBezTo>
                  <a:pt x="39" y="7350"/>
                  <a:pt x="50" y="7361"/>
                  <a:pt x="50" y="7375"/>
                </a:cubicBezTo>
                <a:close/>
                <a:moveTo>
                  <a:pt x="50" y="7725"/>
                </a:moveTo>
                <a:lnTo>
                  <a:pt x="50" y="7875"/>
                </a:lnTo>
                <a:cubicBezTo>
                  <a:pt x="50" y="7889"/>
                  <a:pt x="39" y="7900"/>
                  <a:pt x="25" y="7900"/>
                </a:cubicBezTo>
                <a:cubicBezTo>
                  <a:pt x="11" y="7900"/>
                  <a:pt x="0" y="7889"/>
                  <a:pt x="0" y="7875"/>
                </a:cubicBezTo>
                <a:lnTo>
                  <a:pt x="0" y="7725"/>
                </a:lnTo>
                <a:cubicBezTo>
                  <a:pt x="0" y="7711"/>
                  <a:pt x="11" y="7700"/>
                  <a:pt x="25" y="7700"/>
                </a:cubicBezTo>
                <a:cubicBezTo>
                  <a:pt x="39" y="7700"/>
                  <a:pt x="50" y="7711"/>
                  <a:pt x="50" y="7725"/>
                </a:cubicBezTo>
                <a:close/>
                <a:moveTo>
                  <a:pt x="50" y="8075"/>
                </a:moveTo>
                <a:lnTo>
                  <a:pt x="50" y="8225"/>
                </a:lnTo>
                <a:cubicBezTo>
                  <a:pt x="50" y="8239"/>
                  <a:pt x="39" y="8250"/>
                  <a:pt x="25" y="8250"/>
                </a:cubicBezTo>
                <a:cubicBezTo>
                  <a:pt x="11" y="8250"/>
                  <a:pt x="0" y="8239"/>
                  <a:pt x="0" y="8225"/>
                </a:cubicBezTo>
                <a:lnTo>
                  <a:pt x="0" y="8075"/>
                </a:lnTo>
                <a:cubicBezTo>
                  <a:pt x="0" y="8061"/>
                  <a:pt x="11" y="8050"/>
                  <a:pt x="25" y="8050"/>
                </a:cubicBezTo>
                <a:cubicBezTo>
                  <a:pt x="39" y="8050"/>
                  <a:pt x="50" y="8061"/>
                  <a:pt x="50" y="8075"/>
                </a:cubicBezTo>
                <a:close/>
                <a:moveTo>
                  <a:pt x="50" y="8425"/>
                </a:moveTo>
                <a:lnTo>
                  <a:pt x="50" y="8575"/>
                </a:lnTo>
                <a:cubicBezTo>
                  <a:pt x="50" y="8589"/>
                  <a:pt x="39" y="8600"/>
                  <a:pt x="25" y="8600"/>
                </a:cubicBezTo>
                <a:cubicBezTo>
                  <a:pt x="11" y="8600"/>
                  <a:pt x="0" y="8589"/>
                  <a:pt x="0" y="8575"/>
                </a:cubicBezTo>
                <a:lnTo>
                  <a:pt x="0" y="8425"/>
                </a:lnTo>
                <a:cubicBezTo>
                  <a:pt x="0" y="8411"/>
                  <a:pt x="11" y="8400"/>
                  <a:pt x="25" y="8400"/>
                </a:cubicBezTo>
                <a:cubicBezTo>
                  <a:pt x="39" y="8400"/>
                  <a:pt x="50" y="8411"/>
                  <a:pt x="50" y="8425"/>
                </a:cubicBezTo>
                <a:close/>
                <a:moveTo>
                  <a:pt x="50" y="8775"/>
                </a:moveTo>
                <a:lnTo>
                  <a:pt x="50" y="8925"/>
                </a:lnTo>
                <a:cubicBezTo>
                  <a:pt x="50" y="8939"/>
                  <a:pt x="39" y="8950"/>
                  <a:pt x="25" y="8950"/>
                </a:cubicBezTo>
                <a:cubicBezTo>
                  <a:pt x="11" y="8950"/>
                  <a:pt x="0" y="8939"/>
                  <a:pt x="0" y="8925"/>
                </a:cubicBezTo>
                <a:lnTo>
                  <a:pt x="0" y="8775"/>
                </a:lnTo>
                <a:cubicBezTo>
                  <a:pt x="0" y="8761"/>
                  <a:pt x="11" y="8750"/>
                  <a:pt x="25" y="8750"/>
                </a:cubicBezTo>
                <a:cubicBezTo>
                  <a:pt x="39" y="8750"/>
                  <a:pt x="50" y="8761"/>
                  <a:pt x="50" y="8775"/>
                </a:cubicBezTo>
                <a:close/>
                <a:moveTo>
                  <a:pt x="50" y="9125"/>
                </a:moveTo>
                <a:lnTo>
                  <a:pt x="50" y="9275"/>
                </a:lnTo>
                <a:cubicBezTo>
                  <a:pt x="50" y="9289"/>
                  <a:pt x="39" y="9300"/>
                  <a:pt x="25" y="9300"/>
                </a:cubicBezTo>
                <a:cubicBezTo>
                  <a:pt x="11" y="9300"/>
                  <a:pt x="0" y="9289"/>
                  <a:pt x="0" y="9275"/>
                </a:cubicBezTo>
                <a:lnTo>
                  <a:pt x="0" y="9125"/>
                </a:lnTo>
                <a:cubicBezTo>
                  <a:pt x="0" y="9111"/>
                  <a:pt x="11" y="9100"/>
                  <a:pt x="25" y="9100"/>
                </a:cubicBezTo>
                <a:cubicBezTo>
                  <a:pt x="39" y="9100"/>
                  <a:pt x="50" y="9111"/>
                  <a:pt x="50" y="9125"/>
                </a:cubicBezTo>
                <a:close/>
                <a:moveTo>
                  <a:pt x="50" y="9475"/>
                </a:moveTo>
                <a:lnTo>
                  <a:pt x="50" y="9625"/>
                </a:lnTo>
                <a:cubicBezTo>
                  <a:pt x="50" y="9639"/>
                  <a:pt x="39" y="9650"/>
                  <a:pt x="25" y="9650"/>
                </a:cubicBezTo>
                <a:cubicBezTo>
                  <a:pt x="11" y="9650"/>
                  <a:pt x="0" y="9639"/>
                  <a:pt x="0" y="9625"/>
                </a:cubicBezTo>
                <a:lnTo>
                  <a:pt x="0" y="9475"/>
                </a:lnTo>
                <a:cubicBezTo>
                  <a:pt x="0" y="9461"/>
                  <a:pt x="11" y="9450"/>
                  <a:pt x="25" y="9450"/>
                </a:cubicBezTo>
                <a:cubicBezTo>
                  <a:pt x="39" y="9450"/>
                  <a:pt x="50" y="9461"/>
                  <a:pt x="50" y="9475"/>
                </a:cubicBezTo>
                <a:close/>
                <a:moveTo>
                  <a:pt x="50" y="9825"/>
                </a:moveTo>
                <a:lnTo>
                  <a:pt x="50" y="9975"/>
                </a:lnTo>
                <a:cubicBezTo>
                  <a:pt x="50" y="9989"/>
                  <a:pt x="39" y="10000"/>
                  <a:pt x="25" y="10000"/>
                </a:cubicBezTo>
                <a:cubicBezTo>
                  <a:pt x="11" y="10000"/>
                  <a:pt x="0" y="9989"/>
                  <a:pt x="0" y="9975"/>
                </a:cubicBezTo>
                <a:lnTo>
                  <a:pt x="0" y="9825"/>
                </a:lnTo>
                <a:cubicBezTo>
                  <a:pt x="0" y="9811"/>
                  <a:pt x="11" y="9800"/>
                  <a:pt x="25" y="9800"/>
                </a:cubicBezTo>
                <a:cubicBezTo>
                  <a:pt x="39" y="9800"/>
                  <a:pt x="50" y="9811"/>
                  <a:pt x="50" y="9825"/>
                </a:cubicBezTo>
                <a:close/>
                <a:moveTo>
                  <a:pt x="50" y="10175"/>
                </a:moveTo>
                <a:lnTo>
                  <a:pt x="50" y="10325"/>
                </a:lnTo>
                <a:cubicBezTo>
                  <a:pt x="50" y="10339"/>
                  <a:pt x="39" y="10350"/>
                  <a:pt x="25" y="10350"/>
                </a:cubicBezTo>
                <a:cubicBezTo>
                  <a:pt x="11" y="10350"/>
                  <a:pt x="0" y="10339"/>
                  <a:pt x="0" y="10325"/>
                </a:cubicBezTo>
                <a:lnTo>
                  <a:pt x="0" y="10175"/>
                </a:lnTo>
                <a:cubicBezTo>
                  <a:pt x="0" y="10161"/>
                  <a:pt x="11" y="10150"/>
                  <a:pt x="25" y="10150"/>
                </a:cubicBezTo>
                <a:cubicBezTo>
                  <a:pt x="39" y="10150"/>
                  <a:pt x="50" y="10161"/>
                  <a:pt x="50" y="10175"/>
                </a:cubicBezTo>
                <a:close/>
                <a:moveTo>
                  <a:pt x="50" y="10525"/>
                </a:moveTo>
                <a:lnTo>
                  <a:pt x="50" y="10675"/>
                </a:lnTo>
                <a:cubicBezTo>
                  <a:pt x="50" y="10689"/>
                  <a:pt x="39" y="10700"/>
                  <a:pt x="25" y="10700"/>
                </a:cubicBezTo>
                <a:cubicBezTo>
                  <a:pt x="11" y="10700"/>
                  <a:pt x="0" y="10689"/>
                  <a:pt x="0" y="10675"/>
                </a:cubicBezTo>
                <a:lnTo>
                  <a:pt x="0" y="10525"/>
                </a:lnTo>
                <a:cubicBezTo>
                  <a:pt x="0" y="10511"/>
                  <a:pt x="11" y="10500"/>
                  <a:pt x="25" y="10500"/>
                </a:cubicBezTo>
                <a:cubicBezTo>
                  <a:pt x="39" y="10500"/>
                  <a:pt x="50" y="10511"/>
                  <a:pt x="50" y="10525"/>
                </a:cubicBezTo>
                <a:close/>
                <a:moveTo>
                  <a:pt x="50" y="10875"/>
                </a:moveTo>
                <a:lnTo>
                  <a:pt x="50" y="11025"/>
                </a:lnTo>
                <a:cubicBezTo>
                  <a:pt x="50" y="11039"/>
                  <a:pt x="39" y="11050"/>
                  <a:pt x="25" y="11050"/>
                </a:cubicBezTo>
                <a:cubicBezTo>
                  <a:pt x="11" y="11050"/>
                  <a:pt x="0" y="11039"/>
                  <a:pt x="0" y="11025"/>
                </a:cubicBezTo>
                <a:lnTo>
                  <a:pt x="0" y="10875"/>
                </a:lnTo>
                <a:cubicBezTo>
                  <a:pt x="0" y="10861"/>
                  <a:pt x="11" y="10850"/>
                  <a:pt x="25" y="10850"/>
                </a:cubicBezTo>
                <a:cubicBezTo>
                  <a:pt x="39" y="10850"/>
                  <a:pt x="50" y="10861"/>
                  <a:pt x="50" y="10875"/>
                </a:cubicBezTo>
                <a:close/>
                <a:moveTo>
                  <a:pt x="50" y="11225"/>
                </a:moveTo>
                <a:lnTo>
                  <a:pt x="50" y="11375"/>
                </a:lnTo>
                <a:cubicBezTo>
                  <a:pt x="50" y="11389"/>
                  <a:pt x="39" y="11400"/>
                  <a:pt x="25" y="11400"/>
                </a:cubicBezTo>
                <a:cubicBezTo>
                  <a:pt x="11" y="11400"/>
                  <a:pt x="0" y="11389"/>
                  <a:pt x="0" y="11375"/>
                </a:cubicBezTo>
                <a:lnTo>
                  <a:pt x="0" y="11225"/>
                </a:lnTo>
                <a:cubicBezTo>
                  <a:pt x="0" y="11211"/>
                  <a:pt x="11" y="11200"/>
                  <a:pt x="25" y="11200"/>
                </a:cubicBezTo>
                <a:cubicBezTo>
                  <a:pt x="39" y="11200"/>
                  <a:pt x="50" y="11211"/>
                  <a:pt x="50" y="11225"/>
                </a:cubicBezTo>
                <a:close/>
                <a:moveTo>
                  <a:pt x="50" y="11575"/>
                </a:moveTo>
                <a:lnTo>
                  <a:pt x="50" y="11725"/>
                </a:lnTo>
                <a:cubicBezTo>
                  <a:pt x="50" y="11739"/>
                  <a:pt x="39" y="11750"/>
                  <a:pt x="25" y="11750"/>
                </a:cubicBezTo>
                <a:cubicBezTo>
                  <a:pt x="11" y="11750"/>
                  <a:pt x="0" y="11739"/>
                  <a:pt x="0" y="11725"/>
                </a:cubicBezTo>
                <a:lnTo>
                  <a:pt x="0" y="11575"/>
                </a:lnTo>
                <a:cubicBezTo>
                  <a:pt x="0" y="11561"/>
                  <a:pt x="11" y="11550"/>
                  <a:pt x="25" y="11550"/>
                </a:cubicBezTo>
                <a:cubicBezTo>
                  <a:pt x="39" y="11550"/>
                  <a:pt x="50" y="11561"/>
                  <a:pt x="50" y="11575"/>
                </a:cubicBezTo>
                <a:close/>
                <a:moveTo>
                  <a:pt x="50" y="11925"/>
                </a:moveTo>
                <a:lnTo>
                  <a:pt x="50" y="12075"/>
                </a:lnTo>
                <a:cubicBezTo>
                  <a:pt x="50" y="12089"/>
                  <a:pt x="39" y="12100"/>
                  <a:pt x="25" y="12100"/>
                </a:cubicBezTo>
                <a:cubicBezTo>
                  <a:pt x="11" y="12100"/>
                  <a:pt x="0" y="12089"/>
                  <a:pt x="0" y="12075"/>
                </a:cubicBezTo>
                <a:lnTo>
                  <a:pt x="0" y="11925"/>
                </a:lnTo>
                <a:cubicBezTo>
                  <a:pt x="0" y="11911"/>
                  <a:pt x="11" y="11900"/>
                  <a:pt x="25" y="11900"/>
                </a:cubicBezTo>
                <a:cubicBezTo>
                  <a:pt x="39" y="11900"/>
                  <a:pt x="50" y="11911"/>
                  <a:pt x="50" y="11925"/>
                </a:cubicBezTo>
                <a:close/>
                <a:moveTo>
                  <a:pt x="50" y="12275"/>
                </a:moveTo>
                <a:lnTo>
                  <a:pt x="50" y="12425"/>
                </a:lnTo>
                <a:cubicBezTo>
                  <a:pt x="50" y="12439"/>
                  <a:pt x="39" y="12450"/>
                  <a:pt x="25" y="12450"/>
                </a:cubicBezTo>
                <a:cubicBezTo>
                  <a:pt x="11" y="12450"/>
                  <a:pt x="0" y="12439"/>
                  <a:pt x="0" y="12425"/>
                </a:cubicBezTo>
                <a:lnTo>
                  <a:pt x="0" y="12275"/>
                </a:lnTo>
                <a:cubicBezTo>
                  <a:pt x="0" y="12261"/>
                  <a:pt x="11" y="12250"/>
                  <a:pt x="25" y="12250"/>
                </a:cubicBezTo>
                <a:cubicBezTo>
                  <a:pt x="39" y="12250"/>
                  <a:pt x="50" y="12261"/>
                  <a:pt x="50" y="12275"/>
                </a:cubicBezTo>
                <a:close/>
                <a:moveTo>
                  <a:pt x="50" y="12625"/>
                </a:moveTo>
                <a:lnTo>
                  <a:pt x="50" y="12775"/>
                </a:lnTo>
                <a:cubicBezTo>
                  <a:pt x="50" y="12789"/>
                  <a:pt x="39" y="12800"/>
                  <a:pt x="25" y="12800"/>
                </a:cubicBezTo>
                <a:cubicBezTo>
                  <a:pt x="11" y="12800"/>
                  <a:pt x="0" y="12789"/>
                  <a:pt x="0" y="12775"/>
                </a:cubicBezTo>
                <a:lnTo>
                  <a:pt x="0" y="12625"/>
                </a:lnTo>
                <a:cubicBezTo>
                  <a:pt x="0" y="12611"/>
                  <a:pt x="11" y="12600"/>
                  <a:pt x="25" y="12600"/>
                </a:cubicBezTo>
                <a:cubicBezTo>
                  <a:pt x="39" y="12600"/>
                  <a:pt x="50" y="12611"/>
                  <a:pt x="50" y="12625"/>
                </a:cubicBezTo>
                <a:close/>
                <a:moveTo>
                  <a:pt x="50" y="12975"/>
                </a:moveTo>
                <a:lnTo>
                  <a:pt x="50" y="13125"/>
                </a:lnTo>
                <a:cubicBezTo>
                  <a:pt x="50" y="13139"/>
                  <a:pt x="39" y="13150"/>
                  <a:pt x="25" y="13150"/>
                </a:cubicBezTo>
                <a:cubicBezTo>
                  <a:pt x="11" y="13150"/>
                  <a:pt x="0" y="13139"/>
                  <a:pt x="0" y="13125"/>
                </a:cubicBezTo>
                <a:lnTo>
                  <a:pt x="0" y="12975"/>
                </a:lnTo>
                <a:cubicBezTo>
                  <a:pt x="0" y="12961"/>
                  <a:pt x="11" y="12950"/>
                  <a:pt x="25" y="12950"/>
                </a:cubicBezTo>
                <a:cubicBezTo>
                  <a:pt x="39" y="12950"/>
                  <a:pt x="50" y="12961"/>
                  <a:pt x="50" y="12975"/>
                </a:cubicBezTo>
                <a:close/>
                <a:moveTo>
                  <a:pt x="50" y="13325"/>
                </a:moveTo>
                <a:lnTo>
                  <a:pt x="50" y="13475"/>
                </a:lnTo>
                <a:cubicBezTo>
                  <a:pt x="50" y="13489"/>
                  <a:pt x="39" y="13500"/>
                  <a:pt x="25" y="13500"/>
                </a:cubicBezTo>
                <a:cubicBezTo>
                  <a:pt x="11" y="13500"/>
                  <a:pt x="0" y="13489"/>
                  <a:pt x="0" y="13475"/>
                </a:cubicBezTo>
                <a:lnTo>
                  <a:pt x="0" y="13325"/>
                </a:lnTo>
                <a:cubicBezTo>
                  <a:pt x="0" y="13311"/>
                  <a:pt x="11" y="13300"/>
                  <a:pt x="25" y="13300"/>
                </a:cubicBezTo>
                <a:cubicBezTo>
                  <a:pt x="39" y="13300"/>
                  <a:pt x="50" y="13311"/>
                  <a:pt x="50" y="13325"/>
                </a:cubicBezTo>
                <a:close/>
                <a:moveTo>
                  <a:pt x="50" y="13675"/>
                </a:moveTo>
                <a:lnTo>
                  <a:pt x="50" y="13825"/>
                </a:lnTo>
                <a:cubicBezTo>
                  <a:pt x="50" y="13839"/>
                  <a:pt x="39" y="13850"/>
                  <a:pt x="25" y="13850"/>
                </a:cubicBezTo>
                <a:cubicBezTo>
                  <a:pt x="11" y="13850"/>
                  <a:pt x="0" y="13839"/>
                  <a:pt x="0" y="13825"/>
                </a:cubicBezTo>
                <a:lnTo>
                  <a:pt x="0" y="13675"/>
                </a:lnTo>
                <a:cubicBezTo>
                  <a:pt x="0" y="13661"/>
                  <a:pt x="11" y="13650"/>
                  <a:pt x="25" y="13650"/>
                </a:cubicBezTo>
                <a:cubicBezTo>
                  <a:pt x="39" y="13650"/>
                  <a:pt x="50" y="13661"/>
                  <a:pt x="50" y="13675"/>
                </a:cubicBezTo>
                <a:close/>
                <a:moveTo>
                  <a:pt x="50" y="14025"/>
                </a:moveTo>
                <a:lnTo>
                  <a:pt x="50" y="14175"/>
                </a:lnTo>
                <a:cubicBezTo>
                  <a:pt x="50" y="14189"/>
                  <a:pt x="39" y="14200"/>
                  <a:pt x="25" y="14200"/>
                </a:cubicBezTo>
                <a:cubicBezTo>
                  <a:pt x="11" y="14200"/>
                  <a:pt x="0" y="14189"/>
                  <a:pt x="0" y="14175"/>
                </a:cubicBezTo>
                <a:lnTo>
                  <a:pt x="0" y="14025"/>
                </a:lnTo>
                <a:cubicBezTo>
                  <a:pt x="0" y="14011"/>
                  <a:pt x="11" y="14000"/>
                  <a:pt x="25" y="14000"/>
                </a:cubicBezTo>
                <a:cubicBezTo>
                  <a:pt x="39" y="14000"/>
                  <a:pt x="50" y="14011"/>
                  <a:pt x="50" y="14025"/>
                </a:cubicBezTo>
                <a:close/>
                <a:moveTo>
                  <a:pt x="50" y="14375"/>
                </a:moveTo>
                <a:lnTo>
                  <a:pt x="50" y="14525"/>
                </a:lnTo>
                <a:cubicBezTo>
                  <a:pt x="50" y="14539"/>
                  <a:pt x="39" y="14550"/>
                  <a:pt x="25" y="14550"/>
                </a:cubicBezTo>
                <a:cubicBezTo>
                  <a:pt x="11" y="14550"/>
                  <a:pt x="0" y="14539"/>
                  <a:pt x="0" y="14525"/>
                </a:cubicBezTo>
                <a:lnTo>
                  <a:pt x="0" y="14375"/>
                </a:lnTo>
                <a:cubicBezTo>
                  <a:pt x="0" y="14361"/>
                  <a:pt x="11" y="14350"/>
                  <a:pt x="25" y="14350"/>
                </a:cubicBezTo>
                <a:cubicBezTo>
                  <a:pt x="39" y="14350"/>
                  <a:pt x="50" y="14361"/>
                  <a:pt x="50" y="14375"/>
                </a:cubicBezTo>
                <a:close/>
                <a:moveTo>
                  <a:pt x="50" y="14725"/>
                </a:moveTo>
                <a:lnTo>
                  <a:pt x="50" y="14875"/>
                </a:lnTo>
                <a:cubicBezTo>
                  <a:pt x="50" y="14889"/>
                  <a:pt x="39" y="14900"/>
                  <a:pt x="25" y="14900"/>
                </a:cubicBezTo>
                <a:cubicBezTo>
                  <a:pt x="11" y="14900"/>
                  <a:pt x="0" y="14889"/>
                  <a:pt x="0" y="14875"/>
                </a:cubicBezTo>
                <a:lnTo>
                  <a:pt x="0" y="14725"/>
                </a:lnTo>
                <a:cubicBezTo>
                  <a:pt x="0" y="14711"/>
                  <a:pt x="11" y="14700"/>
                  <a:pt x="25" y="14700"/>
                </a:cubicBezTo>
                <a:cubicBezTo>
                  <a:pt x="39" y="14700"/>
                  <a:pt x="50" y="14711"/>
                  <a:pt x="50" y="14725"/>
                </a:cubicBezTo>
                <a:close/>
                <a:moveTo>
                  <a:pt x="50" y="15075"/>
                </a:moveTo>
                <a:lnTo>
                  <a:pt x="50" y="15225"/>
                </a:lnTo>
                <a:cubicBezTo>
                  <a:pt x="50" y="15239"/>
                  <a:pt x="39" y="15250"/>
                  <a:pt x="25" y="15250"/>
                </a:cubicBezTo>
                <a:cubicBezTo>
                  <a:pt x="11" y="15250"/>
                  <a:pt x="0" y="15239"/>
                  <a:pt x="0" y="15225"/>
                </a:cubicBezTo>
                <a:lnTo>
                  <a:pt x="0" y="15075"/>
                </a:lnTo>
                <a:cubicBezTo>
                  <a:pt x="0" y="15061"/>
                  <a:pt x="11" y="15050"/>
                  <a:pt x="25" y="15050"/>
                </a:cubicBezTo>
                <a:cubicBezTo>
                  <a:pt x="39" y="15050"/>
                  <a:pt x="50" y="15061"/>
                  <a:pt x="50" y="15075"/>
                </a:cubicBezTo>
                <a:close/>
                <a:moveTo>
                  <a:pt x="50" y="15425"/>
                </a:moveTo>
                <a:lnTo>
                  <a:pt x="50" y="15575"/>
                </a:lnTo>
                <a:cubicBezTo>
                  <a:pt x="50" y="15589"/>
                  <a:pt x="39" y="15600"/>
                  <a:pt x="25" y="15600"/>
                </a:cubicBezTo>
                <a:cubicBezTo>
                  <a:pt x="11" y="15600"/>
                  <a:pt x="0" y="15589"/>
                  <a:pt x="0" y="15575"/>
                </a:cubicBezTo>
                <a:lnTo>
                  <a:pt x="0" y="15425"/>
                </a:lnTo>
                <a:cubicBezTo>
                  <a:pt x="0" y="15411"/>
                  <a:pt x="11" y="15400"/>
                  <a:pt x="25" y="15400"/>
                </a:cubicBezTo>
                <a:cubicBezTo>
                  <a:pt x="39" y="15400"/>
                  <a:pt x="50" y="15411"/>
                  <a:pt x="50" y="15425"/>
                </a:cubicBezTo>
                <a:close/>
                <a:moveTo>
                  <a:pt x="50" y="15775"/>
                </a:moveTo>
                <a:lnTo>
                  <a:pt x="50" y="15925"/>
                </a:lnTo>
                <a:cubicBezTo>
                  <a:pt x="50" y="15939"/>
                  <a:pt x="39" y="15950"/>
                  <a:pt x="25" y="15950"/>
                </a:cubicBezTo>
                <a:cubicBezTo>
                  <a:pt x="11" y="15950"/>
                  <a:pt x="0" y="15939"/>
                  <a:pt x="0" y="15925"/>
                </a:cubicBezTo>
                <a:lnTo>
                  <a:pt x="0" y="15775"/>
                </a:lnTo>
                <a:cubicBezTo>
                  <a:pt x="0" y="15761"/>
                  <a:pt x="11" y="15750"/>
                  <a:pt x="25" y="15750"/>
                </a:cubicBezTo>
                <a:cubicBezTo>
                  <a:pt x="39" y="15750"/>
                  <a:pt x="50" y="15761"/>
                  <a:pt x="50" y="15775"/>
                </a:cubicBezTo>
                <a:close/>
                <a:moveTo>
                  <a:pt x="50" y="16125"/>
                </a:moveTo>
                <a:lnTo>
                  <a:pt x="50" y="16275"/>
                </a:lnTo>
                <a:cubicBezTo>
                  <a:pt x="50" y="16289"/>
                  <a:pt x="39" y="16300"/>
                  <a:pt x="25" y="16300"/>
                </a:cubicBezTo>
                <a:cubicBezTo>
                  <a:pt x="11" y="16300"/>
                  <a:pt x="0" y="16289"/>
                  <a:pt x="0" y="16275"/>
                </a:cubicBezTo>
                <a:lnTo>
                  <a:pt x="0" y="16125"/>
                </a:lnTo>
                <a:cubicBezTo>
                  <a:pt x="0" y="16111"/>
                  <a:pt x="11" y="16100"/>
                  <a:pt x="25" y="16100"/>
                </a:cubicBezTo>
                <a:cubicBezTo>
                  <a:pt x="39" y="16100"/>
                  <a:pt x="50" y="16111"/>
                  <a:pt x="50" y="16125"/>
                </a:cubicBezTo>
                <a:close/>
                <a:moveTo>
                  <a:pt x="50" y="16475"/>
                </a:moveTo>
                <a:lnTo>
                  <a:pt x="50" y="16625"/>
                </a:lnTo>
                <a:cubicBezTo>
                  <a:pt x="50" y="16639"/>
                  <a:pt x="39" y="16650"/>
                  <a:pt x="25" y="16650"/>
                </a:cubicBezTo>
                <a:cubicBezTo>
                  <a:pt x="11" y="16650"/>
                  <a:pt x="0" y="16639"/>
                  <a:pt x="0" y="16625"/>
                </a:cubicBezTo>
                <a:lnTo>
                  <a:pt x="0" y="16475"/>
                </a:lnTo>
                <a:cubicBezTo>
                  <a:pt x="0" y="16461"/>
                  <a:pt x="11" y="16450"/>
                  <a:pt x="25" y="16450"/>
                </a:cubicBezTo>
                <a:cubicBezTo>
                  <a:pt x="39" y="16450"/>
                  <a:pt x="50" y="16461"/>
                  <a:pt x="50" y="16475"/>
                </a:cubicBezTo>
                <a:close/>
                <a:moveTo>
                  <a:pt x="50" y="16825"/>
                </a:moveTo>
                <a:lnTo>
                  <a:pt x="50" y="16975"/>
                </a:lnTo>
                <a:cubicBezTo>
                  <a:pt x="50" y="16989"/>
                  <a:pt x="39" y="17000"/>
                  <a:pt x="25" y="17000"/>
                </a:cubicBezTo>
                <a:cubicBezTo>
                  <a:pt x="11" y="17000"/>
                  <a:pt x="0" y="16989"/>
                  <a:pt x="0" y="16975"/>
                </a:cubicBezTo>
                <a:lnTo>
                  <a:pt x="0" y="16825"/>
                </a:lnTo>
                <a:cubicBezTo>
                  <a:pt x="0" y="16811"/>
                  <a:pt x="11" y="16800"/>
                  <a:pt x="25" y="16800"/>
                </a:cubicBezTo>
                <a:cubicBezTo>
                  <a:pt x="39" y="16800"/>
                  <a:pt x="50" y="16811"/>
                  <a:pt x="50" y="16825"/>
                </a:cubicBezTo>
                <a:close/>
                <a:moveTo>
                  <a:pt x="50" y="17175"/>
                </a:moveTo>
                <a:lnTo>
                  <a:pt x="50" y="17325"/>
                </a:lnTo>
                <a:cubicBezTo>
                  <a:pt x="50" y="17339"/>
                  <a:pt x="39" y="17350"/>
                  <a:pt x="25" y="17350"/>
                </a:cubicBezTo>
                <a:cubicBezTo>
                  <a:pt x="11" y="17350"/>
                  <a:pt x="0" y="17339"/>
                  <a:pt x="0" y="17325"/>
                </a:cubicBezTo>
                <a:lnTo>
                  <a:pt x="0" y="17175"/>
                </a:lnTo>
                <a:cubicBezTo>
                  <a:pt x="0" y="17161"/>
                  <a:pt x="11" y="17150"/>
                  <a:pt x="25" y="17150"/>
                </a:cubicBezTo>
                <a:cubicBezTo>
                  <a:pt x="39" y="17150"/>
                  <a:pt x="50" y="17161"/>
                  <a:pt x="50" y="17175"/>
                </a:cubicBezTo>
                <a:close/>
                <a:moveTo>
                  <a:pt x="50" y="17525"/>
                </a:moveTo>
                <a:lnTo>
                  <a:pt x="50" y="17675"/>
                </a:lnTo>
                <a:cubicBezTo>
                  <a:pt x="50" y="17689"/>
                  <a:pt x="39" y="17700"/>
                  <a:pt x="25" y="17700"/>
                </a:cubicBezTo>
                <a:cubicBezTo>
                  <a:pt x="11" y="17700"/>
                  <a:pt x="0" y="17689"/>
                  <a:pt x="0" y="17675"/>
                </a:cubicBezTo>
                <a:lnTo>
                  <a:pt x="0" y="17525"/>
                </a:lnTo>
                <a:cubicBezTo>
                  <a:pt x="0" y="17511"/>
                  <a:pt x="11" y="17500"/>
                  <a:pt x="25" y="17500"/>
                </a:cubicBezTo>
                <a:cubicBezTo>
                  <a:pt x="39" y="17500"/>
                  <a:pt x="50" y="17511"/>
                  <a:pt x="50" y="17525"/>
                </a:cubicBez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32640" y="2071800"/>
            <a:ext cx="9360" cy="3251160"/>
          </a:xfrm>
          <a:custGeom>
            <a:avLst/>
            <a:gdLst/>
            <a:ahLst/>
            <a:rect l="l" t="t" r="r" b="b"/>
            <a:pathLst>
              <a:path w="50" h="17700">
                <a:moveTo>
                  <a:pt x="50" y="25"/>
                </a:moveTo>
                <a:lnTo>
                  <a:pt x="50" y="175"/>
                </a:lnTo>
                <a:cubicBezTo>
                  <a:pt x="50" y="189"/>
                  <a:pt x="39" y="200"/>
                  <a:pt x="25" y="200"/>
                </a:cubicBezTo>
                <a:cubicBezTo>
                  <a:pt x="11" y="200"/>
                  <a:pt x="0" y="189"/>
                  <a:pt x="0" y="175"/>
                </a:cubicBezTo>
                <a:lnTo>
                  <a:pt x="0" y="25"/>
                </a:lnTo>
                <a:cubicBezTo>
                  <a:pt x="0" y="11"/>
                  <a:pt x="11" y="0"/>
                  <a:pt x="25" y="0"/>
                </a:cubicBezTo>
                <a:cubicBezTo>
                  <a:pt x="39" y="0"/>
                  <a:pt x="50" y="11"/>
                  <a:pt x="50" y="25"/>
                </a:cubicBezTo>
                <a:close/>
                <a:moveTo>
                  <a:pt x="50" y="375"/>
                </a:moveTo>
                <a:lnTo>
                  <a:pt x="50" y="525"/>
                </a:lnTo>
                <a:cubicBezTo>
                  <a:pt x="50" y="539"/>
                  <a:pt x="39" y="550"/>
                  <a:pt x="25" y="550"/>
                </a:cubicBezTo>
                <a:cubicBezTo>
                  <a:pt x="11" y="550"/>
                  <a:pt x="0" y="539"/>
                  <a:pt x="0" y="525"/>
                </a:cubicBezTo>
                <a:lnTo>
                  <a:pt x="0" y="375"/>
                </a:lnTo>
                <a:cubicBezTo>
                  <a:pt x="0" y="361"/>
                  <a:pt x="11" y="350"/>
                  <a:pt x="25" y="350"/>
                </a:cubicBezTo>
                <a:cubicBezTo>
                  <a:pt x="39" y="350"/>
                  <a:pt x="50" y="361"/>
                  <a:pt x="50" y="375"/>
                </a:cubicBezTo>
                <a:close/>
                <a:moveTo>
                  <a:pt x="50" y="725"/>
                </a:moveTo>
                <a:lnTo>
                  <a:pt x="50" y="875"/>
                </a:lnTo>
                <a:cubicBezTo>
                  <a:pt x="50" y="889"/>
                  <a:pt x="39" y="900"/>
                  <a:pt x="25" y="900"/>
                </a:cubicBezTo>
                <a:cubicBezTo>
                  <a:pt x="11" y="900"/>
                  <a:pt x="0" y="889"/>
                  <a:pt x="0" y="875"/>
                </a:cubicBezTo>
                <a:lnTo>
                  <a:pt x="0" y="725"/>
                </a:lnTo>
                <a:cubicBezTo>
                  <a:pt x="0" y="711"/>
                  <a:pt x="11" y="700"/>
                  <a:pt x="25" y="700"/>
                </a:cubicBezTo>
                <a:cubicBezTo>
                  <a:pt x="39" y="700"/>
                  <a:pt x="50" y="711"/>
                  <a:pt x="50" y="725"/>
                </a:cubicBezTo>
                <a:close/>
                <a:moveTo>
                  <a:pt x="50" y="1075"/>
                </a:moveTo>
                <a:lnTo>
                  <a:pt x="50" y="1225"/>
                </a:lnTo>
                <a:cubicBezTo>
                  <a:pt x="50" y="1239"/>
                  <a:pt x="39" y="1250"/>
                  <a:pt x="25" y="1250"/>
                </a:cubicBezTo>
                <a:cubicBezTo>
                  <a:pt x="11" y="1250"/>
                  <a:pt x="0" y="1239"/>
                  <a:pt x="0" y="1225"/>
                </a:cubicBezTo>
                <a:lnTo>
                  <a:pt x="0" y="1075"/>
                </a:lnTo>
                <a:cubicBezTo>
                  <a:pt x="0" y="1061"/>
                  <a:pt x="11" y="1050"/>
                  <a:pt x="25" y="1050"/>
                </a:cubicBezTo>
                <a:cubicBezTo>
                  <a:pt x="39" y="1050"/>
                  <a:pt x="50" y="1061"/>
                  <a:pt x="50" y="1075"/>
                </a:cubicBezTo>
                <a:close/>
                <a:moveTo>
                  <a:pt x="50" y="1425"/>
                </a:moveTo>
                <a:lnTo>
                  <a:pt x="50" y="1575"/>
                </a:lnTo>
                <a:cubicBezTo>
                  <a:pt x="50" y="1589"/>
                  <a:pt x="39" y="1600"/>
                  <a:pt x="25" y="1600"/>
                </a:cubicBezTo>
                <a:cubicBezTo>
                  <a:pt x="11" y="1600"/>
                  <a:pt x="0" y="1589"/>
                  <a:pt x="0" y="1575"/>
                </a:cubicBezTo>
                <a:lnTo>
                  <a:pt x="0" y="1425"/>
                </a:lnTo>
                <a:cubicBezTo>
                  <a:pt x="0" y="1411"/>
                  <a:pt x="11" y="1400"/>
                  <a:pt x="25" y="1400"/>
                </a:cubicBezTo>
                <a:cubicBezTo>
                  <a:pt x="39" y="1400"/>
                  <a:pt x="50" y="1411"/>
                  <a:pt x="50" y="1425"/>
                </a:cubicBezTo>
                <a:close/>
                <a:moveTo>
                  <a:pt x="50" y="1775"/>
                </a:moveTo>
                <a:lnTo>
                  <a:pt x="50" y="1925"/>
                </a:lnTo>
                <a:cubicBezTo>
                  <a:pt x="50" y="1939"/>
                  <a:pt x="39" y="1950"/>
                  <a:pt x="25" y="1950"/>
                </a:cubicBezTo>
                <a:cubicBezTo>
                  <a:pt x="11" y="1950"/>
                  <a:pt x="0" y="1939"/>
                  <a:pt x="0" y="1925"/>
                </a:cubicBezTo>
                <a:lnTo>
                  <a:pt x="0" y="1775"/>
                </a:lnTo>
                <a:cubicBezTo>
                  <a:pt x="0" y="1761"/>
                  <a:pt x="11" y="1750"/>
                  <a:pt x="25" y="1750"/>
                </a:cubicBezTo>
                <a:cubicBezTo>
                  <a:pt x="39" y="1750"/>
                  <a:pt x="50" y="1761"/>
                  <a:pt x="50" y="1775"/>
                </a:cubicBezTo>
                <a:close/>
                <a:moveTo>
                  <a:pt x="50" y="2125"/>
                </a:moveTo>
                <a:lnTo>
                  <a:pt x="50" y="2275"/>
                </a:lnTo>
                <a:cubicBezTo>
                  <a:pt x="50" y="2289"/>
                  <a:pt x="39" y="2300"/>
                  <a:pt x="25" y="2300"/>
                </a:cubicBezTo>
                <a:cubicBezTo>
                  <a:pt x="11" y="2300"/>
                  <a:pt x="0" y="2289"/>
                  <a:pt x="0" y="2275"/>
                </a:cubicBezTo>
                <a:lnTo>
                  <a:pt x="0" y="2125"/>
                </a:lnTo>
                <a:cubicBezTo>
                  <a:pt x="0" y="2111"/>
                  <a:pt x="11" y="2100"/>
                  <a:pt x="25" y="2100"/>
                </a:cubicBezTo>
                <a:cubicBezTo>
                  <a:pt x="39" y="2100"/>
                  <a:pt x="50" y="2111"/>
                  <a:pt x="50" y="2125"/>
                </a:cubicBezTo>
                <a:close/>
                <a:moveTo>
                  <a:pt x="50" y="2475"/>
                </a:moveTo>
                <a:lnTo>
                  <a:pt x="50" y="2625"/>
                </a:lnTo>
                <a:cubicBezTo>
                  <a:pt x="50" y="2639"/>
                  <a:pt x="39" y="2650"/>
                  <a:pt x="25" y="2650"/>
                </a:cubicBezTo>
                <a:cubicBezTo>
                  <a:pt x="11" y="2650"/>
                  <a:pt x="0" y="2639"/>
                  <a:pt x="0" y="2625"/>
                </a:cubicBezTo>
                <a:lnTo>
                  <a:pt x="0" y="2475"/>
                </a:lnTo>
                <a:cubicBezTo>
                  <a:pt x="0" y="2461"/>
                  <a:pt x="11" y="2450"/>
                  <a:pt x="25" y="2450"/>
                </a:cubicBezTo>
                <a:cubicBezTo>
                  <a:pt x="39" y="2450"/>
                  <a:pt x="50" y="2461"/>
                  <a:pt x="50" y="2475"/>
                </a:cubicBezTo>
                <a:close/>
                <a:moveTo>
                  <a:pt x="50" y="2825"/>
                </a:moveTo>
                <a:lnTo>
                  <a:pt x="50" y="2975"/>
                </a:lnTo>
                <a:cubicBezTo>
                  <a:pt x="50" y="2989"/>
                  <a:pt x="39" y="3000"/>
                  <a:pt x="25" y="3000"/>
                </a:cubicBezTo>
                <a:cubicBezTo>
                  <a:pt x="11" y="3000"/>
                  <a:pt x="0" y="2989"/>
                  <a:pt x="0" y="2975"/>
                </a:cubicBezTo>
                <a:lnTo>
                  <a:pt x="0" y="2825"/>
                </a:lnTo>
                <a:cubicBezTo>
                  <a:pt x="0" y="2811"/>
                  <a:pt x="11" y="2800"/>
                  <a:pt x="25" y="2800"/>
                </a:cubicBezTo>
                <a:cubicBezTo>
                  <a:pt x="39" y="2800"/>
                  <a:pt x="50" y="2811"/>
                  <a:pt x="50" y="2825"/>
                </a:cubicBezTo>
                <a:close/>
                <a:moveTo>
                  <a:pt x="50" y="3175"/>
                </a:moveTo>
                <a:lnTo>
                  <a:pt x="50" y="3325"/>
                </a:lnTo>
                <a:cubicBezTo>
                  <a:pt x="50" y="3339"/>
                  <a:pt x="39" y="3350"/>
                  <a:pt x="25" y="3350"/>
                </a:cubicBezTo>
                <a:cubicBezTo>
                  <a:pt x="11" y="3350"/>
                  <a:pt x="0" y="3339"/>
                  <a:pt x="0" y="3325"/>
                </a:cubicBezTo>
                <a:lnTo>
                  <a:pt x="0" y="3175"/>
                </a:lnTo>
                <a:cubicBezTo>
                  <a:pt x="0" y="3161"/>
                  <a:pt x="11" y="3150"/>
                  <a:pt x="25" y="3150"/>
                </a:cubicBezTo>
                <a:cubicBezTo>
                  <a:pt x="39" y="3150"/>
                  <a:pt x="50" y="3161"/>
                  <a:pt x="50" y="3175"/>
                </a:cubicBezTo>
                <a:close/>
                <a:moveTo>
                  <a:pt x="50" y="3525"/>
                </a:moveTo>
                <a:lnTo>
                  <a:pt x="50" y="3675"/>
                </a:lnTo>
                <a:cubicBezTo>
                  <a:pt x="50" y="3689"/>
                  <a:pt x="39" y="3700"/>
                  <a:pt x="25" y="3700"/>
                </a:cubicBezTo>
                <a:cubicBezTo>
                  <a:pt x="11" y="3700"/>
                  <a:pt x="0" y="3689"/>
                  <a:pt x="0" y="3675"/>
                </a:cubicBezTo>
                <a:lnTo>
                  <a:pt x="0" y="3525"/>
                </a:lnTo>
                <a:cubicBezTo>
                  <a:pt x="0" y="3511"/>
                  <a:pt x="11" y="3500"/>
                  <a:pt x="25" y="3500"/>
                </a:cubicBezTo>
                <a:cubicBezTo>
                  <a:pt x="39" y="3500"/>
                  <a:pt x="50" y="3511"/>
                  <a:pt x="50" y="3525"/>
                </a:cubicBezTo>
                <a:close/>
                <a:moveTo>
                  <a:pt x="50" y="3875"/>
                </a:moveTo>
                <a:lnTo>
                  <a:pt x="50" y="4025"/>
                </a:lnTo>
                <a:cubicBezTo>
                  <a:pt x="50" y="4039"/>
                  <a:pt x="39" y="4050"/>
                  <a:pt x="25" y="4050"/>
                </a:cubicBezTo>
                <a:cubicBezTo>
                  <a:pt x="11" y="4050"/>
                  <a:pt x="0" y="4039"/>
                  <a:pt x="0" y="4025"/>
                </a:cubicBezTo>
                <a:lnTo>
                  <a:pt x="0" y="3875"/>
                </a:lnTo>
                <a:cubicBezTo>
                  <a:pt x="0" y="3861"/>
                  <a:pt x="11" y="3850"/>
                  <a:pt x="25" y="3850"/>
                </a:cubicBezTo>
                <a:cubicBezTo>
                  <a:pt x="39" y="3850"/>
                  <a:pt x="50" y="3861"/>
                  <a:pt x="50" y="3875"/>
                </a:cubicBezTo>
                <a:close/>
                <a:moveTo>
                  <a:pt x="50" y="4225"/>
                </a:moveTo>
                <a:lnTo>
                  <a:pt x="50" y="4375"/>
                </a:lnTo>
                <a:cubicBezTo>
                  <a:pt x="50" y="4389"/>
                  <a:pt x="39" y="4400"/>
                  <a:pt x="25" y="4400"/>
                </a:cubicBezTo>
                <a:cubicBezTo>
                  <a:pt x="11" y="4400"/>
                  <a:pt x="0" y="4389"/>
                  <a:pt x="0" y="4375"/>
                </a:cubicBezTo>
                <a:lnTo>
                  <a:pt x="0" y="4225"/>
                </a:lnTo>
                <a:cubicBezTo>
                  <a:pt x="0" y="4211"/>
                  <a:pt x="11" y="4200"/>
                  <a:pt x="25" y="4200"/>
                </a:cubicBezTo>
                <a:cubicBezTo>
                  <a:pt x="39" y="4200"/>
                  <a:pt x="50" y="4211"/>
                  <a:pt x="50" y="4225"/>
                </a:cubicBezTo>
                <a:close/>
                <a:moveTo>
                  <a:pt x="50" y="4575"/>
                </a:moveTo>
                <a:lnTo>
                  <a:pt x="50" y="4725"/>
                </a:lnTo>
                <a:cubicBezTo>
                  <a:pt x="50" y="4739"/>
                  <a:pt x="39" y="4750"/>
                  <a:pt x="25" y="4750"/>
                </a:cubicBezTo>
                <a:cubicBezTo>
                  <a:pt x="11" y="4750"/>
                  <a:pt x="0" y="4739"/>
                  <a:pt x="0" y="4725"/>
                </a:cubicBezTo>
                <a:lnTo>
                  <a:pt x="0" y="4575"/>
                </a:lnTo>
                <a:cubicBezTo>
                  <a:pt x="0" y="4561"/>
                  <a:pt x="11" y="4550"/>
                  <a:pt x="25" y="4550"/>
                </a:cubicBezTo>
                <a:cubicBezTo>
                  <a:pt x="39" y="4550"/>
                  <a:pt x="50" y="4561"/>
                  <a:pt x="50" y="4575"/>
                </a:cubicBezTo>
                <a:close/>
                <a:moveTo>
                  <a:pt x="50" y="4925"/>
                </a:moveTo>
                <a:lnTo>
                  <a:pt x="50" y="5075"/>
                </a:lnTo>
                <a:cubicBezTo>
                  <a:pt x="50" y="5089"/>
                  <a:pt x="39" y="5100"/>
                  <a:pt x="25" y="5100"/>
                </a:cubicBezTo>
                <a:cubicBezTo>
                  <a:pt x="11" y="5100"/>
                  <a:pt x="0" y="5089"/>
                  <a:pt x="0" y="5075"/>
                </a:cubicBezTo>
                <a:lnTo>
                  <a:pt x="0" y="4925"/>
                </a:lnTo>
                <a:cubicBezTo>
                  <a:pt x="0" y="4911"/>
                  <a:pt x="11" y="4900"/>
                  <a:pt x="25" y="4900"/>
                </a:cubicBezTo>
                <a:cubicBezTo>
                  <a:pt x="39" y="4900"/>
                  <a:pt x="50" y="4911"/>
                  <a:pt x="50" y="4925"/>
                </a:cubicBezTo>
                <a:close/>
                <a:moveTo>
                  <a:pt x="50" y="5275"/>
                </a:moveTo>
                <a:lnTo>
                  <a:pt x="50" y="5425"/>
                </a:lnTo>
                <a:cubicBezTo>
                  <a:pt x="50" y="5439"/>
                  <a:pt x="39" y="5450"/>
                  <a:pt x="25" y="5450"/>
                </a:cubicBezTo>
                <a:cubicBezTo>
                  <a:pt x="11" y="5450"/>
                  <a:pt x="0" y="5439"/>
                  <a:pt x="0" y="5425"/>
                </a:cubicBezTo>
                <a:lnTo>
                  <a:pt x="0" y="5275"/>
                </a:lnTo>
                <a:cubicBezTo>
                  <a:pt x="0" y="5261"/>
                  <a:pt x="11" y="5250"/>
                  <a:pt x="25" y="5250"/>
                </a:cubicBezTo>
                <a:cubicBezTo>
                  <a:pt x="39" y="5250"/>
                  <a:pt x="50" y="5261"/>
                  <a:pt x="50" y="5275"/>
                </a:cubicBezTo>
                <a:close/>
                <a:moveTo>
                  <a:pt x="50" y="5625"/>
                </a:moveTo>
                <a:lnTo>
                  <a:pt x="50" y="5775"/>
                </a:lnTo>
                <a:cubicBezTo>
                  <a:pt x="50" y="5789"/>
                  <a:pt x="39" y="5800"/>
                  <a:pt x="25" y="5800"/>
                </a:cubicBezTo>
                <a:cubicBezTo>
                  <a:pt x="11" y="5800"/>
                  <a:pt x="0" y="5789"/>
                  <a:pt x="0" y="5775"/>
                </a:cubicBezTo>
                <a:lnTo>
                  <a:pt x="0" y="5625"/>
                </a:lnTo>
                <a:cubicBezTo>
                  <a:pt x="0" y="5611"/>
                  <a:pt x="11" y="5600"/>
                  <a:pt x="25" y="5600"/>
                </a:cubicBezTo>
                <a:cubicBezTo>
                  <a:pt x="39" y="5600"/>
                  <a:pt x="50" y="5611"/>
                  <a:pt x="50" y="5625"/>
                </a:cubicBezTo>
                <a:close/>
                <a:moveTo>
                  <a:pt x="50" y="5975"/>
                </a:moveTo>
                <a:lnTo>
                  <a:pt x="50" y="6125"/>
                </a:lnTo>
                <a:cubicBezTo>
                  <a:pt x="50" y="6139"/>
                  <a:pt x="39" y="6150"/>
                  <a:pt x="25" y="6150"/>
                </a:cubicBezTo>
                <a:cubicBezTo>
                  <a:pt x="11" y="6150"/>
                  <a:pt x="0" y="6139"/>
                  <a:pt x="0" y="6125"/>
                </a:cubicBezTo>
                <a:lnTo>
                  <a:pt x="0" y="5975"/>
                </a:lnTo>
                <a:cubicBezTo>
                  <a:pt x="0" y="5961"/>
                  <a:pt x="11" y="5950"/>
                  <a:pt x="25" y="5950"/>
                </a:cubicBezTo>
                <a:cubicBezTo>
                  <a:pt x="39" y="5950"/>
                  <a:pt x="50" y="5961"/>
                  <a:pt x="50" y="5975"/>
                </a:cubicBezTo>
                <a:close/>
                <a:moveTo>
                  <a:pt x="50" y="6325"/>
                </a:moveTo>
                <a:lnTo>
                  <a:pt x="50" y="6475"/>
                </a:lnTo>
                <a:cubicBezTo>
                  <a:pt x="50" y="6489"/>
                  <a:pt x="39" y="6500"/>
                  <a:pt x="25" y="6500"/>
                </a:cubicBezTo>
                <a:cubicBezTo>
                  <a:pt x="11" y="6500"/>
                  <a:pt x="0" y="6489"/>
                  <a:pt x="0" y="6475"/>
                </a:cubicBezTo>
                <a:lnTo>
                  <a:pt x="0" y="6325"/>
                </a:lnTo>
                <a:cubicBezTo>
                  <a:pt x="0" y="6311"/>
                  <a:pt x="11" y="6300"/>
                  <a:pt x="25" y="6300"/>
                </a:cubicBezTo>
                <a:cubicBezTo>
                  <a:pt x="39" y="6300"/>
                  <a:pt x="50" y="6311"/>
                  <a:pt x="50" y="6325"/>
                </a:cubicBezTo>
                <a:close/>
                <a:moveTo>
                  <a:pt x="50" y="6675"/>
                </a:moveTo>
                <a:lnTo>
                  <a:pt x="50" y="6825"/>
                </a:lnTo>
                <a:cubicBezTo>
                  <a:pt x="50" y="6839"/>
                  <a:pt x="39" y="6850"/>
                  <a:pt x="25" y="6850"/>
                </a:cubicBezTo>
                <a:cubicBezTo>
                  <a:pt x="11" y="6850"/>
                  <a:pt x="0" y="6839"/>
                  <a:pt x="0" y="6825"/>
                </a:cubicBezTo>
                <a:lnTo>
                  <a:pt x="0" y="6675"/>
                </a:lnTo>
                <a:cubicBezTo>
                  <a:pt x="0" y="6661"/>
                  <a:pt x="11" y="6650"/>
                  <a:pt x="25" y="6650"/>
                </a:cubicBezTo>
                <a:cubicBezTo>
                  <a:pt x="39" y="6650"/>
                  <a:pt x="50" y="6661"/>
                  <a:pt x="50" y="6675"/>
                </a:cubicBezTo>
                <a:close/>
                <a:moveTo>
                  <a:pt x="50" y="7025"/>
                </a:moveTo>
                <a:lnTo>
                  <a:pt x="50" y="7175"/>
                </a:lnTo>
                <a:cubicBezTo>
                  <a:pt x="50" y="7189"/>
                  <a:pt x="39" y="7200"/>
                  <a:pt x="25" y="7200"/>
                </a:cubicBezTo>
                <a:cubicBezTo>
                  <a:pt x="11" y="7200"/>
                  <a:pt x="0" y="7189"/>
                  <a:pt x="0" y="7175"/>
                </a:cubicBezTo>
                <a:lnTo>
                  <a:pt x="0" y="7025"/>
                </a:lnTo>
                <a:cubicBezTo>
                  <a:pt x="0" y="7011"/>
                  <a:pt x="11" y="7000"/>
                  <a:pt x="25" y="7000"/>
                </a:cubicBezTo>
                <a:cubicBezTo>
                  <a:pt x="39" y="7000"/>
                  <a:pt x="50" y="7011"/>
                  <a:pt x="50" y="7025"/>
                </a:cubicBezTo>
                <a:close/>
                <a:moveTo>
                  <a:pt x="50" y="7375"/>
                </a:moveTo>
                <a:lnTo>
                  <a:pt x="50" y="7525"/>
                </a:lnTo>
                <a:cubicBezTo>
                  <a:pt x="50" y="7539"/>
                  <a:pt x="39" y="7550"/>
                  <a:pt x="25" y="7550"/>
                </a:cubicBezTo>
                <a:cubicBezTo>
                  <a:pt x="11" y="7550"/>
                  <a:pt x="0" y="7539"/>
                  <a:pt x="0" y="7525"/>
                </a:cubicBezTo>
                <a:lnTo>
                  <a:pt x="0" y="7375"/>
                </a:lnTo>
                <a:cubicBezTo>
                  <a:pt x="0" y="7361"/>
                  <a:pt x="11" y="7350"/>
                  <a:pt x="25" y="7350"/>
                </a:cubicBezTo>
                <a:cubicBezTo>
                  <a:pt x="39" y="7350"/>
                  <a:pt x="50" y="7361"/>
                  <a:pt x="50" y="7375"/>
                </a:cubicBezTo>
                <a:close/>
                <a:moveTo>
                  <a:pt x="50" y="7725"/>
                </a:moveTo>
                <a:lnTo>
                  <a:pt x="50" y="7875"/>
                </a:lnTo>
                <a:cubicBezTo>
                  <a:pt x="50" y="7889"/>
                  <a:pt x="39" y="7900"/>
                  <a:pt x="25" y="7900"/>
                </a:cubicBezTo>
                <a:cubicBezTo>
                  <a:pt x="11" y="7900"/>
                  <a:pt x="0" y="7889"/>
                  <a:pt x="0" y="7875"/>
                </a:cubicBezTo>
                <a:lnTo>
                  <a:pt x="0" y="7725"/>
                </a:lnTo>
                <a:cubicBezTo>
                  <a:pt x="0" y="7711"/>
                  <a:pt x="11" y="7700"/>
                  <a:pt x="25" y="7700"/>
                </a:cubicBezTo>
                <a:cubicBezTo>
                  <a:pt x="39" y="7700"/>
                  <a:pt x="50" y="7711"/>
                  <a:pt x="50" y="7725"/>
                </a:cubicBezTo>
                <a:close/>
                <a:moveTo>
                  <a:pt x="50" y="8075"/>
                </a:moveTo>
                <a:lnTo>
                  <a:pt x="50" y="8225"/>
                </a:lnTo>
                <a:cubicBezTo>
                  <a:pt x="50" y="8239"/>
                  <a:pt x="39" y="8250"/>
                  <a:pt x="25" y="8250"/>
                </a:cubicBezTo>
                <a:cubicBezTo>
                  <a:pt x="11" y="8250"/>
                  <a:pt x="0" y="8239"/>
                  <a:pt x="0" y="8225"/>
                </a:cubicBezTo>
                <a:lnTo>
                  <a:pt x="0" y="8075"/>
                </a:lnTo>
                <a:cubicBezTo>
                  <a:pt x="0" y="8061"/>
                  <a:pt x="11" y="8050"/>
                  <a:pt x="25" y="8050"/>
                </a:cubicBezTo>
                <a:cubicBezTo>
                  <a:pt x="39" y="8050"/>
                  <a:pt x="50" y="8061"/>
                  <a:pt x="50" y="8075"/>
                </a:cubicBezTo>
                <a:close/>
                <a:moveTo>
                  <a:pt x="50" y="8425"/>
                </a:moveTo>
                <a:lnTo>
                  <a:pt x="50" y="8575"/>
                </a:lnTo>
                <a:cubicBezTo>
                  <a:pt x="50" y="8589"/>
                  <a:pt x="39" y="8600"/>
                  <a:pt x="25" y="8600"/>
                </a:cubicBezTo>
                <a:cubicBezTo>
                  <a:pt x="11" y="8600"/>
                  <a:pt x="0" y="8589"/>
                  <a:pt x="0" y="8575"/>
                </a:cubicBezTo>
                <a:lnTo>
                  <a:pt x="0" y="8425"/>
                </a:lnTo>
                <a:cubicBezTo>
                  <a:pt x="0" y="8411"/>
                  <a:pt x="11" y="8400"/>
                  <a:pt x="25" y="8400"/>
                </a:cubicBezTo>
                <a:cubicBezTo>
                  <a:pt x="39" y="8400"/>
                  <a:pt x="50" y="8411"/>
                  <a:pt x="50" y="8425"/>
                </a:cubicBezTo>
                <a:close/>
                <a:moveTo>
                  <a:pt x="50" y="8775"/>
                </a:moveTo>
                <a:lnTo>
                  <a:pt x="50" y="8925"/>
                </a:lnTo>
                <a:cubicBezTo>
                  <a:pt x="50" y="8939"/>
                  <a:pt x="39" y="8950"/>
                  <a:pt x="25" y="8950"/>
                </a:cubicBezTo>
                <a:cubicBezTo>
                  <a:pt x="11" y="8950"/>
                  <a:pt x="0" y="8939"/>
                  <a:pt x="0" y="8925"/>
                </a:cubicBezTo>
                <a:lnTo>
                  <a:pt x="0" y="8775"/>
                </a:lnTo>
                <a:cubicBezTo>
                  <a:pt x="0" y="8761"/>
                  <a:pt x="11" y="8750"/>
                  <a:pt x="25" y="8750"/>
                </a:cubicBezTo>
                <a:cubicBezTo>
                  <a:pt x="39" y="8750"/>
                  <a:pt x="50" y="8761"/>
                  <a:pt x="50" y="8775"/>
                </a:cubicBezTo>
                <a:close/>
                <a:moveTo>
                  <a:pt x="50" y="9125"/>
                </a:moveTo>
                <a:lnTo>
                  <a:pt x="50" y="9275"/>
                </a:lnTo>
                <a:cubicBezTo>
                  <a:pt x="50" y="9289"/>
                  <a:pt x="39" y="9300"/>
                  <a:pt x="25" y="9300"/>
                </a:cubicBezTo>
                <a:cubicBezTo>
                  <a:pt x="11" y="9300"/>
                  <a:pt x="0" y="9289"/>
                  <a:pt x="0" y="9275"/>
                </a:cubicBezTo>
                <a:lnTo>
                  <a:pt x="0" y="9125"/>
                </a:lnTo>
                <a:cubicBezTo>
                  <a:pt x="0" y="9111"/>
                  <a:pt x="11" y="9100"/>
                  <a:pt x="25" y="9100"/>
                </a:cubicBezTo>
                <a:cubicBezTo>
                  <a:pt x="39" y="9100"/>
                  <a:pt x="50" y="9111"/>
                  <a:pt x="50" y="9125"/>
                </a:cubicBezTo>
                <a:close/>
                <a:moveTo>
                  <a:pt x="50" y="9475"/>
                </a:moveTo>
                <a:lnTo>
                  <a:pt x="50" y="9625"/>
                </a:lnTo>
                <a:cubicBezTo>
                  <a:pt x="50" y="9639"/>
                  <a:pt x="39" y="9650"/>
                  <a:pt x="25" y="9650"/>
                </a:cubicBezTo>
                <a:cubicBezTo>
                  <a:pt x="11" y="9650"/>
                  <a:pt x="0" y="9639"/>
                  <a:pt x="0" y="9625"/>
                </a:cubicBezTo>
                <a:lnTo>
                  <a:pt x="0" y="9475"/>
                </a:lnTo>
                <a:cubicBezTo>
                  <a:pt x="0" y="9461"/>
                  <a:pt x="11" y="9450"/>
                  <a:pt x="25" y="9450"/>
                </a:cubicBezTo>
                <a:cubicBezTo>
                  <a:pt x="39" y="9450"/>
                  <a:pt x="50" y="9461"/>
                  <a:pt x="50" y="9475"/>
                </a:cubicBezTo>
                <a:close/>
                <a:moveTo>
                  <a:pt x="50" y="9825"/>
                </a:moveTo>
                <a:lnTo>
                  <a:pt x="50" y="9975"/>
                </a:lnTo>
                <a:cubicBezTo>
                  <a:pt x="50" y="9989"/>
                  <a:pt x="39" y="10000"/>
                  <a:pt x="25" y="10000"/>
                </a:cubicBezTo>
                <a:cubicBezTo>
                  <a:pt x="11" y="10000"/>
                  <a:pt x="0" y="9989"/>
                  <a:pt x="0" y="9975"/>
                </a:cubicBezTo>
                <a:lnTo>
                  <a:pt x="0" y="9825"/>
                </a:lnTo>
                <a:cubicBezTo>
                  <a:pt x="0" y="9811"/>
                  <a:pt x="11" y="9800"/>
                  <a:pt x="25" y="9800"/>
                </a:cubicBezTo>
                <a:cubicBezTo>
                  <a:pt x="39" y="9800"/>
                  <a:pt x="50" y="9811"/>
                  <a:pt x="50" y="9825"/>
                </a:cubicBezTo>
                <a:close/>
                <a:moveTo>
                  <a:pt x="50" y="10175"/>
                </a:moveTo>
                <a:lnTo>
                  <a:pt x="50" y="10325"/>
                </a:lnTo>
                <a:cubicBezTo>
                  <a:pt x="50" y="10339"/>
                  <a:pt x="39" y="10350"/>
                  <a:pt x="25" y="10350"/>
                </a:cubicBezTo>
                <a:cubicBezTo>
                  <a:pt x="11" y="10350"/>
                  <a:pt x="0" y="10339"/>
                  <a:pt x="0" y="10325"/>
                </a:cubicBezTo>
                <a:lnTo>
                  <a:pt x="0" y="10175"/>
                </a:lnTo>
                <a:cubicBezTo>
                  <a:pt x="0" y="10161"/>
                  <a:pt x="11" y="10150"/>
                  <a:pt x="25" y="10150"/>
                </a:cubicBezTo>
                <a:cubicBezTo>
                  <a:pt x="39" y="10150"/>
                  <a:pt x="50" y="10161"/>
                  <a:pt x="50" y="10175"/>
                </a:cubicBezTo>
                <a:close/>
                <a:moveTo>
                  <a:pt x="50" y="10525"/>
                </a:moveTo>
                <a:lnTo>
                  <a:pt x="50" y="10675"/>
                </a:lnTo>
                <a:cubicBezTo>
                  <a:pt x="50" y="10689"/>
                  <a:pt x="39" y="10700"/>
                  <a:pt x="25" y="10700"/>
                </a:cubicBezTo>
                <a:cubicBezTo>
                  <a:pt x="11" y="10700"/>
                  <a:pt x="0" y="10689"/>
                  <a:pt x="0" y="10675"/>
                </a:cubicBezTo>
                <a:lnTo>
                  <a:pt x="0" y="10525"/>
                </a:lnTo>
                <a:cubicBezTo>
                  <a:pt x="0" y="10511"/>
                  <a:pt x="11" y="10500"/>
                  <a:pt x="25" y="10500"/>
                </a:cubicBezTo>
                <a:cubicBezTo>
                  <a:pt x="39" y="10500"/>
                  <a:pt x="50" y="10511"/>
                  <a:pt x="50" y="10525"/>
                </a:cubicBezTo>
                <a:close/>
                <a:moveTo>
                  <a:pt x="50" y="10875"/>
                </a:moveTo>
                <a:lnTo>
                  <a:pt x="50" y="11025"/>
                </a:lnTo>
                <a:cubicBezTo>
                  <a:pt x="50" y="11039"/>
                  <a:pt x="39" y="11050"/>
                  <a:pt x="25" y="11050"/>
                </a:cubicBezTo>
                <a:cubicBezTo>
                  <a:pt x="11" y="11050"/>
                  <a:pt x="0" y="11039"/>
                  <a:pt x="0" y="11025"/>
                </a:cubicBezTo>
                <a:lnTo>
                  <a:pt x="0" y="10875"/>
                </a:lnTo>
                <a:cubicBezTo>
                  <a:pt x="0" y="10861"/>
                  <a:pt x="11" y="10850"/>
                  <a:pt x="25" y="10850"/>
                </a:cubicBezTo>
                <a:cubicBezTo>
                  <a:pt x="39" y="10850"/>
                  <a:pt x="50" y="10861"/>
                  <a:pt x="50" y="10875"/>
                </a:cubicBezTo>
                <a:close/>
                <a:moveTo>
                  <a:pt x="50" y="11225"/>
                </a:moveTo>
                <a:lnTo>
                  <a:pt x="50" y="11375"/>
                </a:lnTo>
                <a:cubicBezTo>
                  <a:pt x="50" y="11389"/>
                  <a:pt x="39" y="11400"/>
                  <a:pt x="25" y="11400"/>
                </a:cubicBezTo>
                <a:cubicBezTo>
                  <a:pt x="11" y="11400"/>
                  <a:pt x="0" y="11389"/>
                  <a:pt x="0" y="11375"/>
                </a:cubicBezTo>
                <a:lnTo>
                  <a:pt x="0" y="11225"/>
                </a:lnTo>
                <a:cubicBezTo>
                  <a:pt x="0" y="11211"/>
                  <a:pt x="11" y="11200"/>
                  <a:pt x="25" y="11200"/>
                </a:cubicBezTo>
                <a:cubicBezTo>
                  <a:pt x="39" y="11200"/>
                  <a:pt x="50" y="11211"/>
                  <a:pt x="50" y="11225"/>
                </a:cubicBezTo>
                <a:close/>
                <a:moveTo>
                  <a:pt x="50" y="11575"/>
                </a:moveTo>
                <a:lnTo>
                  <a:pt x="50" y="11725"/>
                </a:lnTo>
                <a:cubicBezTo>
                  <a:pt x="50" y="11739"/>
                  <a:pt x="39" y="11750"/>
                  <a:pt x="25" y="11750"/>
                </a:cubicBezTo>
                <a:cubicBezTo>
                  <a:pt x="11" y="11750"/>
                  <a:pt x="0" y="11739"/>
                  <a:pt x="0" y="11725"/>
                </a:cubicBezTo>
                <a:lnTo>
                  <a:pt x="0" y="11575"/>
                </a:lnTo>
                <a:cubicBezTo>
                  <a:pt x="0" y="11561"/>
                  <a:pt x="11" y="11550"/>
                  <a:pt x="25" y="11550"/>
                </a:cubicBezTo>
                <a:cubicBezTo>
                  <a:pt x="39" y="11550"/>
                  <a:pt x="50" y="11561"/>
                  <a:pt x="50" y="11575"/>
                </a:cubicBezTo>
                <a:close/>
                <a:moveTo>
                  <a:pt x="50" y="11925"/>
                </a:moveTo>
                <a:lnTo>
                  <a:pt x="50" y="12075"/>
                </a:lnTo>
                <a:cubicBezTo>
                  <a:pt x="50" y="12089"/>
                  <a:pt x="39" y="12100"/>
                  <a:pt x="25" y="12100"/>
                </a:cubicBezTo>
                <a:cubicBezTo>
                  <a:pt x="11" y="12100"/>
                  <a:pt x="0" y="12089"/>
                  <a:pt x="0" y="12075"/>
                </a:cubicBezTo>
                <a:lnTo>
                  <a:pt x="0" y="11925"/>
                </a:lnTo>
                <a:cubicBezTo>
                  <a:pt x="0" y="11911"/>
                  <a:pt x="11" y="11900"/>
                  <a:pt x="25" y="11900"/>
                </a:cubicBezTo>
                <a:cubicBezTo>
                  <a:pt x="39" y="11900"/>
                  <a:pt x="50" y="11911"/>
                  <a:pt x="50" y="11925"/>
                </a:cubicBezTo>
                <a:close/>
                <a:moveTo>
                  <a:pt x="50" y="12275"/>
                </a:moveTo>
                <a:lnTo>
                  <a:pt x="50" y="12425"/>
                </a:lnTo>
                <a:cubicBezTo>
                  <a:pt x="50" y="12439"/>
                  <a:pt x="39" y="12450"/>
                  <a:pt x="25" y="12450"/>
                </a:cubicBezTo>
                <a:cubicBezTo>
                  <a:pt x="11" y="12450"/>
                  <a:pt x="0" y="12439"/>
                  <a:pt x="0" y="12425"/>
                </a:cubicBezTo>
                <a:lnTo>
                  <a:pt x="0" y="12275"/>
                </a:lnTo>
                <a:cubicBezTo>
                  <a:pt x="0" y="12261"/>
                  <a:pt x="11" y="12250"/>
                  <a:pt x="25" y="12250"/>
                </a:cubicBezTo>
                <a:cubicBezTo>
                  <a:pt x="39" y="12250"/>
                  <a:pt x="50" y="12261"/>
                  <a:pt x="50" y="12275"/>
                </a:cubicBezTo>
                <a:close/>
                <a:moveTo>
                  <a:pt x="50" y="12625"/>
                </a:moveTo>
                <a:lnTo>
                  <a:pt x="50" y="12775"/>
                </a:lnTo>
                <a:cubicBezTo>
                  <a:pt x="50" y="12789"/>
                  <a:pt x="39" y="12800"/>
                  <a:pt x="25" y="12800"/>
                </a:cubicBezTo>
                <a:cubicBezTo>
                  <a:pt x="11" y="12800"/>
                  <a:pt x="0" y="12789"/>
                  <a:pt x="0" y="12775"/>
                </a:cubicBezTo>
                <a:lnTo>
                  <a:pt x="0" y="12625"/>
                </a:lnTo>
                <a:cubicBezTo>
                  <a:pt x="0" y="12611"/>
                  <a:pt x="11" y="12600"/>
                  <a:pt x="25" y="12600"/>
                </a:cubicBezTo>
                <a:cubicBezTo>
                  <a:pt x="39" y="12600"/>
                  <a:pt x="50" y="12611"/>
                  <a:pt x="50" y="12625"/>
                </a:cubicBezTo>
                <a:close/>
                <a:moveTo>
                  <a:pt x="50" y="12975"/>
                </a:moveTo>
                <a:lnTo>
                  <a:pt x="50" y="13125"/>
                </a:lnTo>
                <a:cubicBezTo>
                  <a:pt x="50" y="13139"/>
                  <a:pt x="39" y="13150"/>
                  <a:pt x="25" y="13150"/>
                </a:cubicBezTo>
                <a:cubicBezTo>
                  <a:pt x="11" y="13150"/>
                  <a:pt x="0" y="13139"/>
                  <a:pt x="0" y="13125"/>
                </a:cubicBezTo>
                <a:lnTo>
                  <a:pt x="0" y="12975"/>
                </a:lnTo>
                <a:cubicBezTo>
                  <a:pt x="0" y="12961"/>
                  <a:pt x="11" y="12950"/>
                  <a:pt x="25" y="12950"/>
                </a:cubicBezTo>
                <a:cubicBezTo>
                  <a:pt x="39" y="12950"/>
                  <a:pt x="50" y="12961"/>
                  <a:pt x="50" y="12975"/>
                </a:cubicBezTo>
                <a:close/>
                <a:moveTo>
                  <a:pt x="50" y="13325"/>
                </a:moveTo>
                <a:lnTo>
                  <a:pt x="50" y="13475"/>
                </a:lnTo>
                <a:cubicBezTo>
                  <a:pt x="50" y="13489"/>
                  <a:pt x="39" y="13500"/>
                  <a:pt x="25" y="13500"/>
                </a:cubicBezTo>
                <a:cubicBezTo>
                  <a:pt x="11" y="13500"/>
                  <a:pt x="0" y="13489"/>
                  <a:pt x="0" y="13475"/>
                </a:cubicBezTo>
                <a:lnTo>
                  <a:pt x="0" y="13325"/>
                </a:lnTo>
                <a:cubicBezTo>
                  <a:pt x="0" y="13311"/>
                  <a:pt x="11" y="13300"/>
                  <a:pt x="25" y="13300"/>
                </a:cubicBezTo>
                <a:cubicBezTo>
                  <a:pt x="39" y="13300"/>
                  <a:pt x="50" y="13311"/>
                  <a:pt x="50" y="13325"/>
                </a:cubicBezTo>
                <a:close/>
                <a:moveTo>
                  <a:pt x="50" y="13675"/>
                </a:moveTo>
                <a:lnTo>
                  <a:pt x="50" y="13825"/>
                </a:lnTo>
                <a:cubicBezTo>
                  <a:pt x="50" y="13839"/>
                  <a:pt x="39" y="13850"/>
                  <a:pt x="25" y="13850"/>
                </a:cubicBezTo>
                <a:cubicBezTo>
                  <a:pt x="11" y="13850"/>
                  <a:pt x="0" y="13839"/>
                  <a:pt x="0" y="13825"/>
                </a:cubicBezTo>
                <a:lnTo>
                  <a:pt x="0" y="13675"/>
                </a:lnTo>
                <a:cubicBezTo>
                  <a:pt x="0" y="13661"/>
                  <a:pt x="11" y="13650"/>
                  <a:pt x="25" y="13650"/>
                </a:cubicBezTo>
                <a:cubicBezTo>
                  <a:pt x="39" y="13650"/>
                  <a:pt x="50" y="13661"/>
                  <a:pt x="50" y="13675"/>
                </a:cubicBezTo>
                <a:close/>
                <a:moveTo>
                  <a:pt x="50" y="14025"/>
                </a:moveTo>
                <a:lnTo>
                  <a:pt x="50" y="14175"/>
                </a:lnTo>
                <a:cubicBezTo>
                  <a:pt x="50" y="14189"/>
                  <a:pt x="39" y="14200"/>
                  <a:pt x="25" y="14200"/>
                </a:cubicBezTo>
                <a:cubicBezTo>
                  <a:pt x="11" y="14200"/>
                  <a:pt x="0" y="14189"/>
                  <a:pt x="0" y="14175"/>
                </a:cubicBezTo>
                <a:lnTo>
                  <a:pt x="0" y="14025"/>
                </a:lnTo>
                <a:cubicBezTo>
                  <a:pt x="0" y="14011"/>
                  <a:pt x="11" y="14000"/>
                  <a:pt x="25" y="14000"/>
                </a:cubicBezTo>
                <a:cubicBezTo>
                  <a:pt x="39" y="14000"/>
                  <a:pt x="50" y="14011"/>
                  <a:pt x="50" y="14025"/>
                </a:cubicBezTo>
                <a:close/>
                <a:moveTo>
                  <a:pt x="50" y="14375"/>
                </a:moveTo>
                <a:lnTo>
                  <a:pt x="50" y="14525"/>
                </a:lnTo>
                <a:cubicBezTo>
                  <a:pt x="50" y="14539"/>
                  <a:pt x="39" y="14550"/>
                  <a:pt x="25" y="14550"/>
                </a:cubicBezTo>
                <a:cubicBezTo>
                  <a:pt x="11" y="14550"/>
                  <a:pt x="0" y="14539"/>
                  <a:pt x="0" y="14525"/>
                </a:cubicBezTo>
                <a:lnTo>
                  <a:pt x="0" y="14375"/>
                </a:lnTo>
                <a:cubicBezTo>
                  <a:pt x="0" y="14361"/>
                  <a:pt x="11" y="14350"/>
                  <a:pt x="25" y="14350"/>
                </a:cubicBezTo>
                <a:cubicBezTo>
                  <a:pt x="39" y="14350"/>
                  <a:pt x="50" y="14361"/>
                  <a:pt x="50" y="14375"/>
                </a:cubicBezTo>
                <a:close/>
                <a:moveTo>
                  <a:pt x="50" y="14725"/>
                </a:moveTo>
                <a:lnTo>
                  <a:pt x="50" y="14875"/>
                </a:lnTo>
                <a:cubicBezTo>
                  <a:pt x="50" y="14889"/>
                  <a:pt x="39" y="14900"/>
                  <a:pt x="25" y="14900"/>
                </a:cubicBezTo>
                <a:cubicBezTo>
                  <a:pt x="11" y="14900"/>
                  <a:pt x="0" y="14889"/>
                  <a:pt x="0" y="14875"/>
                </a:cubicBezTo>
                <a:lnTo>
                  <a:pt x="0" y="14725"/>
                </a:lnTo>
                <a:cubicBezTo>
                  <a:pt x="0" y="14711"/>
                  <a:pt x="11" y="14700"/>
                  <a:pt x="25" y="14700"/>
                </a:cubicBezTo>
                <a:cubicBezTo>
                  <a:pt x="39" y="14700"/>
                  <a:pt x="50" y="14711"/>
                  <a:pt x="50" y="14725"/>
                </a:cubicBezTo>
                <a:close/>
                <a:moveTo>
                  <a:pt x="50" y="15075"/>
                </a:moveTo>
                <a:lnTo>
                  <a:pt x="50" y="15225"/>
                </a:lnTo>
                <a:cubicBezTo>
                  <a:pt x="50" y="15239"/>
                  <a:pt x="39" y="15250"/>
                  <a:pt x="25" y="15250"/>
                </a:cubicBezTo>
                <a:cubicBezTo>
                  <a:pt x="11" y="15250"/>
                  <a:pt x="0" y="15239"/>
                  <a:pt x="0" y="15225"/>
                </a:cubicBezTo>
                <a:lnTo>
                  <a:pt x="0" y="15075"/>
                </a:lnTo>
                <a:cubicBezTo>
                  <a:pt x="0" y="15061"/>
                  <a:pt x="11" y="15050"/>
                  <a:pt x="25" y="15050"/>
                </a:cubicBezTo>
                <a:cubicBezTo>
                  <a:pt x="39" y="15050"/>
                  <a:pt x="50" y="15061"/>
                  <a:pt x="50" y="15075"/>
                </a:cubicBezTo>
                <a:close/>
                <a:moveTo>
                  <a:pt x="50" y="15425"/>
                </a:moveTo>
                <a:lnTo>
                  <a:pt x="50" y="15575"/>
                </a:lnTo>
                <a:cubicBezTo>
                  <a:pt x="50" y="15589"/>
                  <a:pt x="39" y="15600"/>
                  <a:pt x="25" y="15600"/>
                </a:cubicBezTo>
                <a:cubicBezTo>
                  <a:pt x="11" y="15600"/>
                  <a:pt x="0" y="15589"/>
                  <a:pt x="0" y="15575"/>
                </a:cubicBezTo>
                <a:lnTo>
                  <a:pt x="0" y="15425"/>
                </a:lnTo>
                <a:cubicBezTo>
                  <a:pt x="0" y="15411"/>
                  <a:pt x="11" y="15400"/>
                  <a:pt x="25" y="15400"/>
                </a:cubicBezTo>
                <a:cubicBezTo>
                  <a:pt x="39" y="15400"/>
                  <a:pt x="50" y="15411"/>
                  <a:pt x="50" y="15425"/>
                </a:cubicBezTo>
                <a:close/>
                <a:moveTo>
                  <a:pt x="50" y="15775"/>
                </a:moveTo>
                <a:lnTo>
                  <a:pt x="50" y="15925"/>
                </a:lnTo>
                <a:cubicBezTo>
                  <a:pt x="50" y="15939"/>
                  <a:pt x="39" y="15950"/>
                  <a:pt x="25" y="15950"/>
                </a:cubicBezTo>
                <a:cubicBezTo>
                  <a:pt x="11" y="15950"/>
                  <a:pt x="0" y="15939"/>
                  <a:pt x="0" y="15925"/>
                </a:cubicBezTo>
                <a:lnTo>
                  <a:pt x="0" y="15775"/>
                </a:lnTo>
                <a:cubicBezTo>
                  <a:pt x="0" y="15761"/>
                  <a:pt x="11" y="15750"/>
                  <a:pt x="25" y="15750"/>
                </a:cubicBezTo>
                <a:cubicBezTo>
                  <a:pt x="39" y="15750"/>
                  <a:pt x="50" y="15761"/>
                  <a:pt x="50" y="15775"/>
                </a:cubicBezTo>
                <a:close/>
                <a:moveTo>
                  <a:pt x="50" y="16125"/>
                </a:moveTo>
                <a:lnTo>
                  <a:pt x="50" y="16275"/>
                </a:lnTo>
                <a:cubicBezTo>
                  <a:pt x="50" y="16289"/>
                  <a:pt x="39" y="16300"/>
                  <a:pt x="25" y="16300"/>
                </a:cubicBezTo>
                <a:cubicBezTo>
                  <a:pt x="11" y="16300"/>
                  <a:pt x="0" y="16289"/>
                  <a:pt x="0" y="16275"/>
                </a:cubicBezTo>
                <a:lnTo>
                  <a:pt x="0" y="16125"/>
                </a:lnTo>
                <a:cubicBezTo>
                  <a:pt x="0" y="16111"/>
                  <a:pt x="11" y="16100"/>
                  <a:pt x="25" y="16100"/>
                </a:cubicBezTo>
                <a:cubicBezTo>
                  <a:pt x="39" y="16100"/>
                  <a:pt x="50" y="16111"/>
                  <a:pt x="50" y="16125"/>
                </a:cubicBezTo>
                <a:close/>
                <a:moveTo>
                  <a:pt x="50" y="16475"/>
                </a:moveTo>
                <a:lnTo>
                  <a:pt x="50" y="16625"/>
                </a:lnTo>
                <a:cubicBezTo>
                  <a:pt x="50" y="16639"/>
                  <a:pt x="39" y="16650"/>
                  <a:pt x="25" y="16650"/>
                </a:cubicBezTo>
                <a:cubicBezTo>
                  <a:pt x="11" y="16650"/>
                  <a:pt x="0" y="16639"/>
                  <a:pt x="0" y="16625"/>
                </a:cubicBezTo>
                <a:lnTo>
                  <a:pt x="0" y="16475"/>
                </a:lnTo>
                <a:cubicBezTo>
                  <a:pt x="0" y="16461"/>
                  <a:pt x="11" y="16450"/>
                  <a:pt x="25" y="16450"/>
                </a:cubicBezTo>
                <a:cubicBezTo>
                  <a:pt x="39" y="16450"/>
                  <a:pt x="50" y="16461"/>
                  <a:pt x="50" y="16475"/>
                </a:cubicBezTo>
                <a:close/>
                <a:moveTo>
                  <a:pt x="50" y="16825"/>
                </a:moveTo>
                <a:lnTo>
                  <a:pt x="50" y="16975"/>
                </a:lnTo>
                <a:cubicBezTo>
                  <a:pt x="50" y="16989"/>
                  <a:pt x="39" y="17000"/>
                  <a:pt x="25" y="17000"/>
                </a:cubicBezTo>
                <a:cubicBezTo>
                  <a:pt x="11" y="17000"/>
                  <a:pt x="0" y="16989"/>
                  <a:pt x="0" y="16975"/>
                </a:cubicBezTo>
                <a:lnTo>
                  <a:pt x="0" y="16825"/>
                </a:lnTo>
                <a:cubicBezTo>
                  <a:pt x="0" y="16811"/>
                  <a:pt x="11" y="16800"/>
                  <a:pt x="25" y="16800"/>
                </a:cubicBezTo>
                <a:cubicBezTo>
                  <a:pt x="39" y="16800"/>
                  <a:pt x="50" y="16811"/>
                  <a:pt x="50" y="16825"/>
                </a:cubicBezTo>
                <a:close/>
                <a:moveTo>
                  <a:pt x="50" y="17175"/>
                </a:moveTo>
                <a:lnTo>
                  <a:pt x="50" y="17325"/>
                </a:lnTo>
                <a:cubicBezTo>
                  <a:pt x="50" y="17339"/>
                  <a:pt x="39" y="17350"/>
                  <a:pt x="25" y="17350"/>
                </a:cubicBezTo>
                <a:cubicBezTo>
                  <a:pt x="11" y="17350"/>
                  <a:pt x="0" y="17339"/>
                  <a:pt x="0" y="17325"/>
                </a:cubicBezTo>
                <a:lnTo>
                  <a:pt x="0" y="17175"/>
                </a:lnTo>
                <a:cubicBezTo>
                  <a:pt x="0" y="17161"/>
                  <a:pt x="11" y="17150"/>
                  <a:pt x="25" y="17150"/>
                </a:cubicBezTo>
                <a:cubicBezTo>
                  <a:pt x="39" y="17150"/>
                  <a:pt x="50" y="17161"/>
                  <a:pt x="50" y="17175"/>
                </a:cubicBezTo>
                <a:close/>
                <a:moveTo>
                  <a:pt x="50" y="17525"/>
                </a:moveTo>
                <a:lnTo>
                  <a:pt x="50" y="17675"/>
                </a:lnTo>
                <a:cubicBezTo>
                  <a:pt x="50" y="17689"/>
                  <a:pt x="39" y="17700"/>
                  <a:pt x="25" y="17700"/>
                </a:cubicBezTo>
                <a:cubicBezTo>
                  <a:pt x="11" y="17700"/>
                  <a:pt x="0" y="17689"/>
                  <a:pt x="0" y="17675"/>
                </a:cubicBezTo>
                <a:lnTo>
                  <a:pt x="0" y="17525"/>
                </a:lnTo>
                <a:cubicBezTo>
                  <a:pt x="0" y="17511"/>
                  <a:pt x="11" y="17500"/>
                  <a:pt x="25" y="17500"/>
                </a:cubicBezTo>
                <a:cubicBezTo>
                  <a:pt x="39" y="17500"/>
                  <a:pt x="50" y="17511"/>
                  <a:pt x="50" y="17525"/>
                </a:cubicBez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73200" y="2422440"/>
            <a:ext cx="41641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73200" y="3672000"/>
            <a:ext cx="41641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73200" y="5408640"/>
            <a:ext cx="763560" cy="139680"/>
          </a:xfrm>
          <a:custGeom>
            <a:avLst/>
            <a:gdLst/>
            <a:ahLst/>
            <a:rect l="l" t="t" r="r" b="b"/>
            <a:pathLst>
              <a:path w="4158" h="759">
                <a:moveTo>
                  <a:pt x="4158" y="0"/>
                </a:moveTo>
                <a:cubicBezTo>
                  <a:pt x="4158" y="210"/>
                  <a:pt x="4003" y="380"/>
                  <a:pt x="3812" y="380"/>
                </a:cubicBezTo>
                <a:lnTo>
                  <a:pt x="2426" y="380"/>
                </a:lnTo>
                <a:cubicBezTo>
                  <a:pt x="2234" y="380"/>
                  <a:pt x="2079" y="549"/>
                  <a:pt x="2079" y="759"/>
                </a:cubicBezTo>
                <a:cubicBezTo>
                  <a:pt x="2079" y="549"/>
                  <a:pt x="1924" y="380"/>
                  <a:pt x="1733" y="380"/>
                </a:cubicBezTo>
                <a:lnTo>
                  <a:pt x="347" y="380"/>
                </a:lnTo>
                <a:cubicBezTo>
                  <a:pt x="155" y="380"/>
                  <a:pt x="0" y="210"/>
                  <a:pt x="0" y="0"/>
                </a:cubicBez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24200" y="5408640"/>
            <a:ext cx="1944720" cy="139680"/>
          </a:xfrm>
          <a:custGeom>
            <a:avLst/>
            <a:gdLst/>
            <a:ahLst/>
            <a:rect l="l" t="t" r="r" b="b"/>
            <a:pathLst>
              <a:path w="10583" h="759">
                <a:moveTo>
                  <a:pt x="10583" y="0"/>
                </a:moveTo>
                <a:cubicBezTo>
                  <a:pt x="10583" y="210"/>
                  <a:pt x="10188" y="380"/>
                  <a:pt x="9701" y="380"/>
                </a:cubicBezTo>
                <a:lnTo>
                  <a:pt x="6173" y="380"/>
                </a:lnTo>
                <a:cubicBezTo>
                  <a:pt x="5686" y="380"/>
                  <a:pt x="5291" y="549"/>
                  <a:pt x="5291" y="759"/>
                </a:cubicBezTo>
                <a:cubicBezTo>
                  <a:pt x="5291" y="549"/>
                  <a:pt x="4897" y="380"/>
                  <a:pt x="4410" y="380"/>
                </a:cubicBezTo>
                <a:lnTo>
                  <a:pt x="882" y="380"/>
                </a:lnTo>
                <a:cubicBezTo>
                  <a:pt x="395" y="380"/>
                  <a:pt x="0" y="210"/>
                  <a:pt x="0" y="0"/>
                </a:cubicBez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37320" y="5618160"/>
            <a:ext cx="11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ідний п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ро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3200" y="3811680"/>
            <a:ext cx="41641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573200" y="3672000"/>
            <a:ext cx="831960" cy="13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405160" y="2214720"/>
            <a:ext cx="3332160" cy="145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73200" y="3672000"/>
            <a:ext cx="8319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405160" y="2214360"/>
            <a:ext cx="3332160" cy="207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03360" y="2408400"/>
            <a:ext cx="3335400" cy="374400"/>
          </a:xfrm>
          <a:custGeom>
            <a:avLst/>
            <a:gdLst/>
            <a:ahLst/>
            <a:rect l="l" t="t" r="r" b="b"/>
            <a:pathLst>
              <a:path w="2101" h="236">
                <a:moveTo>
                  <a:pt x="2" y="0"/>
                </a:moveTo>
                <a:lnTo>
                  <a:pt x="71" y="7"/>
                </a:lnTo>
                <a:lnTo>
                  <a:pt x="69" y="24"/>
                </a:lnTo>
                <a:lnTo>
                  <a:pt x="0" y="17"/>
                </a:lnTo>
                <a:lnTo>
                  <a:pt x="2" y="0"/>
                </a:lnTo>
                <a:close/>
                <a:moveTo>
                  <a:pt x="123" y="13"/>
                </a:moveTo>
                <a:lnTo>
                  <a:pt x="140" y="14"/>
                </a:lnTo>
                <a:lnTo>
                  <a:pt x="138" y="32"/>
                </a:lnTo>
                <a:lnTo>
                  <a:pt x="121" y="30"/>
                </a:lnTo>
                <a:lnTo>
                  <a:pt x="123" y="13"/>
                </a:lnTo>
                <a:close/>
                <a:moveTo>
                  <a:pt x="192" y="20"/>
                </a:moveTo>
                <a:lnTo>
                  <a:pt x="261" y="27"/>
                </a:lnTo>
                <a:lnTo>
                  <a:pt x="259" y="44"/>
                </a:lnTo>
                <a:lnTo>
                  <a:pt x="190" y="37"/>
                </a:lnTo>
                <a:lnTo>
                  <a:pt x="192" y="20"/>
                </a:lnTo>
                <a:close/>
                <a:moveTo>
                  <a:pt x="313" y="32"/>
                </a:moveTo>
                <a:lnTo>
                  <a:pt x="330" y="34"/>
                </a:lnTo>
                <a:lnTo>
                  <a:pt x="328" y="51"/>
                </a:lnTo>
                <a:lnTo>
                  <a:pt x="311" y="50"/>
                </a:lnTo>
                <a:lnTo>
                  <a:pt x="313" y="32"/>
                </a:lnTo>
                <a:close/>
                <a:moveTo>
                  <a:pt x="382" y="40"/>
                </a:moveTo>
                <a:lnTo>
                  <a:pt x="451" y="47"/>
                </a:lnTo>
                <a:lnTo>
                  <a:pt x="449" y="64"/>
                </a:lnTo>
                <a:lnTo>
                  <a:pt x="380" y="57"/>
                </a:lnTo>
                <a:lnTo>
                  <a:pt x="382" y="40"/>
                </a:lnTo>
                <a:close/>
                <a:moveTo>
                  <a:pt x="503" y="52"/>
                </a:moveTo>
                <a:lnTo>
                  <a:pt x="520" y="54"/>
                </a:lnTo>
                <a:lnTo>
                  <a:pt x="518" y="71"/>
                </a:lnTo>
                <a:lnTo>
                  <a:pt x="501" y="69"/>
                </a:lnTo>
                <a:lnTo>
                  <a:pt x="503" y="52"/>
                </a:lnTo>
                <a:close/>
                <a:moveTo>
                  <a:pt x="572" y="59"/>
                </a:moveTo>
                <a:lnTo>
                  <a:pt x="641" y="67"/>
                </a:lnTo>
                <a:lnTo>
                  <a:pt x="639" y="84"/>
                </a:lnTo>
                <a:lnTo>
                  <a:pt x="570" y="77"/>
                </a:lnTo>
                <a:lnTo>
                  <a:pt x="572" y="59"/>
                </a:lnTo>
                <a:close/>
                <a:moveTo>
                  <a:pt x="693" y="72"/>
                </a:moveTo>
                <a:lnTo>
                  <a:pt x="710" y="74"/>
                </a:lnTo>
                <a:lnTo>
                  <a:pt x="708" y="91"/>
                </a:lnTo>
                <a:lnTo>
                  <a:pt x="691" y="89"/>
                </a:lnTo>
                <a:lnTo>
                  <a:pt x="693" y="72"/>
                </a:lnTo>
                <a:close/>
                <a:moveTo>
                  <a:pt x="762" y="79"/>
                </a:moveTo>
                <a:lnTo>
                  <a:pt x="831" y="86"/>
                </a:lnTo>
                <a:lnTo>
                  <a:pt x="829" y="104"/>
                </a:lnTo>
                <a:lnTo>
                  <a:pt x="760" y="96"/>
                </a:lnTo>
                <a:lnTo>
                  <a:pt x="762" y="79"/>
                </a:lnTo>
                <a:close/>
                <a:moveTo>
                  <a:pt x="883" y="92"/>
                </a:moveTo>
                <a:lnTo>
                  <a:pt x="900" y="94"/>
                </a:lnTo>
                <a:lnTo>
                  <a:pt x="898" y="111"/>
                </a:lnTo>
                <a:lnTo>
                  <a:pt x="881" y="109"/>
                </a:lnTo>
                <a:lnTo>
                  <a:pt x="883" y="92"/>
                </a:lnTo>
                <a:close/>
                <a:moveTo>
                  <a:pt x="952" y="99"/>
                </a:moveTo>
                <a:lnTo>
                  <a:pt x="1021" y="106"/>
                </a:lnTo>
                <a:lnTo>
                  <a:pt x="1019" y="124"/>
                </a:lnTo>
                <a:lnTo>
                  <a:pt x="950" y="116"/>
                </a:lnTo>
                <a:lnTo>
                  <a:pt x="952" y="99"/>
                </a:lnTo>
                <a:close/>
                <a:moveTo>
                  <a:pt x="1072" y="112"/>
                </a:moveTo>
                <a:lnTo>
                  <a:pt x="1090" y="113"/>
                </a:lnTo>
                <a:lnTo>
                  <a:pt x="1088" y="131"/>
                </a:lnTo>
                <a:lnTo>
                  <a:pt x="1071" y="129"/>
                </a:lnTo>
                <a:lnTo>
                  <a:pt x="1072" y="112"/>
                </a:lnTo>
                <a:close/>
                <a:moveTo>
                  <a:pt x="1141" y="119"/>
                </a:moveTo>
                <a:lnTo>
                  <a:pt x="1211" y="126"/>
                </a:lnTo>
                <a:lnTo>
                  <a:pt x="1209" y="143"/>
                </a:lnTo>
                <a:lnTo>
                  <a:pt x="1140" y="136"/>
                </a:lnTo>
                <a:lnTo>
                  <a:pt x="1141" y="119"/>
                </a:lnTo>
                <a:close/>
                <a:moveTo>
                  <a:pt x="1262" y="131"/>
                </a:moveTo>
                <a:lnTo>
                  <a:pt x="1279" y="133"/>
                </a:lnTo>
                <a:lnTo>
                  <a:pt x="1278" y="151"/>
                </a:lnTo>
                <a:lnTo>
                  <a:pt x="1261" y="149"/>
                </a:lnTo>
                <a:lnTo>
                  <a:pt x="1262" y="131"/>
                </a:lnTo>
                <a:close/>
                <a:moveTo>
                  <a:pt x="1331" y="139"/>
                </a:moveTo>
                <a:lnTo>
                  <a:pt x="1400" y="146"/>
                </a:lnTo>
                <a:lnTo>
                  <a:pt x="1399" y="163"/>
                </a:lnTo>
                <a:lnTo>
                  <a:pt x="1329" y="156"/>
                </a:lnTo>
                <a:lnTo>
                  <a:pt x="1331" y="139"/>
                </a:lnTo>
                <a:close/>
                <a:moveTo>
                  <a:pt x="1452" y="151"/>
                </a:moveTo>
                <a:lnTo>
                  <a:pt x="1469" y="153"/>
                </a:lnTo>
                <a:lnTo>
                  <a:pt x="1468" y="170"/>
                </a:lnTo>
                <a:lnTo>
                  <a:pt x="1450" y="168"/>
                </a:lnTo>
                <a:lnTo>
                  <a:pt x="1452" y="151"/>
                </a:lnTo>
                <a:close/>
                <a:moveTo>
                  <a:pt x="1521" y="158"/>
                </a:moveTo>
                <a:lnTo>
                  <a:pt x="1590" y="166"/>
                </a:lnTo>
                <a:lnTo>
                  <a:pt x="1588" y="183"/>
                </a:lnTo>
                <a:lnTo>
                  <a:pt x="1519" y="176"/>
                </a:lnTo>
                <a:lnTo>
                  <a:pt x="1521" y="158"/>
                </a:lnTo>
                <a:close/>
                <a:moveTo>
                  <a:pt x="1642" y="171"/>
                </a:moveTo>
                <a:lnTo>
                  <a:pt x="1659" y="173"/>
                </a:lnTo>
                <a:lnTo>
                  <a:pt x="1657" y="190"/>
                </a:lnTo>
                <a:lnTo>
                  <a:pt x="1640" y="188"/>
                </a:lnTo>
                <a:lnTo>
                  <a:pt x="1642" y="171"/>
                </a:lnTo>
                <a:close/>
                <a:moveTo>
                  <a:pt x="1711" y="178"/>
                </a:moveTo>
                <a:lnTo>
                  <a:pt x="1780" y="185"/>
                </a:lnTo>
                <a:lnTo>
                  <a:pt x="1778" y="203"/>
                </a:lnTo>
                <a:lnTo>
                  <a:pt x="1709" y="196"/>
                </a:lnTo>
                <a:lnTo>
                  <a:pt x="1711" y="178"/>
                </a:lnTo>
                <a:close/>
                <a:moveTo>
                  <a:pt x="1832" y="191"/>
                </a:moveTo>
                <a:lnTo>
                  <a:pt x="1849" y="193"/>
                </a:lnTo>
                <a:lnTo>
                  <a:pt x="1847" y="210"/>
                </a:lnTo>
                <a:lnTo>
                  <a:pt x="1830" y="208"/>
                </a:lnTo>
                <a:lnTo>
                  <a:pt x="1832" y="191"/>
                </a:lnTo>
                <a:close/>
                <a:moveTo>
                  <a:pt x="1901" y="198"/>
                </a:moveTo>
                <a:lnTo>
                  <a:pt x="1970" y="205"/>
                </a:lnTo>
                <a:lnTo>
                  <a:pt x="1968" y="222"/>
                </a:lnTo>
                <a:lnTo>
                  <a:pt x="1899" y="215"/>
                </a:lnTo>
                <a:lnTo>
                  <a:pt x="1901" y="198"/>
                </a:lnTo>
                <a:close/>
                <a:moveTo>
                  <a:pt x="2022" y="211"/>
                </a:moveTo>
                <a:lnTo>
                  <a:pt x="2039" y="212"/>
                </a:lnTo>
                <a:lnTo>
                  <a:pt x="2037" y="230"/>
                </a:lnTo>
                <a:lnTo>
                  <a:pt x="2020" y="228"/>
                </a:lnTo>
                <a:lnTo>
                  <a:pt x="2022" y="211"/>
                </a:lnTo>
                <a:close/>
                <a:moveTo>
                  <a:pt x="2091" y="218"/>
                </a:moveTo>
                <a:lnTo>
                  <a:pt x="2101" y="219"/>
                </a:lnTo>
                <a:lnTo>
                  <a:pt x="2099" y="236"/>
                </a:lnTo>
                <a:lnTo>
                  <a:pt x="2089" y="235"/>
                </a:lnTo>
                <a:lnTo>
                  <a:pt x="2091" y="218"/>
                </a:lnTo>
                <a:close/>
              </a:path>
            </a:pathLst>
          </a:custGeom>
          <a:solidFill>
            <a:srgbClr val="333399"/>
          </a:solidFill>
          <a:ln w="1440">
            <a:solidFill>
              <a:srgbClr val="3333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01920" y="2759040"/>
            <a:ext cx="3330720" cy="927000"/>
          </a:xfrm>
          <a:custGeom>
            <a:avLst/>
            <a:gdLst/>
            <a:ahLst/>
            <a:rect l="l" t="t" r="r" b="b"/>
            <a:pathLst>
              <a:path w="2098" h="584">
                <a:moveTo>
                  <a:pt x="0" y="567"/>
                </a:moveTo>
                <a:lnTo>
                  <a:pt x="67" y="549"/>
                </a:lnTo>
                <a:lnTo>
                  <a:pt x="72" y="566"/>
                </a:lnTo>
                <a:lnTo>
                  <a:pt x="5" y="584"/>
                </a:lnTo>
                <a:lnTo>
                  <a:pt x="0" y="567"/>
                </a:lnTo>
                <a:close/>
                <a:moveTo>
                  <a:pt x="117" y="535"/>
                </a:moveTo>
                <a:lnTo>
                  <a:pt x="134" y="531"/>
                </a:lnTo>
                <a:lnTo>
                  <a:pt x="139" y="548"/>
                </a:lnTo>
                <a:lnTo>
                  <a:pt x="122" y="552"/>
                </a:lnTo>
                <a:lnTo>
                  <a:pt x="117" y="535"/>
                </a:lnTo>
                <a:close/>
                <a:moveTo>
                  <a:pt x="184" y="517"/>
                </a:moveTo>
                <a:lnTo>
                  <a:pt x="251" y="499"/>
                </a:lnTo>
                <a:lnTo>
                  <a:pt x="256" y="516"/>
                </a:lnTo>
                <a:lnTo>
                  <a:pt x="189" y="534"/>
                </a:lnTo>
                <a:lnTo>
                  <a:pt x="184" y="517"/>
                </a:lnTo>
                <a:close/>
                <a:moveTo>
                  <a:pt x="302" y="485"/>
                </a:moveTo>
                <a:lnTo>
                  <a:pt x="318" y="481"/>
                </a:lnTo>
                <a:lnTo>
                  <a:pt x="323" y="498"/>
                </a:lnTo>
                <a:lnTo>
                  <a:pt x="306" y="502"/>
                </a:lnTo>
                <a:lnTo>
                  <a:pt x="302" y="485"/>
                </a:lnTo>
                <a:close/>
                <a:moveTo>
                  <a:pt x="369" y="467"/>
                </a:moveTo>
                <a:lnTo>
                  <a:pt x="436" y="449"/>
                </a:lnTo>
                <a:lnTo>
                  <a:pt x="440" y="466"/>
                </a:lnTo>
                <a:lnTo>
                  <a:pt x="373" y="484"/>
                </a:lnTo>
                <a:lnTo>
                  <a:pt x="369" y="467"/>
                </a:lnTo>
                <a:close/>
                <a:moveTo>
                  <a:pt x="486" y="435"/>
                </a:moveTo>
                <a:lnTo>
                  <a:pt x="503" y="431"/>
                </a:lnTo>
                <a:lnTo>
                  <a:pt x="507" y="448"/>
                </a:lnTo>
                <a:lnTo>
                  <a:pt x="490" y="452"/>
                </a:lnTo>
                <a:lnTo>
                  <a:pt x="486" y="435"/>
                </a:lnTo>
                <a:close/>
                <a:moveTo>
                  <a:pt x="553" y="417"/>
                </a:moveTo>
                <a:lnTo>
                  <a:pt x="620" y="399"/>
                </a:lnTo>
                <a:lnTo>
                  <a:pt x="624" y="416"/>
                </a:lnTo>
                <a:lnTo>
                  <a:pt x="557" y="434"/>
                </a:lnTo>
                <a:lnTo>
                  <a:pt x="553" y="417"/>
                </a:lnTo>
                <a:close/>
                <a:moveTo>
                  <a:pt x="670" y="386"/>
                </a:moveTo>
                <a:lnTo>
                  <a:pt x="687" y="381"/>
                </a:lnTo>
                <a:lnTo>
                  <a:pt x="691" y="398"/>
                </a:lnTo>
                <a:lnTo>
                  <a:pt x="675" y="402"/>
                </a:lnTo>
                <a:lnTo>
                  <a:pt x="670" y="386"/>
                </a:lnTo>
                <a:close/>
                <a:moveTo>
                  <a:pt x="737" y="367"/>
                </a:moveTo>
                <a:lnTo>
                  <a:pt x="804" y="349"/>
                </a:lnTo>
                <a:lnTo>
                  <a:pt x="809" y="366"/>
                </a:lnTo>
                <a:lnTo>
                  <a:pt x="742" y="384"/>
                </a:lnTo>
                <a:lnTo>
                  <a:pt x="737" y="367"/>
                </a:lnTo>
                <a:close/>
                <a:moveTo>
                  <a:pt x="854" y="336"/>
                </a:moveTo>
                <a:lnTo>
                  <a:pt x="871" y="331"/>
                </a:lnTo>
                <a:lnTo>
                  <a:pt x="876" y="348"/>
                </a:lnTo>
                <a:lnTo>
                  <a:pt x="859" y="352"/>
                </a:lnTo>
                <a:lnTo>
                  <a:pt x="854" y="336"/>
                </a:lnTo>
                <a:close/>
                <a:moveTo>
                  <a:pt x="921" y="317"/>
                </a:moveTo>
                <a:lnTo>
                  <a:pt x="988" y="299"/>
                </a:lnTo>
                <a:lnTo>
                  <a:pt x="993" y="316"/>
                </a:lnTo>
                <a:lnTo>
                  <a:pt x="926" y="334"/>
                </a:lnTo>
                <a:lnTo>
                  <a:pt x="921" y="317"/>
                </a:lnTo>
                <a:close/>
                <a:moveTo>
                  <a:pt x="1039" y="286"/>
                </a:moveTo>
                <a:lnTo>
                  <a:pt x="1055" y="281"/>
                </a:lnTo>
                <a:lnTo>
                  <a:pt x="1060" y="298"/>
                </a:lnTo>
                <a:lnTo>
                  <a:pt x="1043" y="302"/>
                </a:lnTo>
                <a:lnTo>
                  <a:pt x="1039" y="286"/>
                </a:lnTo>
                <a:close/>
                <a:moveTo>
                  <a:pt x="1106" y="267"/>
                </a:moveTo>
                <a:lnTo>
                  <a:pt x="1173" y="249"/>
                </a:lnTo>
                <a:lnTo>
                  <a:pt x="1177" y="266"/>
                </a:lnTo>
                <a:lnTo>
                  <a:pt x="1110" y="284"/>
                </a:lnTo>
                <a:lnTo>
                  <a:pt x="1106" y="267"/>
                </a:lnTo>
                <a:close/>
                <a:moveTo>
                  <a:pt x="1223" y="236"/>
                </a:moveTo>
                <a:lnTo>
                  <a:pt x="1240" y="231"/>
                </a:lnTo>
                <a:lnTo>
                  <a:pt x="1244" y="248"/>
                </a:lnTo>
                <a:lnTo>
                  <a:pt x="1227" y="253"/>
                </a:lnTo>
                <a:lnTo>
                  <a:pt x="1223" y="236"/>
                </a:lnTo>
                <a:close/>
                <a:moveTo>
                  <a:pt x="1290" y="218"/>
                </a:moveTo>
                <a:lnTo>
                  <a:pt x="1357" y="199"/>
                </a:lnTo>
                <a:lnTo>
                  <a:pt x="1361" y="216"/>
                </a:lnTo>
                <a:lnTo>
                  <a:pt x="1294" y="234"/>
                </a:lnTo>
                <a:lnTo>
                  <a:pt x="1290" y="218"/>
                </a:lnTo>
                <a:close/>
                <a:moveTo>
                  <a:pt x="1407" y="186"/>
                </a:moveTo>
                <a:lnTo>
                  <a:pt x="1424" y="181"/>
                </a:lnTo>
                <a:lnTo>
                  <a:pt x="1428" y="198"/>
                </a:lnTo>
                <a:lnTo>
                  <a:pt x="1412" y="203"/>
                </a:lnTo>
                <a:lnTo>
                  <a:pt x="1407" y="186"/>
                </a:lnTo>
                <a:close/>
                <a:moveTo>
                  <a:pt x="1474" y="168"/>
                </a:moveTo>
                <a:lnTo>
                  <a:pt x="1541" y="149"/>
                </a:lnTo>
                <a:lnTo>
                  <a:pt x="1546" y="166"/>
                </a:lnTo>
                <a:lnTo>
                  <a:pt x="1479" y="184"/>
                </a:lnTo>
                <a:lnTo>
                  <a:pt x="1474" y="168"/>
                </a:lnTo>
                <a:close/>
                <a:moveTo>
                  <a:pt x="1591" y="136"/>
                </a:moveTo>
                <a:lnTo>
                  <a:pt x="1608" y="131"/>
                </a:lnTo>
                <a:lnTo>
                  <a:pt x="1613" y="148"/>
                </a:lnTo>
                <a:lnTo>
                  <a:pt x="1596" y="153"/>
                </a:lnTo>
                <a:lnTo>
                  <a:pt x="1591" y="136"/>
                </a:lnTo>
                <a:close/>
                <a:moveTo>
                  <a:pt x="1658" y="118"/>
                </a:moveTo>
                <a:lnTo>
                  <a:pt x="1725" y="100"/>
                </a:lnTo>
                <a:lnTo>
                  <a:pt x="1730" y="116"/>
                </a:lnTo>
                <a:lnTo>
                  <a:pt x="1663" y="134"/>
                </a:lnTo>
                <a:lnTo>
                  <a:pt x="1658" y="118"/>
                </a:lnTo>
                <a:close/>
                <a:moveTo>
                  <a:pt x="1776" y="86"/>
                </a:moveTo>
                <a:lnTo>
                  <a:pt x="1792" y="81"/>
                </a:lnTo>
                <a:lnTo>
                  <a:pt x="1797" y="98"/>
                </a:lnTo>
                <a:lnTo>
                  <a:pt x="1780" y="103"/>
                </a:lnTo>
                <a:lnTo>
                  <a:pt x="1776" y="86"/>
                </a:lnTo>
                <a:close/>
                <a:moveTo>
                  <a:pt x="1843" y="68"/>
                </a:moveTo>
                <a:lnTo>
                  <a:pt x="1910" y="50"/>
                </a:lnTo>
                <a:lnTo>
                  <a:pt x="1914" y="66"/>
                </a:lnTo>
                <a:lnTo>
                  <a:pt x="1847" y="84"/>
                </a:lnTo>
                <a:lnTo>
                  <a:pt x="1843" y="68"/>
                </a:lnTo>
                <a:close/>
                <a:moveTo>
                  <a:pt x="1960" y="36"/>
                </a:moveTo>
                <a:lnTo>
                  <a:pt x="1977" y="31"/>
                </a:lnTo>
                <a:lnTo>
                  <a:pt x="1981" y="48"/>
                </a:lnTo>
                <a:lnTo>
                  <a:pt x="1964" y="53"/>
                </a:lnTo>
                <a:lnTo>
                  <a:pt x="1960" y="36"/>
                </a:lnTo>
                <a:close/>
                <a:moveTo>
                  <a:pt x="2027" y="18"/>
                </a:moveTo>
                <a:lnTo>
                  <a:pt x="2094" y="0"/>
                </a:lnTo>
                <a:lnTo>
                  <a:pt x="2098" y="16"/>
                </a:lnTo>
                <a:lnTo>
                  <a:pt x="2031" y="34"/>
                </a:lnTo>
                <a:lnTo>
                  <a:pt x="2027" y="18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03920" y="2384280"/>
            <a:ext cx="73080" cy="74880"/>
          </a:xfrm>
          <a:custGeom>
            <a:avLst/>
            <a:gdLst/>
            <a:ahLst/>
            <a:rect l="l" t="t" r="r" b="b"/>
            <a:pathLst>
              <a:path w="46" h="47">
                <a:moveTo>
                  <a:pt x="0" y="0"/>
                </a:moveTo>
                <a:lnTo>
                  <a:pt x="46" y="24"/>
                </a:lnTo>
                <a:lnTo>
                  <a:pt x="0" y="4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08240" y="3300480"/>
            <a:ext cx="3147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вень, який відображає витра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основі оцінки тимчасової метод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81240" y="3781440"/>
            <a:ext cx="19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вень тарифі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2008 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25040" y="5603760"/>
            <a:ext cx="1200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й регул пері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ро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69880" y="5618160"/>
            <a:ext cx="124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-й регул. пері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рокі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B02-54EA-4890-A197-297DDEFEB6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92120" y="404640"/>
            <a:ext cx="8362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егулювання тарифів на розподіл електроенергії </a:t>
            </a:r>
            <a:br>
              <a:rPr sz="3200"/>
            </a:b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Довгострокове планування тариф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00000" y="1612800"/>
            <a:ext cx="6672240" cy="4051440"/>
            <a:chOff x="900000" y="1612800"/>
            <a:chExt cx="6672240" cy="4051440"/>
          </a:xfrm>
        </p:grpSpPr>
        <p:sp>
          <p:nvSpPr>
            <p:cNvPr id="178" name=""/>
            <p:cNvSpPr/>
            <p:nvPr/>
          </p:nvSpPr>
          <p:spPr>
            <a:xfrm>
              <a:off x="900000" y="1612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4360" y="2525760"/>
              <a:ext cx="6257880" cy="313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14360" y="5143680"/>
              <a:ext cx="6257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14360" y="4619520"/>
              <a:ext cx="6257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14360" y="4095720"/>
              <a:ext cx="6257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14360" y="3571920"/>
              <a:ext cx="6257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14360" y="3048120"/>
              <a:ext cx="6257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14360" y="2525760"/>
              <a:ext cx="6257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14360" y="2525760"/>
              <a:ext cx="6257880" cy="3138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01920" y="4057560"/>
              <a:ext cx="12600" cy="1606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14520" y="4057560"/>
              <a:ext cx="6480" cy="160668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1000" y="4057560"/>
              <a:ext cx="4680" cy="160668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5680" y="4057560"/>
              <a:ext cx="6120" cy="160668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31800" y="4057560"/>
              <a:ext cx="1800" cy="160668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33600" y="4057560"/>
              <a:ext cx="4680" cy="160668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38280" y="4057560"/>
              <a:ext cx="1440" cy="160668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39720" y="4057560"/>
              <a:ext cx="5040" cy="160668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44760" y="4057560"/>
              <a:ext cx="1440" cy="160668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46200" y="4057560"/>
              <a:ext cx="4680" cy="160668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0880" y="4057560"/>
              <a:ext cx="1800" cy="160668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52680" y="4057560"/>
              <a:ext cx="3240" cy="160668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55920" y="4057560"/>
              <a:ext cx="2880" cy="160668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58800" y="4057560"/>
              <a:ext cx="1800" cy="1606680"/>
            </a:xfrm>
            <a:prstGeom prst="rect">
              <a:avLst/>
            </a:prstGeom>
            <a:solidFill>
              <a:srgbClr val="ba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60600" y="4057560"/>
              <a:ext cx="3240" cy="160668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63840" y="4057560"/>
              <a:ext cx="2880" cy="160668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66720" y="4057560"/>
              <a:ext cx="1800" cy="160668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68520" y="4057560"/>
              <a:ext cx="1440" cy="160668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9960" y="4057560"/>
              <a:ext cx="1800" cy="160668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71760" y="4057560"/>
              <a:ext cx="2880" cy="1606680"/>
            </a:xfrm>
            <a:prstGeom prst="rect">
              <a:avLst/>
            </a:prstGeom>
            <a:solidFill>
              <a:srgbClr val="b0d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74640" y="4057560"/>
              <a:ext cx="1800" cy="1606680"/>
            </a:xfrm>
            <a:prstGeom prst="rect">
              <a:avLst/>
            </a:prstGeom>
            <a:solidFill>
              <a:srgbClr val="afd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76440" y="4057560"/>
              <a:ext cx="3240" cy="1606680"/>
            </a:xfrm>
            <a:prstGeom prst="rect">
              <a:avLst/>
            </a:prstGeom>
            <a:solidFill>
              <a:srgbClr val="ad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79680" y="4057560"/>
              <a:ext cx="2880" cy="1606680"/>
            </a:xfrm>
            <a:prstGeom prst="rect">
              <a:avLst/>
            </a:prstGeom>
            <a:solidFill>
              <a:srgbClr val="acd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82560" y="4057560"/>
              <a:ext cx="1800" cy="1606680"/>
            </a:xfrm>
            <a:prstGeom prst="rect">
              <a:avLst/>
            </a:prstGeom>
            <a:solidFill>
              <a:srgbClr val="aad5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84360" y="4057560"/>
              <a:ext cx="3240" cy="1606680"/>
            </a:xfrm>
            <a:prstGeom prst="rect">
              <a:avLst/>
            </a:prstGeom>
            <a:solidFill>
              <a:srgbClr val="a8d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87600" y="4057560"/>
              <a:ext cx="3240" cy="1606680"/>
            </a:xfrm>
            <a:prstGeom prst="rect">
              <a:avLst/>
            </a:prstGeom>
            <a:solidFill>
              <a:srgbClr val="a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90840" y="4057560"/>
              <a:ext cx="2880" cy="1606680"/>
            </a:xfrm>
            <a:prstGeom prst="rect">
              <a:avLst/>
            </a:prstGeom>
            <a:solidFill>
              <a:srgbClr val="a6c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93720" y="4057560"/>
              <a:ext cx="5040" cy="1606680"/>
            </a:xfrm>
            <a:prstGeom prst="rect">
              <a:avLst/>
            </a:prstGeom>
            <a:solidFill>
              <a:srgbClr val="a4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98760" y="4057560"/>
              <a:ext cx="2880" cy="1606680"/>
            </a:xfrm>
            <a:prstGeom prst="rect">
              <a:avLst/>
            </a:prstGeom>
            <a:solidFill>
              <a:srgbClr val="a2c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01640" y="4057560"/>
              <a:ext cx="5040" cy="1606680"/>
            </a:xfrm>
            <a:prstGeom prst="rect">
              <a:avLst/>
            </a:prstGeom>
            <a:solidFill>
              <a:srgbClr val="a1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6680" y="4057560"/>
              <a:ext cx="6120" cy="160668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2800" y="4057560"/>
              <a:ext cx="3240" cy="160668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16040" y="4057560"/>
              <a:ext cx="7920" cy="160668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23960" y="4057560"/>
              <a:ext cx="14400" cy="1606680"/>
            </a:xfrm>
            <a:prstGeom prst="rect">
              <a:avLst/>
            </a:prstGeom>
            <a:solidFill>
              <a:srgbClr val="9bc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8360" y="4057560"/>
              <a:ext cx="3240" cy="160668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41600" y="4057560"/>
              <a:ext cx="4680" cy="160668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46280" y="4057560"/>
              <a:ext cx="6480" cy="160668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52760" y="4057560"/>
              <a:ext cx="2880" cy="1606680"/>
            </a:xfrm>
            <a:prstGeom prst="rect">
              <a:avLst/>
            </a:prstGeom>
            <a:solidFill>
              <a:srgbClr val="a0c9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55640" y="4057560"/>
              <a:ext cx="3240" cy="1606680"/>
            </a:xfrm>
            <a:prstGeom prst="rect">
              <a:avLst/>
            </a:prstGeom>
            <a:solidFill>
              <a:srgbClr val="a2c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58880" y="4057560"/>
              <a:ext cx="3240" cy="1606680"/>
            </a:xfrm>
            <a:prstGeom prst="rect">
              <a:avLst/>
            </a:prstGeom>
            <a:solidFill>
              <a:srgbClr val="a3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62120" y="4057560"/>
              <a:ext cx="4680" cy="1606680"/>
            </a:xfrm>
            <a:prstGeom prst="rect">
              <a:avLst/>
            </a:pr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66800" y="4057560"/>
              <a:ext cx="1800" cy="1606680"/>
            </a:xfrm>
            <a:prstGeom prst="rect">
              <a:avLst/>
            </a:prstGeom>
            <a:solidFill>
              <a:srgbClr val="a6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66800" y="4057560"/>
              <a:ext cx="3240" cy="1606680"/>
            </a:xfrm>
            <a:prstGeom prst="rect">
              <a:avLst/>
            </a:prstGeom>
            <a:solidFill>
              <a:srgbClr val="a8d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70040" y="4057560"/>
              <a:ext cx="4680" cy="1606680"/>
            </a:xfrm>
            <a:prstGeom prst="rect">
              <a:avLst/>
            </a:prstGeom>
            <a:solidFill>
              <a:srgbClr val="a9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74720" y="4057560"/>
              <a:ext cx="1800" cy="1606680"/>
            </a:xfrm>
            <a:prstGeom prst="rect">
              <a:avLst/>
            </a:prstGeom>
            <a:solidFill>
              <a:srgbClr val="abd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76520" y="4057560"/>
              <a:ext cx="1440" cy="1606680"/>
            </a:xfrm>
            <a:prstGeom prst="rect">
              <a:avLst/>
            </a:prstGeom>
            <a:solidFill>
              <a:srgbClr val="add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77960" y="4057560"/>
              <a:ext cx="1440" cy="1606680"/>
            </a:xfrm>
            <a:prstGeom prst="rect">
              <a:avLst/>
            </a:prstGeom>
            <a:solidFill>
              <a:srgbClr val="aed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79400" y="4057560"/>
              <a:ext cx="5040" cy="1606680"/>
            </a:xfrm>
            <a:prstGeom prst="rect">
              <a:avLst/>
            </a:prstGeom>
            <a:solidFill>
              <a:srgbClr val="b0d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84440" y="4057560"/>
              <a:ext cx="1440" cy="160668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85880" y="4057560"/>
              <a:ext cx="1800" cy="160668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87680" y="4057560"/>
              <a:ext cx="2880" cy="160668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90560" y="4057560"/>
              <a:ext cx="3240" cy="160668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93800" y="4057560"/>
              <a:ext cx="1800" cy="160668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95600" y="4057560"/>
              <a:ext cx="2880" cy="1606680"/>
            </a:xfrm>
            <a:prstGeom prst="rect">
              <a:avLst/>
            </a:prstGeom>
            <a:solidFill>
              <a:srgbClr val="b9e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98480" y="4057560"/>
              <a:ext cx="3240" cy="160668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01720" y="4057560"/>
              <a:ext cx="3240" cy="160668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04960" y="4057560"/>
              <a:ext cx="1440" cy="160668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06400" y="4057560"/>
              <a:ext cx="3240" cy="160668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9640" y="4057560"/>
              <a:ext cx="5040" cy="160668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14680" y="4057560"/>
              <a:ext cx="1440" cy="160668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4680" y="4057560"/>
              <a:ext cx="2880" cy="160668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17560" y="4057560"/>
              <a:ext cx="5040" cy="160668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22600" y="4057560"/>
              <a:ext cx="2880" cy="160668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25480" y="4057560"/>
              <a:ext cx="6480" cy="160668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31960" y="4057560"/>
              <a:ext cx="7920" cy="160668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39880" y="4057560"/>
              <a:ext cx="7920" cy="160668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47800" y="4057560"/>
              <a:ext cx="4680" cy="1606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01920" y="4057560"/>
              <a:ext cx="250560" cy="16066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28680" y="3828960"/>
              <a:ext cx="11160" cy="183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39840" y="3828960"/>
              <a:ext cx="6480" cy="183528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46320" y="3828960"/>
              <a:ext cx="6480" cy="183528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52800" y="3828960"/>
              <a:ext cx="2880" cy="183528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55680" y="3828960"/>
              <a:ext cx="5040" cy="183528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60720" y="3828960"/>
              <a:ext cx="2880" cy="183528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63600" y="3828960"/>
              <a:ext cx="3240" cy="183528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66840" y="3828960"/>
              <a:ext cx="3240" cy="183528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70080" y="3828960"/>
              <a:ext cx="1800" cy="183528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71880" y="3828960"/>
              <a:ext cx="4680" cy="183528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76560" y="3828960"/>
              <a:ext cx="1440" cy="183528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78000" y="3828960"/>
              <a:ext cx="1800" cy="183528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79800" y="3828960"/>
              <a:ext cx="4680" cy="183528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84480" y="3828960"/>
              <a:ext cx="1440" cy="1835280"/>
            </a:xfrm>
            <a:prstGeom prst="rect">
              <a:avLst/>
            </a:prstGeom>
            <a:solidFill>
              <a:srgbClr val="ba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85920" y="3828960"/>
              <a:ext cx="1800" cy="183528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87720" y="3828960"/>
              <a:ext cx="4680" cy="183528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92400" y="3828960"/>
              <a:ext cx="1440" cy="183528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93840" y="3828960"/>
              <a:ext cx="1800" cy="183528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95640" y="3828960"/>
              <a:ext cx="2880" cy="183528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98520" y="3828960"/>
              <a:ext cx="1800" cy="1835280"/>
            </a:xfrm>
            <a:prstGeom prst="rect">
              <a:avLst/>
            </a:prstGeom>
            <a:solidFill>
              <a:srgbClr val="b0d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00320" y="3828960"/>
              <a:ext cx="1440" cy="1835280"/>
            </a:xfrm>
            <a:prstGeom prst="rect">
              <a:avLst/>
            </a:prstGeom>
            <a:solidFill>
              <a:srgbClr val="afd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01760" y="3828960"/>
              <a:ext cx="3240" cy="1835280"/>
            </a:xfrm>
            <a:prstGeom prst="rect">
              <a:avLst/>
            </a:prstGeom>
            <a:solidFill>
              <a:srgbClr val="ad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05000" y="3828960"/>
              <a:ext cx="3240" cy="1835280"/>
            </a:xfrm>
            <a:prstGeom prst="rect">
              <a:avLst/>
            </a:prstGeom>
            <a:solidFill>
              <a:srgbClr val="acd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08240" y="3828960"/>
              <a:ext cx="1440" cy="1835280"/>
            </a:xfrm>
            <a:prstGeom prst="rect">
              <a:avLst/>
            </a:prstGeom>
            <a:solidFill>
              <a:srgbClr val="aad5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09680" y="3828960"/>
              <a:ext cx="5040" cy="1835280"/>
            </a:xfrm>
            <a:prstGeom prst="rect">
              <a:avLst/>
            </a:prstGeom>
            <a:solidFill>
              <a:srgbClr val="a8d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14720" y="3828960"/>
              <a:ext cx="1440" cy="1835280"/>
            </a:xfrm>
            <a:prstGeom prst="rect">
              <a:avLst/>
            </a:prstGeom>
            <a:solidFill>
              <a:srgbClr val="a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16160" y="3828960"/>
              <a:ext cx="4680" cy="1835280"/>
            </a:xfrm>
            <a:prstGeom prst="rect">
              <a:avLst/>
            </a:prstGeom>
            <a:solidFill>
              <a:srgbClr val="a6c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20840" y="3828960"/>
              <a:ext cx="3240" cy="1835280"/>
            </a:xfrm>
            <a:prstGeom prst="rect">
              <a:avLst/>
            </a:prstGeom>
            <a:solidFill>
              <a:srgbClr val="a4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24080" y="3828960"/>
              <a:ext cx="4680" cy="1835280"/>
            </a:xfrm>
            <a:prstGeom prst="rect">
              <a:avLst/>
            </a:prstGeom>
            <a:solidFill>
              <a:srgbClr val="a2c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28760" y="3828960"/>
              <a:ext cx="3240" cy="1835280"/>
            </a:xfrm>
            <a:prstGeom prst="rect">
              <a:avLst/>
            </a:prstGeom>
            <a:solidFill>
              <a:srgbClr val="a1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32000" y="3828960"/>
              <a:ext cx="4680" cy="183528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36680" y="3828960"/>
              <a:ext cx="5040" cy="183528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41720" y="3828960"/>
              <a:ext cx="9360" cy="183528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51080" y="3828960"/>
              <a:ext cx="11160" cy="1835280"/>
            </a:xfrm>
            <a:prstGeom prst="rect">
              <a:avLst/>
            </a:prstGeom>
            <a:solidFill>
              <a:srgbClr val="9bc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62240" y="3828960"/>
              <a:ext cx="6120" cy="183528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68360" y="3828960"/>
              <a:ext cx="3240" cy="183528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71600" y="3828960"/>
              <a:ext cx="6480" cy="183528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78080" y="3828960"/>
              <a:ext cx="4680" cy="1835280"/>
            </a:xfrm>
            <a:prstGeom prst="rect">
              <a:avLst/>
            </a:prstGeom>
            <a:solidFill>
              <a:srgbClr val="a0c9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82760" y="3828960"/>
              <a:ext cx="1800" cy="1835280"/>
            </a:xfrm>
            <a:prstGeom prst="rect">
              <a:avLst/>
            </a:prstGeom>
            <a:solidFill>
              <a:srgbClr val="a2c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2760" y="3828960"/>
              <a:ext cx="3240" cy="1835280"/>
            </a:xfrm>
            <a:prstGeom prst="rect">
              <a:avLst/>
            </a:prstGeom>
            <a:solidFill>
              <a:srgbClr val="a3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3828960"/>
              <a:ext cx="4680" cy="1835280"/>
            </a:xfrm>
            <a:prstGeom prst="rect">
              <a:avLst/>
            </a:pr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90680" y="3828960"/>
              <a:ext cx="1800" cy="1835280"/>
            </a:xfrm>
            <a:prstGeom prst="rect">
              <a:avLst/>
            </a:prstGeom>
            <a:solidFill>
              <a:srgbClr val="a6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92480" y="3828960"/>
              <a:ext cx="2880" cy="1835280"/>
            </a:xfrm>
            <a:prstGeom prst="rect">
              <a:avLst/>
            </a:prstGeom>
            <a:solidFill>
              <a:srgbClr val="a8d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95360" y="3828960"/>
              <a:ext cx="3240" cy="1835280"/>
            </a:xfrm>
            <a:prstGeom prst="rect">
              <a:avLst/>
            </a:prstGeom>
            <a:solidFill>
              <a:srgbClr val="a9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98600" y="3828960"/>
              <a:ext cx="3240" cy="1835280"/>
            </a:xfrm>
            <a:prstGeom prst="rect">
              <a:avLst/>
            </a:prstGeom>
            <a:solidFill>
              <a:srgbClr val="abd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01840" y="3828960"/>
              <a:ext cx="3240" cy="1835280"/>
            </a:xfrm>
            <a:prstGeom prst="rect">
              <a:avLst/>
            </a:prstGeom>
            <a:solidFill>
              <a:srgbClr val="add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05080" y="3828960"/>
              <a:ext cx="1440" cy="1835280"/>
            </a:xfrm>
            <a:prstGeom prst="rect">
              <a:avLst/>
            </a:prstGeom>
            <a:solidFill>
              <a:srgbClr val="aed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06520" y="3828960"/>
              <a:ext cx="3240" cy="1835280"/>
            </a:xfrm>
            <a:prstGeom prst="rect">
              <a:avLst/>
            </a:prstGeom>
            <a:solidFill>
              <a:srgbClr val="b0d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09760" y="3828960"/>
              <a:ext cx="3240" cy="183528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13000" y="3828960"/>
              <a:ext cx="1440" cy="183528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14440" y="3828960"/>
              <a:ext cx="1800" cy="183528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16240" y="3828960"/>
              <a:ext cx="1440" cy="183528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17680" y="3828960"/>
              <a:ext cx="4680" cy="183528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22360" y="3828960"/>
              <a:ext cx="1800" cy="1835280"/>
            </a:xfrm>
            <a:prstGeom prst="rect">
              <a:avLst/>
            </a:prstGeom>
            <a:solidFill>
              <a:srgbClr val="b9e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24160" y="3828960"/>
              <a:ext cx="1440" cy="183528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25600" y="3828960"/>
              <a:ext cx="4680" cy="183528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30280" y="3828960"/>
              <a:ext cx="1800" cy="183528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32080" y="3828960"/>
              <a:ext cx="4680" cy="183528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36760" y="3828960"/>
              <a:ext cx="1800" cy="183528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38560" y="3828960"/>
              <a:ext cx="1440" cy="183528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40000" y="3828960"/>
              <a:ext cx="4680" cy="183528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44680" y="3828960"/>
              <a:ext cx="3240" cy="183528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47920" y="3828960"/>
              <a:ext cx="4680" cy="183528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52600" y="3828960"/>
              <a:ext cx="6480" cy="183528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59080" y="3828960"/>
              <a:ext cx="7920" cy="183528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67000" y="3828960"/>
              <a:ext cx="7920" cy="183528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74920" y="3828960"/>
              <a:ext cx="3240" cy="183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28680" y="3828960"/>
              <a:ext cx="249480" cy="1835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54360" y="3400560"/>
              <a:ext cx="9360" cy="2263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63720" y="3400560"/>
              <a:ext cx="7920" cy="226368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71640" y="3400560"/>
              <a:ext cx="5040" cy="226368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76680" y="3400560"/>
              <a:ext cx="6120" cy="226368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82800" y="3400560"/>
              <a:ext cx="3240" cy="226368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86040" y="3400560"/>
              <a:ext cx="4680" cy="226368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90720" y="3400560"/>
              <a:ext cx="1800" cy="226368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92520" y="3400560"/>
              <a:ext cx="3240" cy="226368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95760" y="3400560"/>
              <a:ext cx="2880" cy="226368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98640" y="3400560"/>
              <a:ext cx="1800" cy="226368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00440" y="3400560"/>
              <a:ext cx="4680" cy="226368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05120" y="3400560"/>
              <a:ext cx="3240" cy="226368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08360" y="3400560"/>
              <a:ext cx="1440" cy="226368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08360" y="3400560"/>
              <a:ext cx="4680" cy="2263680"/>
            </a:xfrm>
            <a:prstGeom prst="rect">
              <a:avLst/>
            </a:prstGeom>
            <a:solidFill>
              <a:srgbClr val="ba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13040" y="3400560"/>
              <a:ext cx="1440" cy="226368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14480" y="3400560"/>
              <a:ext cx="1800" cy="226368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16280" y="3400560"/>
              <a:ext cx="4680" cy="226368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20960" y="3400560"/>
              <a:ext cx="1440" cy="226368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822400" y="3400560"/>
              <a:ext cx="1800" cy="226368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24200" y="3400560"/>
              <a:ext cx="1440" cy="2263680"/>
            </a:xfrm>
            <a:prstGeom prst="rect">
              <a:avLst/>
            </a:prstGeom>
            <a:solidFill>
              <a:srgbClr val="b0d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25640" y="3400560"/>
              <a:ext cx="3240" cy="2263680"/>
            </a:xfrm>
            <a:prstGeom prst="rect">
              <a:avLst/>
            </a:prstGeom>
            <a:solidFill>
              <a:srgbClr val="afd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28880" y="3400560"/>
              <a:ext cx="1800" cy="2263680"/>
            </a:xfrm>
            <a:prstGeom prst="rect">
              <a:avLst/>
            </a:prstGeom>
            <a:solidFill>
              <a:srgbClr val="ad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30680" y="3400560"/>
              <a:ext cx="2880" cy="2263680"/>
            </a:xfrm>
            <a:prstGeom prst="rect">
              <a:avLst/>
            </a:prstGeom>
            <a:solidFill>
              <a:srgbClr val="acd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33560" y="3400560"/>
              <a:ext cx="3240" cy="2263680"/>
            </a:xfrm>
            <a:prstGeom prst="rect">
              <a:avLst/>
            </a:prstGeom>
            <a:solidFill>
              <a:srgbClr val="aad5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36800" y="3400560"/>
              <a:ext cx="3240" cy="2263680"/>
            </a:xfrm>
            <a:prstGeom prst="rect">
              <a:avLst/>
            </a:prstGeom>
            <a:solidFill>
              <a:srgbClr val="a8d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40040" y="3400560"/>
              <a:ext cx="1440" cy="2263680"/>
            </a:xfrm>
            <a:prstGeom prst="rect">
              <a:avLst/>
            </a:prstGeom>
            <a:solidFill>
              <a:srgbClr val="a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40040" y="3400560"/>
              <a:ext cx="4680" cy="2263680"/>
            </a:xfrm>
            <a:prstGeom prst="rect">
              <a:avLst/>
            </a:prstGeom>
            <a:solidFill>
              <a:srgbClr val="a6c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44720" y="3400560"/>
              <a:ext cx="3240" cy="2263680"/>
            </a:xfrm>
            <a:prstGeom prst="rect">
              <a:avLst/>
            </a:prstGeom>
            <a:solidFill>
              <a:srgbClr val="a4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47960" y="3400560"/>
              <a:ext cx="4680" cy="2263680"/>
            </a:xfrm>
            <a:prstGeom prst="rect">
              <a:avLst/>
            </a:prstGeom>
            <a:solidFill>
              <a:srgbClr val="a2c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2640" y="3400560"/>
              <a:ext cx="3240" cy="2263680"/>
            </a:xfrm>
            <a:prstGeom prst="rect">
              <a:avLst/>
            </a:prstGeom>
            <a:solidFill>
              <a:srgbClr val="a1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55880" y="3400560"/>
              <a:ext cx="6480" cy="226368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62360" y="3400560"/>
              <a:ext cx="6120" cy="226368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68480" y="3400560"/>
              <a:ext cx="7920" cy="226368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76400" y="3400560"/>
              <a:ext cx="11160" cy="2263680"/>
            </a:xfrm>
            <a:prstGeom prst="rect">
              <a:avLst/>
            </a:prstGeom>
            <a:solidFill>
              <a:srgbClr val="9bc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87560" y="3400560"/>
              <a:ext cx="6480" cy="226368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94040" y="3400560"/>
              <a:ext cx="4680" cy="226368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98720" y="3400560"/>
              <a:ext cx="3240" cy="226368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01960" y="3400560"/>
              <a:ext cx="4680" cy="2263680"/>
            </a:xfrm>
            <a:prstGeom prst="rect">
              <a:avLst/>
            </a:prstGeom>
            <a:solidFill>
              <a:srgbClr val="a0c9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06640" y="3400560"/>
              <a:ext cx="3240" cy="2263680"/>
            </a:xfrm>
            <a:prstGeom prst="rect">
              <a:avLst/>
            </a:prstGeom>
            <a:solidFill>
              <a:srgbClr val="a2c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09880" y="3400560"/>
              <a:ext cx="4680" cy="2263680"/>
            </a:xfrm>
            <a:prstGeom prst="rect">
              <a:avLst/>
            </a:prstGeom>
            <a:solidFill>
              <a:srgbClr val="a3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14560" y="3400560"/>
              <a:ext cx="3240" cy="2263680"/>
            </a:xfrm>
            <a:prstGeom prst="rect">
              <a:avLst/>
            </a:pr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17800" y="3400560"/>
              <a:ext cx="1440" cy="2263680"/>
            </a:xfrm>
            <a:prstGeom prst="rect">
              <a:avLst/>
            </a:prstGeom>
            <a:solidFill>
              <a:srgbClr val="a6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17800" y="3400560"/>
              <a:ext cx="4680" cy="2263680"/>
            </a:xfrm>
            <a:prstGeom prst="rect">
              <a:avLst/>
            </a:prstGeom>
            <a:solidFill>
              <a:srgbClr val="a8d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22480" y="3400560"/>
              <a:ext cx="1800" cy="2263680"/>
            </a:xfrm>
            <a:prstGeom prst="rect">
              <a:avLst/>
            </a:prstGeom>
            <a:solidFill>
              <a:srgbClr val="a9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24280" y="3400560"/>
              <a:ext cx="4680" cy="2263680"/>
            </a:xfrm>
            <a:prstGeom prst="rect">
              <a:avLst/>
            </a:prstGeom>
            <a:solidFill>
              <a:srgbClr val="abd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28960" y="3400560"/>
              <a:ext cx="1440" cy="2263680"/>
            </a:xfrm>
            <a:prstGeom prst="rect">
              <a:avLst/>
            </a:prstGeom>
            <a:solidFill>
              <a:srgbClr val="add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30400" y="3400560"/>
              <a:ext cx="1800" cy="2263680"/>
            </a:xfrm>
            <a:prstGeom prst="rect">
              <a:avLst/>
            </a:prstGeom>
            <a:solidFill>
              <a:srgbClr val="aed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32200" y="3400560"/>
              <a:ext cx="4680" cy="2263680"/>
            </a:xfrm>
            <a:prstGeom prst="rect">
              <a:avLst/>
            </a:prstGeom>
            <a:solidFill>
              <a:srgbClr val="b0d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36880" y="3400560"/>
              <a:ext cx="1440" cy="226368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38320" y="3400560"/>
              <a:ext cx="1800" cy="226368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40120" y="3400560"/>
              <a:ext cx="1440" cy="226368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941560" y="3400560"/>
              <a:ext cx="4680" cy="226368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46240" y="3400560"/>
              <a:ext cx="1800" cy="226368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946240" y="3400560"/>
              <a:ext cx="5040" cy="2263680"/>
            </a:xfrm>
            <a:prstGeom prst="rect">
              <a:avLst/>
            </a:prstGeom>
            <a:solidFill>
              <a:srgbClr val="b9e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951280" y="3400560"/>
              <a:ext cx="2880" cy="226368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754360" y="3129120"/>
            <a:ext cx="2066760" cy="2535120"/>
            <a:chOff x="2754360" y="3129120"/>
            <a:chExt cx="2066760" cy="2535120"/>
          </a:xfrm>
        </p:grpSpPr>
        <p:sp>
          <p:nvSpPr>
            <p:cNvPr id="379" name=""/>
            <p:cNvSpPr/>
            <p:nvPr/>
          </p:nvSpPr>
          <p:spPr>
            <a:xfrm>
              <a:off x="2954160" y="3400560"/>
              <a:ext cx="1800" cy="226368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55960" y="3400560"/>
              <a:ext cx="3240" cy="226368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59200" y="3400560"/>
              <a:ext cx="3240" cy="226368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62440" y="3400560"/>
              <a:ext cx="1440" cy="226368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63880" y="3400560"/>
              <a:ext cx="3240" cy="226368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67120" y="3400560"/>
              <a:ext cx="3240" cy="226368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70360" y="3400560"/>
              <a:ext cx="4680" cy="226368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75040" y="3400560"/>
              <a:ext cx="3240" cy="226368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78280" y="3400560"/>
              <a:ext cx="6120" cy="226368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84400" y="3400560"/>
              <a:ext cx="7920" cy="226368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92320" y="3400560"/>
              <a:ext cx="7920" cy="226368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00240" y="3400560"/>
              <a:ext cx="5040" cy="2263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54360" y="3400560"/>
              <a:ext cx="250920" cy="22636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79680" y="3292560"/>
              <a:ext cx="12960" cy="2371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92640" y="3292560"/>
              <a:ext cx="6120" cy="237168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98760" y="3292560"/>
              <a:ext cx="6480" cy="237168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05240" y="3292560"/>
              <a:ext cx="3240" cy="237168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08480" y="3292560"/>
              <a:ext cx="4680" cy="237168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13160" y="3292560"/>
              <a:ext cx="3240" cy="237168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16400" y="3292560"/>
              <a:ext cx="1440" cy="237168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17840" y="3292560"/>
              <a:ext cx="4680" cy="237168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22520" y="3292560"/>
              <a:ext cx="1800" cy="237168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24320" y="3292560"/>
              <a:ext cx="4680" cy="237168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29000" y="3292560"/>
              <a:ext cx="1440" cy="237168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30440" y="3292560"/>
              <a:ext cx="1800" cy="237168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32240" y="3292560"/>
              <a:ext cx="4680" cy="237168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36920" y="3292560"/>
              <a:ext cx="1440" cy="2371680"/>
            </a:xfrm>
            <a:prstGeom prst="rect">
              <a:avLst/>
            </a:prstGeom>
            <a:solidFill>
              <a:srgbClr val="ba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38360" y="3292560"/>
              <a:ext cx="1800" cy="237168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40160" y="3292560"/>
              <a:ext cx="4680" cy="237168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44840" y="3292560"/>
              <a:ext cx="1800" cy="237168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46640" y="3292560"/>
              <a:ext cx="1440" cy="237168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48080" y="3292560"/>
              <a:ext cx="3240" cy="237168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51320" y="3292560"/>
              <a:ext cx="1440" cy="2371680"/>
            </a:xfrm>
            <a:prstGeom prst="rect">
              <a:avLst/>
            </a:prstGeom>
            <a:solidFill>
              <a:srgbClr val="b0d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52760" y="3292560"/>
              <a:ext cx="1800" cy="2371680"/>
            </a:xfrm>
            <a:prstGeom prst="rect">
              <a:avLst/>
            </a:prstGeom>
            <a:solidFill>
              <a:srgbClr val="afd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54560" y="3292560"/>
              <a:ext cx="1440" cy="2371680"/>
            </a:xfrm>
            <a:prstGeom prst="rect">
              <a:avLst/>
            </a:prstGeom>
            <a:solidFill>
              <a:srgbClr val="ad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56000" y="3292560"/>
              <a:ext cx="4680" cy="2371680"/>
            </a:xfrm>
            <a:prstGeom prst="rect">
              <a:avLst/>
            </a:prstGeom>
            <a:solidFill>
              <a:srgbClr val="acd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60680" y="3292560"/>
              <a:ext cx="1800" cy="2371680"/>
            </a:xfrm>
            <a:prstGeom prst="rect">
              <a:avLst/>
            </a:prstGeom>
            <a:solidFill>
              <a:srgbClr val="aad5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2480" y="3292560"/>
              <a:ext cx="4680" cy="2371680"/>
            </a:xfrm>
            <a:prstGeom prst="rect">
              <a:avLst/>
            </a:prstGeom>
            <a:solidFill>
              <a:srgbClr val="a8d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467160" y="3292560"/>
              <a:ext cx="1440" cy="2371680"/>
            </a:xfrm>
            <a:prstGeom prst="rect">
              <a:avLst/>
            </a:prstGeom>
            <a:solidFill>
              <a:srgbClr val="a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68600" y="3292560"/>
              <a:ext cx="3240" cy="2371680"/>
            </a:xfrm>
            <a:prstGeom prst="rect">
              <a:avLst/>
            </a:prstGeom>
            <a:solidFill>
              <a:srgbClr val="a6c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71840" y="3292560"/>
              <a:ext cx="4680" cy="2371680"/>
            </a:xfrm>
            <a:prstGeom prst="rect">
              <a:avLst/>
            </a:prstGeom>
            <a:solidFill>
              <a:srgbClr val="a4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76520" y="3292560"/>
              <a:ext cx="3240" cy="2371680"/>
            </a:xfrm>
            <a:prstGeom prst="rect">
              <a:avLst/>
            </a:prstGeom>
            <a:solidFill>
              <a:srgbClr val="a2c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79760" y="3292560"/>
              <a:ext cx="4680" cy="2371680"/>
            </a:xfrm>
            <a:prstGeom prst="rect">
              <a:avLst/>
            </a:prstGeom>
            <a:solidFill>
              <a:srgbClr val="a1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84440" y="3292560"/>
              <a:ext cx="3240" cy="237168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87680" y="3292560"/>
              <a:ext cx="6480" cy="237168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94160" y="3292560"/>
              <a:ext cx="7920" cy="237168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02080" y="3292560"/>
              <a:ext cx="12600" cy="2371680"/>
            </a:xfrm>
            <a:prstGeom prst="rect">
              <a:avLst/>
            </a:prstGeom>
            <a:solidFill>
              <a:srgbClr val="9bc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14680" y="3292560"/>
              <a:ext cx="6480" cy="237168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21160" y="3292560"/>
              <a:ext cx="3240" cy="237168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24400" y="3292560"/>
              <a:ext cx="4680" cy="237168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29080" y="3292560"/>
              <a:ext cx="4680" cy="2371680"/>
            </a:xfrm>
            <a:prstGeom prst="rect">
              <a:avLst/>
            </a:prstGeom>
            <a:solidFill>
              <a:srgbClr val="a0c9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33760" y="3292560"/>
              <a:ext cx="1440" cy="2371680"/>
            </a:xfrm>
            <a:prstGeom prst="rect">
              <a:avLst/>
            </a:prstGeom>
            <a:solidFill>
              <a:srgbClr val="a2c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33760" y="3292560"/>
              <a:ext cx="4680" cy="2371680"/>
            </a:xfrm>
            <a:prstGeom prst="rect">
              <a:avLst/>
            </a:prstGeom>
            <a:solidFill>
              <a:srgbClr val="a3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38440" y="3292560"/>
              <a:ext cx="3240" cy="2371680"/>
            </a:xfrm>
            <a:prstGeom prst="rect">
              <a:avLst/>
            </a:pr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41680" y="3292560"/>
              <a:ext cx="3240" cy="2371680"/>
            </a:xfrm>
            <a:prstGeom prst="rect">
              <a:avLst/>
            </a:prstGeom>
            <a:solidFill>
              <a:srgbClr val="a6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44920" y="3292560"/>
              <a:ext cx="3240" cy="2371680"/>
            </a:xfrm>
            <a:prstGeom prst="rect">
              <a:avLst/>
            </a:prstGeom>
            <a:solidFill>
              <a:srgbClr val="a8d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48160" y="3292560"/>
              <a:ext cx="3240" cy="2371680"/>
            </a:xfrm>
            <a:prstGeom prst="rect">
              <a:avLst/>
            </a:prstGeom>
            <a:solidFill>
              <a:srgbClr val="a9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51400" y="3292560"/>
              <a:ext cx="2880" cy="2371680"/>
            </a:xfrm>
            <a:prstGeom prst="rect">
              <a:avLst/>
            </a:prstGeom>
            <a:solidFill>
              <a:srgbClr val="abd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54280" y="3292560"/>
              <a:ext cx="1800" cy="2371680"/>
            </a:xfrm>
            <a:prstGeom prst="rect">
              <a:avLst/>
            </a:prstGeom>
            <a:solidFill>
              <a:srgbClr val="add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56080" y="3292560"/>
              <a:ext cx="3240" cy="2371680"/>
            </a:xfrm>
            <a:prstGeom prst="rect">
              <a:avLst/>
            </a:prstGeom>
            <a:solidFill>
              <a:srgbClr val="aed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59320" y="3292560"/>
              <a:ext cx="2880" cy="2371680"/>
            </a:xfrm>
            <a:prstGeom prst="rect">
              <a:avLst/>
            </a:prstGeom>
            <a:solidFill>
              <a:srgbClr val="b0d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62200" y="3292560"/>
              <a:ext cx="1800" cy="237168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64000" y="3292560"/>
              <a:ext cx="3240" cy="237168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67240" y="3292560"/>
              <a:ext cx="1440" cy="237168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68680" y="3292560"/>
              <a:ext cx="1440" cy="237168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70120" y="3292560"/>
              <a:ext cx="5040" cy="237168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75160" y="3292560"/>
              <a:ext cx="1440" cy="2371680"/>
            </a:xfrm>
            <a:prstGeom prst="rect">
              <a:avLst/>
            </a:prstGeom>
            <a:solidFill>
              <a:srgbClr val="b9e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76600" y="3292560"/>
              <a:ext cx="1800" cy="237168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78400" y="3292560"/>
              <a:ext cx="4680" cy="237168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83080" y="3292560"/>
              <a:ext cx="1440" cy="237168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84520" y="3292560"/>
              <a:ext cx="3240" cy="237168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87760" y="3292560"/>
              <a:ext cx="3240" cy="237168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91000" y="3292560"/>
              <a:ext cx="1440" cy="237168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92440" y="3292560"/>
              <a:ext cx="3240" cy="237168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595680" y="3292560"/>
              <a:ext cx="4680" cy="237168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00360" y="3292560"/>
              <a:ext cx="4680" cy="237168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05040" y="3292560"/>
              <a:ext cx="5040" cy="237168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10080" y="3292560"/>
              <a:ext cx="7920" cy="237168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18000" y="3292560"/>
              <a:ext cx="7920" cy="237168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25920" y="3292560"/>
              <a:ext cx="4680" cy="2371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379680" y="3292560"/>
              <a:ext cx="250920" cy="23716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06800" y="3178080"/>
              <a:ext cx="9720" cy="2486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16520" y="3178080"/>
              <a:ext cx="7920" cy="248616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24440" y="3178080"/>
              <a:ext cx="4680" cy="248616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29120" y="3178080"/>
              <a:ext cx="4680" cy="248616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33800" y="3178080"/>
              <a:ext cx="4680" cy="248616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38480" y="3178080"/>
              <a:ext cx="1800" cy="248616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0280" y="3178080"/>
              <a:ext cx="4680" cy="248616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4960" y="3178080"/>
              <a:ext cx="3240" cy="248616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200" y="3178080"/>
              <a:ext cx="3240" cy="248616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51440" y="3178080"/>
              <a:ext cx="1440" cy="248616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52880" y="3178080"/>
              <a:ext cx="3240" cy="248616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56120" y="3178080"/>
              <a:ext cx="3240" cy="248616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59360" y="3178080"/>
              <a:ext cx="1440" cy="248616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0800" y="3178080"/>
              <a:ext cx="3240" cy="2486160"/>
            </a:xfrm>
            <a:prstGeom prst="rect">
              <a:avLst/>
            </a:prstGeom>
            <a:solidFill>
              <a:srgbClr val="ba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64040" y="3178080"/>
              <a:ext cx="3240" cy="248616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67280" y="3178080"/>
              <a:ext cx="1440" cy="248616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68720" y="3178080"/>
              <a:ext cx="3240" cy="248616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71960" y="3178080"/>
              <a:ext cx="3240" cy="248616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75200" y="3178080"/>
              <a:ext cx="1440" cy="248616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76640" y="3178080"/>
              <a:ext cx="1800" cy="2486160"/>
            </a:xfrm>
            <a:prstGeom prst="rect">
              <a:avLst/>
            </a:prstGeom>
            <a:solidFill>
              <a:srgbClr val="b0d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78440" y="3178080"/>
              <a:ext cx="1440" cy="2486160"/>
            </a:xfrm>
            <a:prstGeom prst="rect">
              <a:avLst/>
            </a:prstGeom>
            <a:solidFill>
              <a:srgbClr val="afd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79880" y="3178080"/>
              <a:ext cx="3240" cy="2486160"/>
            </a:xfrm>
            <a:prstGeom prst="rect">
              <a:avLst/>
            </a:prstGeom>
            <a:solidFill>
              <a:srgbClr val="ad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83120" y="3178080"/>
              <a:ext cx="1440" cy="2486160"/>
            </a:xfrm>
            <a:prstGeom prst="rect">
              <a:avLst/>
            </a:prstGeom>
            <a:solidFill>
              <a:srgbClr val="acd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84560" y="3178080"/>
              <a:ext cx="3240" cy="2486160"/>
            </a:xfrm>
            <a:prstGeom prst="rect">
              <a:avLst/>
            </a:prstGeom>
            <a:solidFill>
              <a:srgbClr val="aad5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87800" y="3178080"/>
              <a:ext cx="4680" cy="2486160"/>
            </a:xfrm>
            <a:prstGeom prst="rect">
              <a:avLst/>
            </a:prstGeom>
            <a:solidFill>
              <a:srgbClr val="a8d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92480" y="3178080"/>
              <a:ext cx="1800" cy="2486160"/>
            </a:xfrm>
            <a:prstGeom prst="rect">
              <a:avLst/>
            </a:prstGeom>
            <a:solidFill>
              <a:srgbClr val="a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92480" y="3178080"/>
              <a:ext cx="3240" cy="2486160"/>
            </a:xfrm>
            <a:prstGeom prst="rect">
              <a:avLst/>
            </a:prstGeom>
            <a:solidFill>
              <a:srgbClr val="a6c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95720" y="3178080"/>
              <a:ext cx="4680" cy="2486160"/>
            </a:xfrm>
            <a:prstGeom prst="rect">
              <a:avLst/>
            </a:prstGeom>
            <a:solidFill>
              <a:srgbClr val="a4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00400" y="3178080"/>
              <a:ext cx="5040" cy="2486160"/>
            </a:xfrm>
            <a:prstGeom prst="rect">
              <a:avLst/>
            </a:prstGeom>
            <a:solidFill>
              <a:srgbClr val="a2c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05440" y="3178080"/>
              <a:ext cx="2880" cy="2486160"/>
            </a:xfrm>
            <a:prstGeom prst="rect">
              <a:avLst/>
            </a:prstGeom>
            <a:solidFill>
              <a:srgbClr val="a1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8320" y="3178080"/>
              <a:ext cx="6480" cy="248616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14800" y="3178080"/>
              <a:ext cx="6480" cy="248616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121280" y="3178080"/>
              <a:ext cx="7920" cy="248616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29200" y="3178080"/>
              <a:ext cx="11160" cy="2486160"/>
            </a:xfrm>
            <a:prstGeom prst="rect">
              <a:avLst/>
            </a:prstGeom>
            <a:solidFill>
              <a:srgbClr val="9bc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40360" y="3178080"/>
              <a:ext cx="6120" cy="248616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46480" y="3178080"/>
              <a:ext cx="4680" cy="248616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51160" y="3178080"/>
              <a:ext cx="3240" cy="248616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54400" y="3178080"/>
              <a:ext cx="4680" cy="2486160"/>
            </a:xfrm>
            <a:prstGeom prst="rect">
              <a:avLst/>
            </a:prstGeom>
            <a:solidFill>
              <a:srgbClr val="a0c9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59080" y="3178080"/>
              <a:ext cx="1800" cy="2486160"/>
            </a:xfrm>
            <a:prstGeom prst="rect">
              <a:avLst/>
            </a:prstGeom>
            <a:solidFill>
              <a:srgbClr val="a2c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60880" y="3178080"/>
              <a:ext cx="3240" cy="2486160"/>
            </a:xfrm>
            <a:prstGeom prst="rect">
              <a:avLst/>
            </a:prstGeom>
            <a:solidFill>
              <a:srgbClr val="a3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64120" y="3178080"/>
              <a:ext cx="4680" cy="2486160"/>
            </a:xfrm>
            <a:prstGeom prst="rect">
              <a:avLst/>
            </a:pr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68800" y="3178080"/>
              <a:ext cx="1440" cy="2486160"/>
            </a:xfrm>
            <a:prstGeom prst="rect">
              <a:avLst/>
            </a:prstGeom>
            <a:solidFill>
              <a:srgbClr val="a6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70240" y="3178080"/>
              <a:ext cx="5040" cy="2486160"/>
            </a:xfrm>
            <a:prstGeom prst="rect">
              <a:avLst/>
            </a:prstGeom>
            <a:solidFill>
              <a:srgbClr val="a8d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175280" y="3178080"/>
              <a:ext cx="1440" cy="2486160"/>
            </a:xfrm>
            <a:prstGeom prst="rect">
              <a:avLst/>
            </a:prstGeom>
            <a:solidFill>
              <a:srgbClr val="a9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176720" y="3178080"/>
              <a:ext cx="1440" cy="2486160"/>
            </a:xfrm>
            <a:prstGeom prst="rect">
              <a:avLst/>
            </a:prstGeom>
            <a:solidFill>
              <a:srgbClr val="abd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78160" y="3178080"/>
              <a:ext cx="5040" cy="2486160"/>
            </a:xfrm>
            <a:prstGeom prst="rect">
              <a:avLst/>
            </a:prstGeom>
            <a:solidFill>
              <a:srgbClr val="add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183200" y="3178080"/>
              <a:ext cx="1440" cy="2486160"/>
            </a:xfrm>
            <a:prstGeom prst="rect">
              <a:avLst/>
            </a:prstGeom>
            <a:solidFill>
              <a:srgbClr val="aed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84640" y="3178080"/>
              <a:ext cx="1440" cy="2486160"/>
            </a:xfrm>
            <a:prstGeom prst="rect">
              <a:avLst/>
            </a:prstGeom>
            <a:solidFill>
              <a:srgbClr val="b0d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86080" y="3178080"/>
              <a:ext cx="5040" cy="248616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91120" y="3178080"/>
              <a:ext cx="1440" cy="248616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92560" y="3178080"/>
              <a:ext cx="1440" cy="248616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94000" y="3178080"/>
              <a:ext cx="1800" cy="248616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95800" y="3178080"/>
              <a:ext cx="3240" cy="248616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99040" y="3178080"/>
              <a:ext cx="3240" cy="2486160"/>
            </a:xfrm>
            <a:prstGeom prst="rect">
              <a:avLst/>
            </a:prstGeom>
            <a:solidFill>
              <a:srgbClr val="b9e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02280" y="3178080"/>
              <a:ext cx="2880" cy="248616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205160" y="3178080"/>
              <a:ext cx="3240" cy="248616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08400" y="3178080"/>
              <a:ext cx="1800" cy="248616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10200" y="3178080"/>
              <a:ext cx="4680" cy="248616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14880" y="3178080"/>
              <a:ext cx="1440" cy="248616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16320" y="3178080"/>
              <a:ext cx="1800" cy="248616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18120" y="3178080"/>
              <a:ext cx="4680" cy="248616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22800" y="3178080"/>
              <a:ext cx="3240" cy="248616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26040" y="3178080"/>
              <a:ext cx="4680" cy="248616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30720" y="3178080"/>
              <a:ext cx="6480" cy="248616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37200" y="3178080"/>
              <a:ext cx="7920" cy="248616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45120" y="3178080"/>
              <a:ext cx="7920" cy="248616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53040" y="3178080"/>
              <a:ext cx="2880" cy="2486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06800" y="3178080"/>
              <a:ext cx="249120" cy="2486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30680" y="3129120"/>
              <a:ext cx="11160" cy="25351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41840" y="3129120"/>
              <a:ext cx="9360" cy="253512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651200" y="3129120"/>
              <a:ext cx="3240" cy="253512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54440" y="3129120"/>
              <a:ext cx="6480" cy="253512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60920" y="3129120"/>
              <a:ext cx="3240" cy="253512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64160" y="3129120"/>
              <a:ext cx="3240" cy="253512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67400" y="3129120"/>
              <a:ext cx="2880" cy="253512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70280" y="3129120"/>
              <a:ext cx="1800" cy="253512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72080" y="3129120"/>
              <a:ext cx="4680" cy="253512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76760" y="3129120"/>
              <a:ext cx="1440" cy="253512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78200" y="3129120"/>
              <a:ext cx="5040" cy="253512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83240" y="3129120"/>
              <a:ext cx="1440" cy="253512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84680" y="3129120"/>
              <a:ext cx="1800" cy="253512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86480" y="3129120"/>
              <a:ext cx="4680" cy="2535120"/>
            </a:xfrm>
            <a:prstGeom prst="rect">
              <a:avLst/>
            </a:prstGeom>
            <a:solidFill>
              <a:srgbClr val="ba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91160" y="3129120"/>
              <a:ext cx="1440" cy="253512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92600" y="3129120"/>
              <a:ext cx="1800" cy="253512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694400" y="3129120"/>
              <a:ext cx="1440" cy="253512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95840" y="3129120"/>
              <a:ext cx="4680" cy="253512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00520" y="3129120"/>
              <a:ext cx="1800" cy="253512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700520" y="3129120"/>
              <a:ext cx="4680" cy="2535120"/>
            </a:xfrm>
            <a:prstGeom prst="rect">
              <a:avLst/>
            </a:prstGeom>
            <a:solidFill>
              <a:srgbClr val="b0d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705200" y="3129120"/>
              <a:ext cx="1800" cy="2535120"/>
            </a:xfrm>
            <a:prstGeom prst="rect">
              <a:avLst/>
            </a:prstGeom>
            <a:solidFill>
              <a:srgbClr val="afd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07000" y="3129120"/>
              <a:ext cx="1440" cy="2535120"/>
            </a:xfrm>
            <a:prstGeom prst="rect">
              <a:avLst/>
            </a:prstGeom>
            <a:solidFill>
              <a:srgbClr val="ad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08440" y="3129120"/>
              <a:ext cx="1800" cy="2535120"/>
            </a:xfrm>
            <a:prstGeom prst="rect">
              <a:avLst/>
            </a:prstGeom>
            <a:solidFill>
              <a:srgbClr val="acd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10240" y="3129120"/>
              <a:ext cx="4680" cy="2535120"/>
            </a:xfrm>
            <a:prstGeom prst="rect">
              <a:avLst/>
            </a:prstGeom>
            <a:solidFill>
              <a:srgbClr val="aad5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714920" y="3129120"/>
              <a:ext cx="1440" cy="2535120"/>
            </a:xfrm>
            <a:prstGeom prst="rect">
              <a:avLst/>
            </a:prstGeom>
            <a:solidFill>
              <a:srgbClr val="a8d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16360" y="3129120"/>
              <a:ext cx="1800" cy="2535120"/>
            </a:xfrm>
            <a:prstGeom prst="rect">
              <a:avLst/>
            </a:prstGeom>
            <a:solidFill>
              <a:srgbClr val="a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18160" y="3129120"/>
              <a:ext cx="4680" cy="2535120"/>
            </a:xfrm>
            <a:prstGeom prst="rect">
              <a:avLst/>
            </a:prstGeom>
            <a:solidFill>
              <a:srgbClr val="a6c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722840" y="3129120"/>
              <a:ext cx="3240" cy="2535120"/>
            </a:xfrm>
            <a:prstGeom prst="rect">
              <a:avLst/>
            </a:prstGeom>
            <a:solidFill>
              <a:srgbClr val="a4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26080" y="3129120"/>
              <a:ext cx="4680" cy="2535120"/>
            </a:xfrm>
            <a:prstGeom prst="rect">
              <a:avLst/>
            </a:prstGeom>
            <a:solidFill>
              <a:srgbClr val="a2c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30760" y="3129120"/>
              <a:ext cx="3240" cy="2535120"/>
            </a:xfrm>
            <a:prstGeom prst="rect">
              <a:avLst/>
            </a:prstGeom>
            <a:solidFill>
              <a:srgbClr val="a1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34000" y="3129120"/>
              <a:ext cx="6120" cy="253512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40120" y="3129120"/>
              <a:ext cx="6480" cy="253512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46600" y="3129120"/>
              <a:ext cx="6480" cy="253512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53080" y="3129120"/>
              <a:ext cx="14040" cy="2535120"/>
            </a:xfrm>
            <a:prstGeom prst="rect">
              <a:avLst/>
            </a:prstGeom>
            <a:solidFill>
              <a:srgbClr val="9bc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67120" y="3129120"/>
              <a:ext cx="5040" cy="253512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72160" y="3129120"/>
              <a:ext cx="4680" cy="253512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76840" y="3129120"/>
              <a:ext cx="3240" cy="253512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80080" y="3129120"/>
              <a:ext cx="4680" cy="2535120"/>
            </a:xfrm>
            <a:prstGeom prst="rect">
              <a:avLst/>
            </a:prstGeom>
            <a:solidFill>
              <a:srgbClr val="a0c9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84760" y="3129120"/>
              <a:ext cx="1440" cy="2535120"/>
            </a:xfrm>
            <a:prstGeom prst="rect">
              <a:avLst/>
            </a:prstGeom>
            <a:solidFill>
              <a:srgbClr val="a2c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86200" y="3129120"/>
              <a:ext cx="5040" cy="2535120"/>
            </a:xfrm>
            <a:prstGeom prst="rect">
              <a:avLst/>
            </a:prstGeom>
            <a:solidFill>
              <a:srgbClr val="a3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91240" y="3129120"/>
              <a:ext cx="2880" cy="2535120"/>
            </a:xfrm>
            <a:prstGeom prst="rect">
              <a:avLst/>
            </a:pr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94120" y="3129120"/>
              <a:ext cx="1800" cy="2535120"/>
            </a:xfrm>
            <a:prstGeom prst="rect">
              <a:avLst/>
            </a:prstGeom>
            <a:solidFill>
              <a:srgbClr val="a6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95920" y="3129120"/>
              <a:ext cx="3240" cy="2535120"/>
            </a:xfrm>
            <a:prstGeom prst="rect">
              <a:avLst/>
            </a:prstGeom>
            <a:solidFill>
              <a:srgbClr val="a8d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99160" y="3129120"/>
              <a:ext cx="2880" cy="2535120"/>
            </a:xfrm>
            <a:prstGeom prst="rect">
              <a:avLst/>
            </a:prstGeom>
            <a:solidFill>
              <a:srgbClr val="a9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02040" y="3129120"/>
              <a:ext cx="3240" cy="2535120"/>
            </a:xfrm>
            <a:prstGeom prst="rect">
              <a:avLst/>
            </a:prstGeom>
            <a:solidFill>
              <a:srgbClr val="abd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05280" y="3129120"/>
              <a:ext cx="1800" cy="2535120"/>
            </a:xfrm>
            <a:prstGeom prst="rect">
              <a:avLst/>
            </a:prstGeom>
            <a:solidFill>
              <a:srgbClr val="add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07080" y="3129120"/>
              <a:ext cx="2880" cy="2535120"/>
            </a:xfrm>
            <a:prstGeom prst="rect">
              <a:avLst/>
            </a:prstGeom>
            <a:solidFill>
              <a:srgbClr val="aed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09960" y="3129120"/>
              <a:ext cx="3240" cy="2535120"/>
            </a:xfrm>
            <a:prstGeom prst="rect">
              <a:avLst/>
            </a:prstGeom>
            <a:solidFill>
              <a:srgbClr val="b0d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13200" y="3129120"/>
              <a:ext cx="1800" cy="253512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15000" y="3129120"/>
              <a:ext cx="3240" cy="253512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18240" y="3129120"/>
              <a:ext cx="2880" cy="253512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30680" y="2905200"/>
            <a:ext cx="2055960" cy="2759040"/>
            <a:chOff x="4630680" y="2905200"/>
            <a:chExt cx="2055960" cy="2759040"/>
          </a:xfrm>
        </p:grpSpPr>
        <p:sp>
          <p:nvSpPr>
            <p:cNvPr id="580" name=""/>
            <p:cNvSpPr/>
            <p:nvPr/>
          </p:nvSpPr>
          <p:spPr>
            <a:xfrm>
              <a:off x="4821120" y="3129120"/>
              <a:ext cx="1800" cy="253512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22920" y="3129120"/>
              <a:ext cx="1440" cy="253512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24360" y="3129120"/>
              <a:ext cx="1800" cy="2535120"/>
            </a:xfrm>
            <a:prstGeom prst="rect">
              <a:avLst/>
            </a:prstGeom>
            <a:solidFill>
              <a:srgbClr val="b9e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26160" y="3129120"/>
              <a:ext cx="4680" cy="253512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30840" y="3129120"/>
              <a:ext cx="3240" cy="253512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34080" y="3129120"/>
              <a:ext cx="2880" cy="253512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36960" y="3129120"/>
              <a:ext cx="1800" cy="253512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38760" y="3129120"/>
              <a:ext cx="3240" cy="253512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42000" y="3129120"/>
              <a:ext cx="2880" cy="253512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44880" y="3129120"/>
              <a:ext cx="3240" cy="253512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48120" y="3129120"/>
              <a:ext cx="5040" cy="253512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53160" y="3129120"/>
              <a:ext cx="2880" cy="253512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856040" y="3129120"/>
              <a:ext cx="6480" cy="253512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62520" y="3129120"/>
              <a:ext cx="7920" cy="253512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70440" y="3129120"/>
              <a:ext cx="7920" cy="253512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878360" y="3129120"/>
              <a:ext cx="4680" cy="25351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30680" y="3129120"/>
              <a:ext cx="252360" cy="25351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56360" y="3070080"/>
              <a:ext cx="12600" cy="2594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68960" y="3070080"/>
              <a:ext cx="6480" cy="259416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75440" y="3070080"/>
              <a:ext cx="4680" cy="259416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80120" y="3070080"/>
              <a:ext cx="6120" cy="259416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86240" y="3070080"/>
              <a:ext cx="1800" cy="259416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88040" y="3070080"/>
              <a:ext cx="4680" cy="259416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292720" y="3070080"/>
              <a:ext cx="3240" cy="259416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5960" y="3070080"/>
              <a:ext cx="3240" cy="259416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299200" y="3070080"/>
              <a:ext cx="1440" cy="259416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300640" y="3070080"/>
              <a:ext cx="4680" cy="259416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05320" y="3070080"/>
              <a:ext cx="3240" cy="259416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08560" y="3070080"/>
              <a:ext cx="1800" cy="259416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10360" y="3070080"/>
              <a:ext cx="2880" cy="259416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13240" y="3070080"/>
              <a:ext cx="3240" cy="2594160"/>
            </a:xfrm>
            <a:prstGeom prst="rect">
              <a:avLst/>
            </a:prstGeom>
            <a:solidFill>
              <a:srgbClr val="ba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16480" y="3070080"/>
              <a:ext cx="1800" cy="259416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18280" y="3070080"/>
              <a:ext cx="2880" cy="259416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21160" y="3070080"/>
              <a:ext cx="1800" cy="259416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22960" y="3070080"/>
              <a:ext cx="1440" cy="259416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24400" y="3070080"/>
              <a:ext cx="1800" cy="259416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26200" y="3070080"/>
              <a:ext cx="2880" cy="2594160"/>
            </a:xfrm>
            <a:prstGeom prst="rect">
              <a:avLst/>
            </a:prstGeom>
            <a:solidFill>
              <a:srgbClr val="b0d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29080" y="3070080"/>
              <a:ext cx="3240" cy="2594160"/>
            </a:xfrm>
            <a:prstGeom prst="rect">
              <a:avLst/>
            </a:prstGeom>
            <a:solidFill>
              <a:srgbClr val="afd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2320" y="3070080"/>
              <a:ext cx="1800" cy="2594160"/>
            </a:xfrm>
            <a:prstGeom prst="rect">
              <a:avLst/>
            </a:prstGeom>
            <a:solidFill>
              <a:srgbClr val="ad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4120" y="3070080"/>
              <a:ext cx="2880" cy="2594160"/>
            </a:xfrm>
            <a:prstGeom prst="rect">
              <a:avLst/>
            </a:prstGeom>
            <a:solidFill>
              <a:srgbClr val="acd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37000" y="3070080"/>
              <a:ext cx="3240" cy="2594160"/>
            </a:xfrm>
            <a:prstGeom prst="rect">
              <a:avLst/>
            </a:prstGeom>
            <a:solidFill>
              <a:srgbClr val="aad5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340240" y="3070080"/>
              <a:ext cx="1800" cy="2594160"/>
            </a:xfrm>
            <a:prstGeom prst="rect">
              <a:avLst/>
            </a:prstGeom>
            <a:solidFill>
              <a:srgbClr val="a8d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342040" y="3070080"/>
              <a:ext cx="3240" cy="2594160"/>
            </a:xfrm>
            <a:prstGeom prst="rect">
              <a:avLst/>
            </a:prstGeom>
            <a:solidFill>
              <a:srgbClr val="a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5280" y="3070080"/>
              <a:ext cx="2880" cy="2594160"/>
            </a:xfrm>
            <a:prstGeom prst="rect">
              <a:avLst/>
            </a:prstGeom>
            <a:solidFill>
              <a:srgbClr val="a6c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48160" y="3070080"/>
              <a:ext cx="5040" cy="2594160"/>
            </a:xfrm>
            <a:prstGeom prst="rect">
              <a:avLst/>
            </a:prstGeom>
            <a:solidFill>
              <a:srgbClr val="a4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353200" y="3070080"/>
              <a:ext cx="2880" cy="2594160"/>
            </a:xfrm>
            <a:prstGeom prst="rect">
              <a:avLst/>
            </a:prstGeom>
            <a:solidFill>
              <a:srgbClr val="a2c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56080" y="3070080"/>
              <a:ext cx="5040" cy="2594160"/>
            </a:xfrm>
            <a:prstGeom prst="rect">
              <a:avLst/>
            </a:prstGeom>
            <a:solidFill>
              <a:srgbClr val="a1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61120" y="3070080"/>
              <a:ext cx="6120" cy="259416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67240" y="3070080"/>
              <a:ext cx="5040" cy="259416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72280" y="3070080"/>
              <a:ext cx="6120" cy="259416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378400" y="3070080"/>
              <a:ext cx="14400" cy="2594160"/>
            </a:xfrm>
            <a:prstGeom prst="rect">
              <a:avLst/>
            </a:prstGeom>
            <a:solidFill>
              <a:srgbClr val="9bc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92800" y="3070080"/>
              <a:ext cx="3240" cy="259416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96040" y="3070080"/>
              <a:ext cx="4680" cy="259416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00720" y="3070080"/>
              <a:ext cx="6480" cy="259416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07200" y="3070080"/>
              <a:ext cx="2880" cy="2594160"/>
            </a:xfrm>
            <a:prstGeom prst="rect">
              <a:avLst/>
            </a:prstGeom>
            <a:solidFill>
              <a:srgbClr val="a0c9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10080" y="3070080"/>
              <a:ext cx="3240" cy="2594160"/>
            </a:xfrm>
            <a:prstGeom prst="rect">
              <a:avLst/>
            </a:prstGeom>
            <a:solidFill>
              <a:srgbClr val="a2c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13320" y="3070080"/>
              <a:ext cx="3240" cy="2594160"/>
            </a:xfrm>
            <a:prstGeom prst="rect">
              <a:avLst/>
            </a:prstGeom>
            <a:solidFill>
              <a:srgbClr val="a3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16560" y="3070080"/>
              <a:ext cx="4680" cy="2594160"/>
            </a:xfrm>
            <a:prstGeom prst="rect">
              <a:avLst/>
            </a:pr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21240" y="3070080"/>
              <a:ext cx="1800" cy="2594160"/>
            </a:xfrm>
            <a:prstGeom prst="rect">
              <a:avLst/>
            </a:prstGeom>
            <a:solidFill>
              <a:srgbClr val="a6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21240" y="3070080"/>
              <a:ext cx="3240" cy="2594160"/>
            </a:xfrm>
            <a:prstGeom prst="rect">
              <a:avLst/>
            </a:prstGeom>
            <a:solidFill>
              <a:srgbClr val="a8d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24480" y="3070080"/>
              <a:ext cx="4680" cy="2594160"/>
            </a:xfrm>
            <a:prstGeom prst="rect">
              <a:avLst/>
            </a:prstGeom>
            <a:solidFill>
              <a:srgbClr val="a9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29160" y="3070080"/>
              <a:ext cx="1800" cy="2594160"/>
            </a:xfrm>
            <a:prstGeom prst="rect">
              <a:avLst/>
            </a:prstGeom>
            <a:solidFill>
              <a:srgbClr val="abd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30960" y="3070080"/>
              <a:ext cx="1440" cy="2594160"/>
            </a:xfrm>
            <a:prstGeom prst="rect">
              <a:avLst/>
            </a:prstGeom>
            <a:solidFill>
              <a:srgbClr val="add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32400" y="3070080"/>
              <a:ext cx="1440" cy="2594160"/>
            </a:xfrm>
            <a:prstGeom prst="rect">
              <a:avLst/>
            </a:prstGeom>
            <a:solidFill>
              <a:srgbClr val="aed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33840" y="3070080"/>
              <a:ext cx="5040" cy="2594160"/>
            </a:xfrm>
            <a:prstGeom prst="rect">
              <a:avLst/>
            </a:prstGeom>
            <a:solidFill>
              <a:srgbClr val="b0d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38880" y="3070080"/>
              <a:ext cx="1440" cy="259416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40320" y="3070080"/>
              <a:ext cx="1800" cy="259416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42120" y="3070080"/>
              <a:ext cx="2880" cy="259416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45000" y="3070080"/>
              <a:ext cx="3240" cy="259416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448240" y="3070080"/>
              <a:ext cx="3240" cy="259416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451480" y="3070080"/>
              <a:ext cx="1440" cy="2594160"/>
            </a:xfrm>
            <a:prstGeom prst="rect">
              <a:avLst/>
            </a:prstGeom>
            <a:solidFill>
              <a:srgbClr val="b9e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52920" y="3070080"/>
              <a:ext cx="3240" cy="259416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456160" y="3070080"/>
              <a:ext cx="3240" cy="259416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59400" y="3070080"/>
              <a:ext cx="3240" cy="259416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62640" y="3070080"/>
              <a:ext cx="1440" cy="259416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64080" y="3070080"/>
              <a:ext cx="4680" cy="259416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468760" y="3070080"/>
              <a:ext cx="1800" cy="259416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70560" y="3070080"/>
              <a:ext cx="4680" cy="259416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75240" y="3070080"/>
              <a:ext cx="3240" cy="259416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78480" y="3070080"/>
              <a:ext cx="4680" cy="259416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83160" y="3070080"/>
              <a:ext cx="3240" cy="259416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86400" y="3070080"/>
              <a:ext cx="7920" cy="259416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94320" y="3070080"/>
              <a:ext cx="7920" cy="259416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02240" y="3070080"/>
              <a:ext cx="4680" cy="2594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256360" y="3070080"/>
              <a:ext cx="250560" cy="2594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883120" y="2987640"/>
              <a:ext cx="11160" cy="2676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894280" y="2987640"/>
              <a:ext cx="6480" cy="267660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00760" y="2987640"/>
              <a:ext cx="6480" cy="267660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07240" y="2987640"/>
              <a:ext cx="2880" cy="267660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10120" y="2987640"/>
              <a:ext cx="5040" cy="267660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15160" y="2987640"/>
              <a:ext cx="2880" cy="267660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18040" y="2987640"/>
              <a:ext cx="3240" cy="267660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21280" y="2987640"/>
              <a:ext cx="3240" cy="267660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24520" y="2987640"/>
              <a:ext cx="4680" cy="267660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29200" y="2987640"/>
              <a:ext cx="1800" cy="267660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931000" y="2987640"/>
              <a:ext cx="1440" cy="267660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932440" y="2987640"/>
              <a:ext cx="4680" cy="267660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37120" y="2987640"/>
              <a:ext cx="1800" cy="267660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38920" y="2987640"/>
              <a:ext cx="1440" cy="2676600"/>
            </a:xfrm>
            <a:prstGeom prst="rect">
              <a:avLst/>
            </a:prstGeom>
            <a:solidFill>
              <a:srgbClr val="ba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940360" y="2987640"/>
              <a:ext cx="4680" cy="267660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945040" y="2987640"/>
              <a:ext cx="1800" cy="267660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46840" y="2987640"/>
              <a:ext cx="1440" cy="267660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48280" y="2987640"/>
              <a:ext cx="3240" cy="267660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51520" y="2987640"/>
              <a:ext cx="1440" cy="267660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52960" y="2987640"/>
              <a:ext cx="1800" cy="2676600"/>
            </a:xfrm>
            <a:prstGeom prst="rect">
              <a:avLst/>
            </a:prstGeom>
            <a:solidFill>
              <a:srgbClr val="b0d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54760" y="2987640"/>
              <a:ext cx="4680" cy="2676600"/>
            </a:xfrm>
            <a:prstGeom prst="rect">
              <a:avLst/>
            </a:prstGeom>
            <a:solidFill>
              <a:srgbClr val="afd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59440" y="2987640"/>
              <a:ext cx="1800" cy="2676600"/>
            </a:xfrm>
            <a:prstGeom prst="rect">
              <a:avLst/>
            </a:prstGeom>
            <a:solidFill>
              <a:srgbClr val="ad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61240" y="2987640"/>
              <a:ext cx="1440" cy="2676600"/>
            </a:xfrm>
            <a:prstGeom prst="rect">
              <a:avLst/>
            </a:prstGeom>
            <a:solidFill>
              <a:srgbClr val="acd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62680" y="2987640"/>
              <a:ext cx="1440" cy="2676600"/>
            </a:xfrm>
            <a:prstGeom prst="rect">
              <a:avLst/>
            </a:prstGeom>
            <a:solidFill>
              <a:srgbClr val="aad5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964120" y="2987640"/>
              <a:ext cx="5040" cy="2676600"/>
            </a:xfrm>
            <a:prstGeom prst="rect">
              <a:avLst/>
            </a:prstGeom>
            <a:solidFill>
              <a:srgbClr val="a8d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69160" y="2987640"/>
              <a:ext cx="1440" cy="2676600"/>
            </a:xfrm>
            <a:prstGeom prst="rect">
              <a:avLst/>
            </a:prstGeom>
            <a:solidFill>
              <a:srgbClr val="a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970600" y="2987640"/>
              <a:ext cx="4680" cy="2676600"/>
            </a:xfrm>
            <a:prstGeom prst="rect">
              <a:avLst/>
            </a:prstGeom>
            <a:solidFill>
              <a:srgbClr val="a6c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75280" y="2987640"/>
              <a:ext cx="3240" cy="2676600"/>
            </a:xfrm>
            <a:prstGeom prst="rect">
              <a:avLst/>
            </a:prstGeom>
            <a:solidFill>
              <a:srgbClr val="a4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78520" y="2987640"/>
              <a:ext cx="4680" cy="2676600"/>
            </a:xfrm>
            <a:prstGeom prst="rect">
              <a:avLst/>
            </a:prstGeom>
            <a:solidFill>
              <a:srgbClr val="a2c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83200" y="2987640"/>
              <a:ext cx="3240" cy="2676600"/>
            </a:xfrm>
            <a:prstGeom prst="rect">
              <a:avLst/>
            </a:prstGeom>
            <a:solidFill>
              <a:srgbClr val="a1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986440" y="2987640"/>
              <a:ext cx="6480" cy="267660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992920" y="2987640"/>
              <a:ext cx="6120" cy="267660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999040" y="2987640"/>
              <a:ext cx="6480" cy="267660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05520" y="2987640"/>
              <a:ext cx="11160" cy="2676600"/>
            </a:xfrm>
            <a:prstGeom prst="rect">
              <a:avLst/>
            </a:prstGeom>
            <a:solidFill>
              <a:srgbClr val="9bc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16680" y="2987640"/>
              <a:ext cx="6120" cy="267660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22800" y="2987640"/>
              <a:ext cx="3240" cy="267660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026040" y="2987640"/>
              <a:ext cx="6480" cy="267660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32520" y="2987640"/>
              <a:ext cx="4680" cy="2676600"/>
            </a:xfrm>
            <a:prstGeom prst="rect">
              <a:avLst/>
            </a:prstGeom>
            <a:solidFill>
              <a:srgbClr val="a0c9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7200" y="2987640"/>
              <a:ext cx="1800" cy="2676600"/>
            </a:xfrm>
            <a:prstGeom prst="rect">
              <a:avLst/>
            </a:prstGeom>
            <a:solidFill>
              <a:srgbClr val="a2c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39000" y="2987640"/>
              <a:ext cx="2880" cy="2676600"/>
            </a:xfrm>
            <a:prstGeom prst="rect">
              <a:avLst/>
            </a:prstGeom>
            <a:solidFill>
              <a:srgbClr val="a3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041880" y="2987640"/>
              <a:ext cx="5040" cy="2676600"/>
            </a:xfrm>
            <a:prstGeom prst="rect">
              <a:avLst/>
            </a:pr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046920" y="2987640"/>
              <a:ext cx="1440" cy="2676600"/>
            </a:xfrm>
            <a:prstGeom prst="rect">
              <a:avLst/>
            </a:prstGeom>
            <a:solidFill>
              <a:srgbClr val="a6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048360" y="2987640"/>
              <a:ext cx="3240" cy="2676600"/>
            </a:xfrm>
            <a:prstGeom prst="rect">
              <a:avLst/>
            </a:prstGeom>
            <a:solidFill>
              <a:srgbClr val="a8d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51600" y="2987640"/>
              <a:ext cx="1440" cy="2676600"/>
            </a:xfrm>
            <a:prstGeom prst="rect">
              <a:avLst/>
            </a:prstGeom>
            <a:solidFill>
              <a:srgbClr val="a9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053040" y="2987640"/>
              <a:ext cx="3240" cy="2676600"/>
            </a:xfrm>
            <a:prstGeom prst="rect">
              <a:avLst/>
            </a:prstGeom>
            <a:solidFill>
              <a:srgbClr val="abd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056280" y="2987640"/>
              <a:ext cx="3240" cy="2676600"/>
            </a:xfrm>
            <a:prstGeom prst="rect">
              <a:avLst/>
            </a:prstGeom>
            <a:solidFill>
              <a:srgbClr val="add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59520" y="2987640"/>
              <a:ext cx="1440" cy="2676600"/>
            </a:xfrm>
            <a:prstGeom prst="rect">
              <a:avLst/>
            </a:prstGeom>
            <a:solidFill>
              <a:srgbClr val="aed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60960" y="2987640"/>
              <a:ext cx="3240" cy="2676600"/>
            </a:xfrm>
            <a:prstGeom prst="rect">
              <a:avLst/>
            </a:prstGeom>
            <a:solidFill>
              <a:srgbClr val="b0d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64200" y="2987640"/>
              <a:ext cx="3240" cy="267660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067440" y="2987640"/>
              <a:ext cx="1440" cy="267660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68880" y="2987640"/>
              <a:ext cx="1800" cy="267660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70680" y="2987640"/>
              <a:ext cx="4680" cy="267660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75360" y="2987640"/>
              <a:ext cx="1440" cy="267660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76800" y="2987640"/>
              <a:ext cx="1800" cy="2676600"/>
            </a:xfrm>
            <a:prstGeom prst="rect">
              <a:avLst/>
            </a:prstGeom>
            <a:solidFill>
              <a:srgbClr val="b9e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078600" y="2987640"/>
              <a:ext cx="4680" cy="267660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83280" y="2987640"/>
              <a:ext cx="1440" cy="267660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84720" y="2987640"/>
              <a:ext cx="3240" cy="267660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087960" y="2987640"/>
              <a:ext cx="3240" cy="267660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91200" y="2987640"/>
              <a:ext cx="3240" cy="267660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094440" y="2987640"/>
              <a:ext cx="1440" cy="267660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095880" y="2987640"/>
              <a:ext cx="5040" cy="267660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100920" y="2987640"/>
              <a:ext cx="4680" cy="267660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05600" y="2987640"/>
              <a:ext cx="3240" cy="267660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108840" y="2987640"/>
              <a:ext cx="6120" cy="267660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14960" y="2987640"/>
              <a:ext cx="7920" cy="267660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22880" y="2987640"/>
              <a:ext cx="6480" cy="267660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129360" y="2987640"/>
              <a:ext cx="4680" cy="2676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83120" y="2987640"/>
              <a:ext cx="250920" cy="2676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08800" y="2905200"/>
              <a:ext cx="12600" cy="2759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21400" y="2905200"/>
              <a:ext cx="4680" cy="2759040"/>
            </a:xfrm>
            <a:prstGeom prst="rect">
              <a:avLst/>
            </a:prstGeom>
            <a:solidFill>
              <a:srgbClr val="cb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26080" y="2905200"/>
              <a:ext cx="6480" cy="2759040"/>
            </a:xfrm>
            <a:prstGeom prst="rect">
              <a:avLst/>
            </a:prstGeom>
            <a:solidFill>
              <a:srgbClr val="c9f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532560" y="2905200"/>
              <a:ext cx="6480" cy="275904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539040" y="2905200"/>
              <a:ext cx="1440" cy="2759040"/>
            </a:xfrm>
            <a:prstGeom prst="rect">
              <a:avLst/>
            </a:prstGeom>
            <a:solidFill>
              <a:srgbClr val="c7f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40480" y="2905200"/>
              <a:ext cx="4680" cy="2759040"/>
            </a:xfrm>
            <a:prstGeom prst="rect">
              <a:avLst/>
            </a:prstGeom>
            <a:solidFill>
              <a:srgbClr val="c5f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545160" y="2905200"/>
              <a:ext cx="1800" cy="2759040"/>
            </a:xfrm>
            <a:prstGeom prst="rect">
              <a:avLst/>
            </a:prstGeom>
            <a:solidFill>
              <a:srgbClr val="c4f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546960" y="2905200"/>
              <a:ext cx="4680" cy="2759040"/>
            </a:xfrm>
            <a:prstGeom prst="rect">
              <a:avLst/>
            </a:prstGeom>
            <a:solidFill>
              <a:srgbClr val="c3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51640" y="2905200"/>
              <a:ext cx="1440" cy="2759040"/>
            </a:xfrm>
            <a:prstGeom prst="rect">
              <a:avLst/>
            </a:prstGeom>
            <a:solidFill>
              <a:srgbClr val="c1f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53080" y="2905200"/>
              <a:ext cx="3240" cy="2759040"/>
            </a:xfrm>
            <a:prstGeom prst="rect">
              <a:avLst/>
            </a:prstGeom>
            <a:solidFill>
              <a:srgbClr val="c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556320" y="2905200"/>
              <a:ext cx="3240" cy="2759040"/>
            </a:xfrm>
            <a:prstGeom prst="rect">
              <a:avLst/>
            </a:prstGeom>
            <a:solidFill>
              <a:srgbClr val="bee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9560" y="2905200"/>
              <a:ext cx="3240" cy="2759040"/>
            </a:xfrm>
            <a:prstGeom prst="rect">
              <a:avLst/>
            </a:prstGeom>
            <a:solidFill>
              <a:srgbClr val="bde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562800" y="2905200"/>
              <a:ext cx="1440" cy="2759040"/>
            </a:xfrm>
            <a:prstGeom prst="rect">
              <a:avLst/>
            </a:prstGeom>
            <a:solidFill>
              <a:srgbClr val="bbe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64240" y="2905200"/>
              <a:ext cx="4680" cy="2759040"/>
            </a:xfrm>
            <a:prstGeom prst="rect">
              <a:avLst/>
            </a:prstGeom>
            <a:solidFill>
              <a:srgbClr val="ba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568920" y="2905200"/>
              <a:ext cx="1800" cy="2759040"/>
            </a:xfrm>
            <a:prstGeom prst="rect">
              <a:avLst/>
            </a:prstGeom>
            <a:solidFill>
              <a:srgbClr val="b8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570720" y="2905200"/>
              <a:ext cx="1440" cy="2759040"/>
            </a:xfrm>
            <a:prstGeom prst="rect">
              <a:avLst/>
            </a:prstGeom>
            <a:solidFill>
              <a:srgbClr val="b6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572160" y="2905200"/>
              <a:ext cx="3240" cy="2759040"/>
            </a:xfrm>
            <a:prstGeom prst="rect">
              <a:avLst/>
            </a:prstGeom>
            <a:solidFill>
              <a:srgbClr val="b5e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575400" y="2905200"/>
              <a:ext cx="1440" cy="2759040"/>
            </a:xfrm>
            <a:prstGeom prst="rect">
              <a:avLst/>
            </a:prstGeom>
            <a:solidFill>
              <a:srgbClr val="b3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76840" y="2905200"/>
              <a:ext cx="1800" cy="2759040"/>
            </a:xfrm>
            <a:prstGeom prst="rect">
              <a:avLst/>
            </a:prstGeom>
            <a:solidFill>
              <a:srgbClr val="b2d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78640" y="2905200"/>
              <a:ext cx="1440" cy="2759040"/>
            </a:xfrm>
            <a:prstGeom prst="rect">
              <a:avLst/>
            </a:prstGeom>
            <a:solidFill>
              <a:srgbClr val="b0d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80080" y="2905200"/>
              <a:ext cx="5040" cy="2759040"/>
            </a:xfrm>
            <a:prstGeom prst="rect">
              <a:avLst/>
            </a:prstGeom>
            <a:solidFill>
              <a:srgbClr val="afd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85120" y="2905200"/>
              <a:ext cx="1440" cy="2759040"/>
            </a:xfrm>
            <a:prstGeom prst="rect">
              <a:avLst/>
            </a:prstGeom>
            <a:solidFill>
              <a:srgbClr val="ad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586560" y="2905200"/>
              <a:ext cx="1440" cy="2759040"/>
            </a:xfrm>
            <a:prstGeom prst="rect">
              <a:avLst/>
            </a:prstGeom>
            <a:solidFill>
              <a:srgbClr val="acd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88000" y="2905200"/>
              <a:ext cx="5040" cy="2759040"/>
            </a:xfrm>
            <a:prstGeom prst="rect">
              <a:avLst/>
            </a:prstGeom>
            <a:solidFill>
              <a:srgbClr val="aad5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93040" y="2905200"/>
              <a:ext cx="1440" cy="2759040"/>
            </a:xfrm>
            <a:prstGeom prst="rect">
              <a:avLst/>
            </a:prstGeom>
            <a:solidFill>
              <a:srgbClr val="a8d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94480" y="2905200"/>
              <a:ext cx="1440" cy="2759040"/>
            </a:xfrm>
            <a:prstGeom prst="rect">
              <a:avLst/>
            </a:prstGeom>
            <a:solidFill>
              <a:srgbClr val="a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595920" y="2905200"/>
              <a:ext cx="5040" cy="2759040"/>
            </a:xfrm>
            <a:prstGeom prst="rect">
              <a:avLst/>
            </a:prstGeom>
            <a:solidFill>
              <a:srgbClr val="a6c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00960" y="2905200"/>
              <a:ext cx="4680" cy="2759040"/>
            </a:xfrm>
            <a:prstGeom prst="rect">
              <a:avLst/>
            </a:prstGeom>
            <a:solidFill>
              <a:srgbClr val="a4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605640" y="2905200"/>
              <a:ext cx="3240" cy="2759040"/>
            </a:xfrm>
            <a:prstGeom prst="rect">
              <a:avLst/>
            </a:prstGeom>
            <a:solidFill>
              <a:srgbClr val="a2c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608880" y="2905200"/>
              <a:ext cx="4680" cy="2759040"/>
            </a:xfrm>
            <a:prstGeom prst="rect">
              <a:avLst/>
            </a:prstGeom>
            <a:solidFill>
              <a:srgbClr val="a1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13560" y="2905200"/>
              <a:ext cx="4680" cy="275904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18240" y="2905200"/>
              <a:ext cx="6480" cy="275904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24720" y="2905200"/>
              <a:ext cx="6120" cy="275904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30840" y="2905200"/>
              <a:ext cx="14400" cy="2759040"/>
            </a:xfrm>
            <a:prstGeom prst="rect">
              <a:avLst/>
            </a:prstGeom>
            <a:solidFill>
              <a:srgbClr val="9bc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45240" y="2905200"/>
              <a:ext cx="3240" cy="2759040"/>
            </a:xfrm>
            <a:prstGeom prst="rect">
              <a:avLst/>
            </a:prstGeom>
            <a:solidFill>
              <a:srgbClr val="9cc4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648480" y="2905200"/>
              <a:ext cx="4680" cy="2759040"/>
            </a:xfrm>
            <a:prstGeom prst="rect">
              <a:avLst/>
            </a:prstGeom>
            <a:solidFill>
              <a:srgbClr val="9e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653160" y="2905200"/>
              <a:ext cx="6480" cy="2759040"/>
            </a:xfrm>
            <a:prstGeom prst="rect">
              <a:avLst/>
            </a:prstGeom>
            <a:solidFill>
              <a:srgbClr val="9fc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659640" y="2905200"/>
              <a:ext cx="3240" cy="2759040"/>
            </a:xfrm>
            <a:prstGeom prst="rect">
              <a:avLst/>
            </a:prstGeom>
            <a:solidFill>
              <a:srgbClr val="a0c9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662880" y="2905200"/>
              <a:ext cx="1440" cy="2759040"/>
            </a:xfrm>
            <a:prstGeom prst="rect">
              <a:avLst/>
            </a:prstGeom>
            <a:solidFill>
              <a:srgbClr val="a2c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664320" y="2905200"/>
              <a:ext cx="4680" cy="2759040"/>
            </a:xfrm>
            <a:prstGeom prst="rect">
              <a:avLst/>
            </a:prstGeom>
            <a:solidFill>
              <a:srgbClr val="a3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669000" y="2905200"/>
              <a:ext cx="3240" cy="2759040"/>
            </a:xfrm>
            <a:prstGeom prst="rect">
              <a:avLst/>
            </a:pr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72240" y="2905200"/>
              <a:ext cx="1440" cy="2759040"/>
            </a:xfrm>
            <a:prstGeom prst="rect">
              <a:avLst/>
            </a:prstGeom>
            <a:solidFill>
              <a:srgbClr val="a6d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672240" y="2905200"/>
              <a:ext cx="4680" cy="2759040"/>
            </a:xfrm>
            <a:prstGeom prst="rect">
              <a:avLst/>
            </a:prstGeom>
            <a:solidFill>
              <a:srgbClr val="a8d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76920" y="2905200"/>
              <a:ext cx="3240" cy="2759040"/>
            </a:xfrm>
            <a:prstGeom prst="rect">
              <a:avLst/>
            </a:prstGeom>
            <a:solidFill>
              <a:srgbClr val="a9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80160" y="2905200"/>
              <a:ext cx="3240" cy="2759040"/>
            </a:xfrm>
            <a:prstGeom prst="rect">
              <a:avLst/>
            </a:prstGeom>
            <a:solidFill>
              <a:srgbClr val="abd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83400" y="2905200"/>
              <a:ext cx="1440" cy="2759040"/>
            </a:xfrm>
            <a:prstGeom prst="rect">
              <a:avLst/>
            </a:prstGeom>
            <a:solidFill>
              <a:srgbClr val="add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84840" y="2905200"/>
              <a:ext cx="1800" cy="2759040"/>
            </a:xfrm>
            <a:prstGeom prst="rect">
              <a:avLst/>
            </a:prstGeom>
            <a:solidFill>
              <a:srgbClr val="aed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6686640" y="2905200"/>
            <a:ext cx="4680" cy="2759040"/>
          </a:xfrm>
          <a:prstGeom prst="rect">
            <a:avLst/>
          </a:prstGeom>
          <a:solidFill>
            <a:srgbClr val="b0d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91320" y="2905200"/>
            <a:ext cx="1440" cy="2759040"/>
          </a:xfrm>
          <a:prstGeom prst="rect">
            <a:avLst/>
          </a:prstGeom>
          <a:solidFill>
            <a:srgbClr val="b2d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692760" y="2905200"/>
            <a:ext cx="1800" cy="2759040"/>
          </a:xfrm>
          <a:prstGeom prst="rect">
            <a:avLst/>
          </a:prstGeom>
          <a:solidFill>
            <a:srgbClr val="b3e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694560" y="2905200"/>
            <a:ext cx="1440" cy="2759040"/>
          </a:xfrm>
          <a:prstGeom prst="rect">
            <a:avLst/>
          </a:prstGeom>
          <a:solidFill>
            <a:srgbClr val="b5e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696000" y="2905200"/>
            <a:ext cx="4680" cy="2759040"/>
          </a:xfrm>
          <a:prstGeom prst="rect">
            <a:avLst/>
          </a:prstGeom>
          <a:solidFill>
            <a:srgbClr val="b6e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700680" y="2905200"/>
            <a:ext cx="1800" cy="2759040"/>
          </a:xfrm>
          <a:prstGeom prst="rect">
            <a:avLst/>
          </a:prstGeom>
          <a:solidFill>
            <a:srgbClr val="b8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702480" y="2905200"/>
            <a:ext cx="3240" cy="2759040"/>
          </a:xfrm>
          <a:prstGeom prst="rect">
            <a:avLst/>
          </a:prstGeom>
          <a:solidFill>
            <a:srgbClr val="b9e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705720" y="2905200"/>
            <a:ext cx="2880" cy="2759040"/>
          </a:xfrm>
          <a:prstGeom prst="rect">
            <a:avLst/>
          </a:prstGeom>
          <a:solidFill>
            <a:srgbClr val="bbe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708600" y="2905200"/>
            <a:ext cx="1800" cy="2759040"/>
          </a:xfrm>
          <a:prstGeom prst="rect">
            <a:avLst/>
          </a:prstGeom>
          <a:solidFill>
            <a:srgbClr val="bde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10400" y="2905200"/>
            <a:ext cx="3240" cy="2759040"/>
          </a:xfrm>
          <a:prstGeom prst="rect">
            <a:avLst/>
          </a:prstGeom>
          <a:solidFill>
            <a:srgbClr val="bee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13640" y="2905200"/>
            <a:ext cx="3240" cy="2759040"/>
          </a:xfrm>
          <a:prstGeom prst="rect">
            <a:avLst/>
          </a:prstGeom>
          <a:solidFill>
            <a:srgbClr val="c0f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716880" y="2905200"/>
            <a:ext cx="4680" cy="2759040"/>
          </a:xfrm>
          <a:prstGeom prst="rect">
            <a:avLst/>
          </a:prstGeom>
          <a:solidFill>
            <a:srgbClr val="c1f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721560" y="2905200"/>
            <a:ext cx="1440" cy="2759040"/>
          </a:xfrm>
          <a:prstGeom prst="rect">
            <a:avLst/>
          </a:prstGeom>
          <a:solidFill>
            <a:srgbClr val="c3f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721560" y="2905200"/>
            <a:ext cx="4680" cy="2759040"/>
          </a:xfrm>
          <a:prstGeom prst="rect">
            <a:avLst/>
          </a:prstGeom>
          <a:solidFill>
            <a:srgbClr val="c4f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26240" y="2905200"/>
            <a:ext cx="4680" cy="2759040"/>
          </a:xfrm>
          <a:prstGeom prst="rect">
            <a:avLst/>
          </a:prstGeom>
          <a:solidFill>
            <a:srgbClr val="c5f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730920" y="2905200"/>
            <a:ext cx="3240" cy="2759040"/>
          </a:xfrm>
          <a:prstGeom prst="rect">
            <a:avLst/>
          </a:prstGeom>
          <a:solidFill>
            <a:srgbClr val="c7f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734160" y="2905200"/>
            <a:ext cx="4680" cy="2759040"/>
          </a:xfrm>
          <a:prstGeom prst="rect">
            <a:avLst/>
          </a:prstGeom>
          <a:solidFill>
            <a:srgbClr val="c8f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738840" y="2905200"/>
            <a:ext cx="7920" cy="2759040"/>
          </a:xfrm>
          <a:prstGeom prst="rect">
            <a:avLst/>
          </a:prstGeom>
          <a:solidFill>
            <a:srgbClr val="c9f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746760" y="2905200"/>
            <a:ext cx="7920" cy="2759040"/>
          </a:xfrm>
          <a:prstGeom prst="rect">
            <a:avLst/>
          </a:prstGeom>
          <a:solidFill>
            <a:srgbClr val="cbf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754680" y="2905200"/>
            <a:ext cx="5040" cy="2759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508800" y="2905200"/>
            <a:ext cx="250920" cy="2759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7134120" y="2800440"/>
            <a:ext cx="12960" cy="286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147080" y="2800440"/>
            <a:ext cx="6120" cy="2863800"/>
          </a:xfrm>
          <a:prstGeom prst="rect">
            <a:avLst/>
          </a:prstGeom>
          <a:solidFill>
            <a:srgbClr val="cbf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153200" y="2800440"/>
            <a:ext cx="6480" cy="2863800"/>
          </a:xfrm>
          <a:prstGeom prst="rect">
            <a:avLst/>
          </a:prstGeom>
          <a:solidFill>
            <a:srgbClr val="c9f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159680" y="2800440"/>
            <a:ext cx="3240" cy="2863800"/>
          </a:xfrm>
          <a:prstGeom prst="rect">
            <a:avLst/>
          </a:prstGeom>
          <a:solidFill>
            <a:srgbClr val="c8f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162920" y="2800440"/>
            <a:ext cx="4680" cy="2863800"/>
          </a:xfrm>
          <a:prstGeom prst="rect">
            <a:avLst/>
          </a:prstGeom>
          <a:solidFill>
            <a:srgbClr val="c7f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167600" y="2800440"/>
            <a:ext cx="3240" cy="2863800"/>
          </a:xfrm>
          <a:prstGeom prst="rect">
            <a:avLst/>
          </a:prstGeom>
          <a:solidFill>
            <a:srgbClr val="c5f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170840" y="2800440"/>
            <a:ext cx="1440" cy="2863800"/>
          </a:xfrm>
          <a:prstGeom prst="rect">
            <a:avLst/>
          </a:prstGeom>
          <a:solidFill>
            <a:srgbClr val="c4f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172280" y="2800440"/>
            <a:ext cx="4680" cy="2863800"/>
          </a:xfrm>
          <a:prstGeom prst="rect">
            <a:avLst/>
          </a:prstGeom>
          <a:solidFill>
            <a:srgbClr val="c3f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176960" y="2800440"/>
            <a:ext cx="1800" cy="2863800"/>
          </a:xfrm>
          <a:prstGeom prst="rect">
            <a:avLst/>
          </a:prstGeom>
          <a:solidFill>
            <a:srgbClr val="c1f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178760" y="2800440"/>
            <a:ext cx="4680" cy="2863800"/>
          </a:xfrm>
          <a:prstGeom prst="rect">
            <a:avLst/>
          </a:prstGeom>
          <a:solidFill>
            <a:srgbClr val="c0f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183440" y="2800440"/>
            <a:ext cx="1440" cy="2863800"/>
          </a:xfrm>
          <a:prstGeom prst="rect">
            <a:avLst/>
          </a:prstGeom>
          <a:solidFill>
            <a:srgbClr val="bee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84880" y="2800440"/>
            <a:ext cx="1800" cy="2863800"/>
          </a:xfrm>
          <a:prstGeom prst="rect">
            <a:avLst/>
          </a:prstGeom>
          <a:solidFill>
            <a:srgbClr val="bde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186680" y="2800440"/>
            <a:ext cx="4680" cy="2863800"/>
          </a:xfrm>
          <a:prstGeom prst="rect">
            <a:avLst/>
          </a:prstGeom>
          <a:solidFill>
            <a:srgbClr val="bbe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191360" y="2800440"/>
            <a:ext cx="1440" cy="2863800"/>
          </a:xfrm>
          <a:prstGeom prst="rect">
            <a:avLst/>
          </a:prstGeom>
          <a:solidFill>
            <a:srgbClr val="ba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192800" y="2800440"/>
            <a:ext cx="1800" cy="2863800"/>
          </a:xfrm>
          <a:prstGeom prst="rect">
            <a:avLst/>
          </a:prstGeom>
          <a:solidFill>
            <a:srgbClr val="b8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194600" y="2800440"/>
            <a:ext cx="4680" cy="2863800"/>
          </a:xfrm>
          <a:prstGeom prst="rect">
            <a:avLst/>
          </a:prstGeom>
          <a:solidFill>
            <a:srgbClr val="b6e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199280" y="2800440"/>
            <a:ext cx="1800" cy="2863800"/>
          </a:xfrm>
          <a:prstGeom prst="rect">
            <a:avLst/>
          </a:prstGeom>
          <a:solidFill>
            <a:srgbClr val="b5e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201080" y="2800440"/>
            <a:ext cx="1440" cy="2863800"/>
          </a:xfrm>
          <a:prstGeom prst="rect">
            <a:avLst/>
          </a:prstGeom>
          <a:solidFill>
            <a:srgbClr val="b3e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02520" y="2800440"/>
            <a:ext cx="3240" cy="2863800"/>
          </a:xfrm>
          <a:prstGeom prst="rect">
            <a:avLst/>
          </a:prstGeom>
          <a:solidFill>
            <a:srgbClr val="b2d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205760" y="2800440"/>
            <a:ext cx="1440" cy="2863800"/>
          </a:xfrm>
          <a:prstGeom prst="rect">
            <a:avLst/>
          </a:prstGeom>
          <a:solidFill>
            <a:srgbClr val="b0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207200" y="2800440"/>
            <a:ext cx="1800" cy="2863800"/>
          </a:xfrm>
          <a:prstGeom prst="rect">
            <a:avLst/>
          </a:prstGeom>
          <a:solidFill>
            <a:srgbClr val="afdb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209000" y="2800440"/>
            <a:ext cx="4680" cy="2863800"/>
          </a:xfrm>
          <a:prstGeom prst="rect">
            <a:avLst/>
          </a:prstGeom>
          <a:solidFill>
            <a:srgbClr val="add9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213680" y="2800440"/>
            <a:ext cx="1440" cy="2863800"/>
          </a:xfrm>
          <a:prstGeom prst="rect">
            <a:avLst/>
          </a:prstGeom>
          <a:solidFill>
            <a:srgbClr val="acd7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215120" y="2800440"/>
            <a:ext cx="1800" cy="2863800"/>
          </a:xfrm>
          <a:prstGeom prst="rect">
            <a:avLst/>
          </a:prstGeom>
          <a:solidFill>
            <a:srgbClr val="aad5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216920" y="2800440"/>
            <a:ext cx="4680" cy="2863800"/>
          </a:xfrm>
          <a:prstGeom prst="rect">
            <a:avLst/>
          </a:prstGeom>
          <a:solidFill>
            <a:srgbClr val="a8d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221600" y="2800440"/>
            <a:ext cx="1440" cy="2863800"/>
          </a:xfrm>
          <a:prstGeom prst="rect">
            <a:avLst/>
          </a:prstGeom>
          <a:solidFill>
            <a:srgbClr val="a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223040" y="2800440"/>
            <a:ext cx="3240" cy="2863800"/>
          </a:xfrm>
          <a:prstGeom prst="rect">
            <a:avLst/>
          </a:prstGeom>
          <a:solidFill>
            <a:srgbClr val="a6c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226280" y="2800440"/>
            <a:ext cx="4680" cy="2863800"/>
          </a:xfrm>
          <a:prstGeom prst="rect">
            <a:avLst/>
          </a:prstGeom>
          <a:solidFill>
            <a:srgbClr val="a4c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230960" y="2800440"/>
            <a:ext cx="3240" cy="2863800"/>
          </a:xfrm>
          <a:prstGeom prst="rect">
            <a:avLst/>
          </a:prstGeom>
          <a:solidFill>
            <a:srgbClr val="a2cb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234200" y="2800440"/>
            <a:ext cx="4680" cy="2863800"/>
          </a:xfrm>
          <a:prstGeom prst="rect">
            <a:avLst/>
          </a:prstGeom>
          <a:solidFill>
            <a:srgbClr val="a1c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238880" y="2800440"/>
            <a:ext cx="6480" cy="2863800"/>
          </a:xfrm>
          <a:prstGeom prst="rect">
            <a:avLst/>
          </a:prstGeom>
          <a:solidFill>
            <a:srgbClr val="9fc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245360" y="2800440"/>
            <a:ext cx="3240" cy="2863800"/>
          </a:xfrm>
          <a:prstGeom prst="rect">
            <a:avLst/>
          </a:prstGeom>
          <a:solidFill>
            <a:srgbClr val="9e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248600" y="2800440"/>
            <a:ext cx="7920" cy="2863800"/>
          </a:xfrm>
          <a:prstGeom prst="rect">
            <a:avLst/>
          </a:prstGeom>
          <a:solidFill>
            <a:srgbClr val="9cc4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256520" y="2800440"/>
            <a:ext cx="12600" cy="2863800"/>
          </a:xfrm>
          <a:prstGeom prst="rect">
            <a:avLst/>
          </a:prstGeom>
          <a:solidFill>
            <a:srgbClr val="9bc2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269120" y="2800440"/>
            <a:ext cx="6480" cy="2863800"/>
          </a:xfrm>
          <a:prstGeom prst="rect">
            <a:avLst/>
          </a:prstGeom>
          <a:solidFill>
            <a:srgbClr val="9cc4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275600" y="2800440"/>
            <a:ext cx="3240" cy="2863800"/>
          </a:xfrm>
          <a:prstGeom prst="rect">
            <a:avLst/>
          </a:prstGeom>
          <a:solidFill>
            <a:srgbClr val="9e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278840" y="2800440"/>
            <a:ext cx="6120" cy="2863800"/>
          </a:xfrm>
          <a:prstGeom prst="rect">
            <a:avLst/>
          </a:prstGeom>
          <a:solidFill>
            <a:srgbClr val="9fc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284960" y="2800440"/>
            <a:ext cx="3240" cy="2863800"/>
          </a:xfrm>
          <a:prstGeom prst="rect">
            <a:avLst/>
          </a:prstGeom>
          <a:solidFill>
            <a:srgbClr val="a0c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288200" y="2800440"/>
            <a:ext cx="1440" cy="2863800"/>
          </a:xfrm>
          <a:prstGeom prst="rect">
            <a:avLst/>
          </a:prstGeom>
          <a:solidFill>
            <a:srgbClr val="a2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288200" y="2800440"/>
            <a:ext cx="4680" cy="2863800"/>
          </a:xfrm>
          <a:prstGeom prst="rect">
            <a:avLst/>
          </a:prstGeom>
          <a:solidFill>
            <a:srgbClr val="a3c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292880" y="2800440"/>
            <a:ext cx="3240" cy="2863800"/>
          </a:xfrm>
          <a:prstGeom prst="rect">
            <a:avLst/>
          </a:prstGeom>
          <a:solidFill>
            <a:srgbClr val="a5c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296120" y="2800440"/>
            <a:ext cx="3240" cy="2863800"/>
          </a:xfrm>
          <a:prstGeom prst="rect">
            <a:avLst/>
          </a:prstGeom>
          <a:solidFill>
            <a:srgbClr val="a6d0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99360" y="2800440"/>
            <a:ext cx="3240" cy="2863800"/>
          </a:xfrm>
          <a:prstGeom prst="rect">
            <a:avLst/>
          </a:prstGeom>
          <a:solidFill>
            <a:srgbClr val="a8d2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302600" y="2800440"/>
            <a:ext cx="3240" cy="2863800"/>
          </a:xfrm>
          <a:prstGeom prst="rect">
            <a:avLst/>
          </a:prstGeom>
          <a:solidFill>
            <a:srgbClr val="a9d4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305840" y="2800440"/>
            <a:ext cx="2880" cy="2863800"/>
          </a:xfrm>
          <a:prstGeom prst="rect">
            <a:avLst/>
          </a:prstGeom>
          <a:solidFill>
            <a:srgbClr val="abd6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308720" y="2800440"/>
            <a:ext cx="1800" cy="2863800"/>
          </a:xfrm>
          <a:prstGeom prst="rect">
            <a:avLst/>
          </a:prstGeom>
          <a:solidFill>
            <a:srgbClr val="add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310520" y="2800440"/>
            <a:ext cx="3240" cy="2863800"/>
          </a:xfrm>
          <a:prstGeom prst="rect">
            <a:avLst/>
          </a:prstGeom>
          <a:solidFill>
            <a:srgbClr val="aeda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313760" y="2800440"/>
            <a:ext cx="2880" cy="2863800"/>
          </a:xfrm>
          <a:prstGeom prst="rect">
            <a:avLst/>
          </a:prstGeom>
          <a:solidFill>
            <a:srgbClr val="b0d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316640" y="2800440"/>
            <a:ext cx="1800" cy="2863800"/>
          </a:xfrm>
          <a:prstGeom prst="rect">
            <a:avLst/>
          </a:prstGeom>
          <a:solidFill>
            <a:srgbClr val="b2de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318440" y="2800440"/>
            <a:ext cx="3240" cy="2863800"/>
          </a:xfrm>
          <a:prstGeom prst="rect">
            <a:avLst/>
          </a:prstGeom>
          <a:solidFill>
            <a:srgbClr val="b3e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321680" y="2800440"/>
            <a:ext cx="1440" cy="2863800"/>
          </a:xfrm>
          <a:prstGeom prst="rect">
            <a:avLst/>
          </a:prstGeom>
          <a:solidFill>
            <a:srgbClr val="b5e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323120" y="2800440"/>
            <a:ext cx="1440" cy="2863800"/>
          </a:xfrm>
          <a:prstGeom prst="rect">
            <a:avLst/>
          </a:prstGeom>
          <a:solidFill>
            <a:srgbClr val="b6e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324560" y="2800440"/>
            <a:ext cx="5040" cy="2863800"/>
          </a:xfrm>
          <a:prstGeom prst="rect">
            <a:avLst/>
          </a:prstGeom>
          <a:solidFill>
            <a:srgbClr val="b8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329600" y="2800440"/>
            <a:ext cx="1440" cy="2863800"/>
          </a:xfrm>
          <a:prstGeom prst="rect">
            <a:avLst/>
          </a:prstGeom>
          <a:solidFill>
            <a:srgbClr val="b9e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331040" y="2800440"/>
            <a:ext cx="1800" cy="2863800"/>
          </a:xfrm>
          <a:prstGeom prst="rect">
            <a:avLst/>
          </a:prstGeom>
          <a:solidFill>
            <a:srgbClr val="bbe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332840" y="2800440"/>
            <a:ext cx="4680" cy="2863800"/>
          </a:xfrm>
          <a:prstGeom prst="rect">
            <a:avLst/>
          </a:prstGeom>
          <a:solidFill>
            <a:srgbClr val="bde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337520" y="2800440"/>
            <a:ext cx="1440" cy="2863800"/>
          </a:xfrm>
          <a:prstGeom prst="rect">
            <a:avLst/>
          </a:prstGeom>
          <a:solidFill>
            <a:srgbClr val="bee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338960" y="2800440"/>
            <a:ext cx="3240" cy="2863800"/>
          </a:xfrm>
          <a:prstGeom prst="rect">
            <a:avLst/>
          </a:prstGeom>
          <a:solidFill>
            <a:srgbClr val="c0f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342200" y="2800440"/>
            <a:ext cx="3240" cy="2863800"/>
          </a:xfrm>
          <a:prstGeom prst="rect">
            <a:avLst/>
          </a:prstGeom>
          <a:solidFill>
            <a:srgbClr val="c1f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345440" y="2800440"/>
            <a:ext cx="1440" cy="2863800"/>
          </a:xfrm>
          <a:prstGeom prst="rect">
            <a:avLst/>
          </a:prstGeom>
          <a:solidFill>
            <a:srgbClr val="c3f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346880" y="2800440"/>
            <a:ext cx="4680" cy="2863800"/>
          </a:xfrm>
          <a:prstGeom prst="rect">
            <a:avLst/>
          </a:prstGeom>
          <a:solidFill>
            <a:srgbClr val="c4f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351560" y="2800440"/>
            <a:ext cx="3240" cy="2863800"/>
          </a:xfrm>
          <a:prstGeom prst="rect">
            <a:avLst/>
          </a:prstGeom>
          <a:solidFill>
            <a:srgbClr val="c5f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54800" y="2800440"/>
            <a:ext cx="4680" cy="2863800"/>
          </a:xfrm>
          <a:prstGeom prst="rect">
            <a:avLst/>
          </a:prstGeom>
          <a:solidFill>
            <a:srgbClr val="c7f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359480" y="2800440"/>
            <a:ext cx="5040" cy="2863800"/>
          </a:xfrm>
          <a:prstGeom prst="rect">
            <a:avLst/>
          </a:prstGeom>
          <a:solidFill>
            <a:srgbClr val="c8f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64520" y="2800440"/>
            <a:ext cx="7920" cy="2863800"/>
          </a:xfrm>
          <a:prstGeom prst="rect">
            <a:avLst/>
          </a:prstGeom>
          <a:solidFill>
            <a:srgbClr val="c9f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372440" y="2800440"/>
            <a:ext cx="7920" cy="2863800"/>
          </a:xfrm>
          <a:prstGeom prst="rect">
            <a:avLst/>
          </a:prstGeom>
          <a:solidFill>
            <a:srgbClr val="cbf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380360" y="2800440"/>
            <a:ext cx="4680" cy="286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134120" y="2800440"/>
            <a:ext cx="250920" cy="286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314360" y="2525760"/>
            <a:ext cx="1800" cy="31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292400" y="5664240"/>
            <a:ext cx="2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292400" y="5143680"/>
            <a:ext cx="2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292400" y="4619520"/>
            <a:ext cx="21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292400" y="4095720"/>
            <a:ext cx="2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292400" y="3571920"/>
            <a:ext cx="2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292400" y="3048120"/>
            <a:ext cx="2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292400" y="2525760"/>
            <a:ext cx="2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314360" y="5664240"/>
            <a:ext cx="6257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1314360" y="566424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1940040" y="566424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2567160" y="566424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3192480" y="566424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3817800" y="566424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4444920" y="566424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5068800" y="566424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5694480" y="566424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321600" y="566424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6946920" y="566424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7572240" y="566424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572240" y="2525760"/>
            <a:ext cx="22320" cy="3138480"/>
          </a:xfrm>
          <a:custGeom>
            <a:avLst/>
            <a:gdLst/>
            <a:ahLst/>
            <a:rect l="l" t="t" r="r" b="b"/>
            <a:pathLst>
              <a:path w="11" h="1793">
                <a:moveTo>
                  <a:pt x="0" y="0"/>
                </a:moveTo>
                <a:lnTo>
                  <a:pt x="0" y="1793"/>
                </a:lnTo>
                <a:lnTo>
                  <a:pt x="11" y="17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572240" y="51436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72240" y="461952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72240" y="40957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572240" y="3571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572240" y="3048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572240" y="25257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628640" y="2971800"/>
            <a:ext cx="5632560" cy="1085760"/>
          </a:xfrm>
          <a:custGeom>
            <a:avLst/>
            <a:gdLst/>
            <a:ahLst/>
            <a:rect l="l" t="t" r="r" b="b"/>
            <a:pathLst>
              <a:path w="2816" h="620">
                <a:moveTo>
                  <a:pt x="0" y="620"/>
                </a:moveTo>
                <a:lnTo>
                  <a:pt x="312" y="490"/>
                </a:lnTo>
                <a:lnTo>
                  <a:pt x="626" y="347"/>
                </a:lnTo>
                <a:lnTo>
                  <a:pt x="938" y="185"/>
                </a:lnTo>
                <a:lnTo>
                  <a:pt x="1251" y="0"/>
                </a:lnTo>
                <a:lnTo>
                  <a:pt x="1564" y="3"/>
                </a:lnTo>
                <a:lnTo>
                  <a:pt x="1877" y="6"/>
                </a:lnTo>
                <a:lnTo>
                  <a:pt x="2190" y="9"/>
                </a:lnTo>
                <a:lnTo>
                  <a:pt x="2503" y="13"/>
                </a:lnTo>
                <a:lnTo>
                  <a:pt x="2816" y="16"/>
                </a:lnTo>
              </a:path>
            </a:pathLst>
          </a:custGeom>
          <a:noFill/>
          <a:ln w="126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604880" y="4027320"/>
            <a:ext cx="47880" cy="59040"/>
          </a:xfrm>
          <a:prstGeom prst="rect">
            <a:avLst/>
          </a:prstGeom>
          <a:solidFill>
            <a:srgbClr val="ff9900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230560" y="3800520"/>
            <a:ext cx="47520" cy="58680"/>
          </a:xfrm>
          <a:prstGeom prst="rect">
            <a:avLst/>
          </a:prstGeom>
          <a:solidFill>
            <a:srgbClr val="ff9900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855880" y="3549600"/>
            <a:ext cx="49320" cy="58680"/>
          </a:xfrm>
          <a:prstGeom prst="rect">
            <a:avLst/>
          </a:prstGeom>
          <a:solidFill>
            <a:srgbClr val="ff9900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483000" y="3265560"/>
            <a:ext cx="47520" cy="60120"/>
          </a:xfrm>
          <a:prstGeom prst="rect">
            <a:avLst/>
          </a:prstGeom>
          <a:solidFill>
            <a:srgbClr val="ff9900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108320" y="2941560"/>
            <a:ext cx="46080" cy="60480"/>
          </a:xfrm>
          <a:prstGeom prst="rect">
            <a:avLst/>
          </a:prstGeom>
          <a:solidFill>
            <a:srgbClr val="ff9900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732200" y="2948040"/>
            <a:ext cx="47880" cy="60120"/>
          </a:xfrm>
          <a:prstGeom prst="rect">
            <a:avLst/>
          </a:prstGeom>
          <a:solidFill>
            <a:srgbClr val="ff9900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359320" y="2954160"/>
            <a:ext cx="47880" cy="59040"/>
          </a:xfrm>
          <a:prstGeom prst="rect">
            <a:avLst/>
          </a:prstGeom>
          <a:solidFill>
            <a:srgbClr val="ff9900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985000" y="2957400"/>
            <a:ext cx="47520" cy="58680"/>
          </a:xfrm>
          <a:prstGeom prst="rect">
            <a:avLst/>
          </a:prstGeom>
          <a:solidFill>
            <a:srgbClr val="ff9900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610320" y="2963880"/>
            <a:ext cx="49320" cy="60480"/>
          </a:xfrm>
          <a:prstGeom prst="rect">
            <a:avLst/>
          </a:prstGeom>
          <a:solidFill>
            <a:srgbClr val="ff9900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237440" y="2970360"/>
            <a:ext cx="47520" cy="58680"/>
          </a:xfrm>
          <a:prstGeom prst="rect">
            <a:avLst/>
          </a:prstGeom>
          <a:solidFill>
            <a:srgbClr val="ff9900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628640" y="2800440"/>
            <a:ext cx="5632560" cy="1257120"/>
          </a:xfrm>
          <a:custGeom>
            <a:avLst/>
            <a:gdLst/>
            <a:ahLst/>
            <a:rect l="l" t="t" r="r" b="b"/>
            <a:pathLst>
              <a:path w="2816" h="718">
                <a:moveTo>
                  <a:pt x="0" y="718"/>
                </a:moveTo>
                <a:lnTo>
                  <a:pt x="312" y="588"/>
                </a:lnTo>
                <a:lnTo>
                  <a:pt x="626" y="327"/>
                </a:lnTo>
                <a:lnTo>
                  <a:pt x="938" y="282"/>
                </a:lnTo>
                <a:lnTo>
                  <a:pt x="1251" y="234"/>
                </a:lnTo>
                <a:lnTo>
                  <a:pt x="1564" y="200"/>
                </a:lnTo>
                <a:lnTo>
                  <a:pt x="1877" y="152"/>
                </a:lnTo>
                <a:lnTo>
                  <a:pt x="2190" y="103"/>
                </a:lnTo>
                <a:lnTo>
                  <a:pt x="2503" y="52"/>
                </a:lnTo>
                <a:lnTo>
                  <a:pt x="2816" y="0"/>
                </a:ln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604880" y="4027320"/>
            <a:ext cx="46080" cy="59040"/>
          </a:xfrm>
          <a:custGeom>
            <a:avLst/>
            <a:gdLst/>
            <a:ahLst/>
            <a:rect l="l" t="t" r="r" b="b"/>
            <a:pathLst>
              <a:path w="29" h="37">
                <a:moveTo>
                  <a:pt x="15" y="0"/>
                </a:moveTo>
                <a:lnTo>
                  <a:pt x="29" y="19"/>
                </a:lnTo>
                <a:lnTo>
                  <a:pt x="15" y="37"/>
                </a:lnTo>
                <a:lnTo>
                  <a:pt x="0" y="19"/>
                </a:lnTo>
                <a:lnTo>
                  <a:pt x="15" y="0"/>
                </a:lnTo>
                <a:close/>
              </a:path>
            </a:pathLst>
          </a:custGeom>
          <a:solidFill>
            <a:srgbClr val="000080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230560" y="3800520"/>
            <a:ext cx="46080" cy="58680"/>
          </a:xfrm>
          <a:custGeom>
            <a:avLst/>
            <a:gdLst/>
            <a:ahLst/>
            <a:rect l="l" t="t" r="r" b="b"/>
            <a:pathLst>
              <a:path w="29" h="37">
                <a:moveTo>
                  <a:pt x="14" y="0"/>
                </a:moveTo>
                <a:lnTo>
                  <a:pt x="29" y="18"/>
                </a:lnTo>
                <a:lnTo>
                  <a:pt x="14" y="37"/>
                </a:lnTo>
                <a:lnTo>
                  <a:pt x="0" y="18"/>
                </a:lnTo>
                <a:lnTo>
                  <a:pt x="14" y="0"/>
                </a:lnTo>
                <a:close/>
              </a:path>
            </a:pathLst>
          </a:custGeom>
          <a:solidFill>
            <a:srgbClr val="000080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855880" y="3344760"/>
            <a:ext cx="46080" cy="57240"/>
          </a:xfrm>
          <a:custGeom>
            <a:avLst/>
            <a:gdLst/>
            <a:ahLst/>
            <a:rect l="l" t="t" r="r" b="b"/>
            <a:pathLst>
              <a:path w="29" h="36">
                <a:moveTo>
                  <a:pt x="15" y="0"/>
                </a:moveTo>
                <a:lnTo>
                  <a:pt x="29" y="17"/>
                </a:lnTo>
                <a:lnTo>
                  <a:pt x="15" y="36"/>
                </a:lnTo>
                <a:lnTo>
                  <a:pt x="0" y="17"/>
                </a:lnTo>
                <a:lnTo>
                  <a:pt x="15" y="0"/>
                </a:lnTo>
                <a:close/>
              </a:path>
            </a:pathLst>
          </a:custGeom>
          <a:solidFill>
            <a:srgbClr val="000080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483000" y="3263760"/>
            <a:ext cx="46080" cy="60480"/>
          </a:xfrm>
          <a:custGeom>
            <a:avLst/>
            <a:gdLst/>
            <a:ahLst/>
            <a:rect l="l" t="t" r="r" b="b"/>
            <a:pathLst>
              <a:path w="29" h="38">
                <a:moveTo>
                  <a:pt x="14" y="0"/>
                </a:moveTo>
                <a:lnTo>
                  <a:pt x="29" y="19"/>
                </a:lnTo>
                <a:lnTo>
                  <a:pt x="14" y="38"/>
                </a:lnTo>
                <a:lnTo>
                  <a:pt x="0" y="19"/>
                </a:lnTo>
                <a:lnTo>
                  <a:pt x="14" y="0"/>
                </a:lnTo>
                <a:close/>
              </a:path>
            </a:pathLst>
          </a:custGeom>
          <a:solidFill>
            <a:srgbClr val="000080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108320" y="3181320"/>
            <a:ext cx="46080" cy="58680"/>
          </a:xfrm>
          <a:custGeom>
            <a:avLst/>
            <a:gdLst/>
            <a:ahLst/>
            <a:rect l="l" t="t" r="r" b="b"/>
            <a:pathLst>
              <a:path w="29" h="37">
                <a:moveTo>
                  <a:pt x="14" y="0"/>
                </a:moveTo>
                <a:lnTo>
                  <a:pt x="29" y="18"/>
                </a:lnTo>
                <a:lnTo>
                  <a:pt x="14" y="37"/>
                </a:lnTo>
                <a:lnTo>
                  <a:pt x="0" y="18"/>
                </a:lnTo>
                <a:lnTo>
                  <a:pt x="14" y="0"/>
                </a:lnTo>
                <a:close/>
              </a:path>
            </a:pathLst>
          </a:custGeom>
          <a:solidFill>
            <a:srgbClr val="000080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732200" y="3121200"/>
            <a:ext cx="47880" cy="56880"/>
          </a:xfrm>
          <a:custGeom>
            <a:avLst/>
            <a:gdLst/>
            <a:ahLst/>
            <a:rect l="l" t="t" r="r" b="b"/>
            <a:pathLst>
              <a:path w="30" h="36">
                <a:moveTo>
                  <a:pt x="15" y="0"/>
                </a:moveTo>
                <a:lnTo>
                  <a:pt x="30" y="18"/>
                </a:lnTo>
                <a:lnTo>
                  <a:pt x="15" y="36"/>
                </a:lnTo>
                <a:lnTo>
                  <a:pt x="0" y="18"/>
                </a:lnTo>
                <a:lnTo>
                  <a:pt x="15" y="0"/>
                </a:lnTo>
                <a:close/>
              </a:path>
            </a:pathLst>
          </a:custGeom>
          <a:solidFill>
            <a:srgbClr val="000080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359320" y="3038400"/>
            <a:ext cx="46080" cy="57240"/>
          </a:xfrm>
          <a:custGeom>
            <a:avLst/>
            <a:gdLst/>
            <a:ahLst/>
            <a:rect l="l" t="t" r="r" b="b"/>
            <a:pathLst>
              <a:path w="29" h="36">
                <a:moveTo>
                  <a:pt x="15" y="0"/>
                </a:moveTo>
                <a:lnTo>
                  <a:pt x="29" y="17"/>
                </a:lnTo>
                <a:lnTo>
                  <a:pt x="15" y="36"/>
                </a:lnTo>
                <a:lnTo>
                  <a:pt x="0" y="17"/>
                </a:lnTo>
                <a:lnTo>
                  <a:pt x="15" y="0"/>
                </a:lnTo>
                <a:close/>
              </a:path>
            </a:pathLst>
          </a:custGeom>
          <a:solidFill>
            <a:srgbClr val="000080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985000" y="2951280"/>
            <a:ext cx="47520" cy="58680"/>
          </a:xfrm>
          <a:custGeom>
            <a:avLst/>
            <a:gdLst/>
            <a:ahLst/>
            <a:rect l="l" t="t" r="r" b="b"/>
            <a:pathLst>
              <a:path w="30" h="37">
                <a:moveTo>
                  <a:pt x="15" y="0"/>
                </a:moveTo>
                <a:lnTo>
                  <a:pt x="30" y="18"/>
                </a:lnTo>
                <a:lnTo>
                  <a:pt x="15" y="37"/>
                </a:lnTo>
                <a:lnTo>
                  <a:pt x="0" y="18"/>
                </a:lnTo>
                <a:lnTo>
                  <a:pt x="15" y="0"/>
                </a:lnTo>
                <a:close/>
              </a:path>
            </a:pathLst>
          </a:custGeom>
          <a:solidFill>
            <a:srgbClr val="000080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610320" y="2862360"/>
            <a:ext cx="46080" cy="58680"/>
          </a:xfrm>
          <a:custGeom>
            <a:avLst/>
            <a:gdLst/>
            <a:ahLst/>
            <a:rect l="l" t="t" r="r" b="b"/>
            <a:pathLst>
              <a:path w="29" h="37">
                <a:moveTo>
                  <a:pt x="15" y="0"/>
                </a:moveTo>
                <a:lnTo>
                  <a:pt x="29" y="18"/>
                </a:lnTo>
                <a:lnTo>
                  <a:pt x="15" y="37"/>
                </a:lnTo>
                <a:lnTo>
                  <a:pt x="0" y="18"/>
                </a:lnTo>
                <a:lnTo>
                  <a:pt x="15" y="0"/>
                </a:lnTo>
                <a:close/>
              </a:path>
            </a:pathLst>
          </a:custGeom>
          <a:solidFill>
            <a:srgbClr val="000080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237440" y="2771640"/>
            <a:ext cx="46080" cy="57240"/>
          </a:xfrm>
          <a:custGeom>
            <a:avLst/>
            <a:gdLst/>
            <a:ahLst/>
            <a:rect l="l" t="t" r="r" b="b"/>
            <a:pathLst>
              <a:path w="29" h="36">
                <a:moveTo>
                  <a:pt x="15" y="0"/>
                </a:moveTo>
                <a:lnTo>
                  <a:pt x="29" y="18"/>
                </a:lnTo>
                <a:lnTo>
                  <a:pt x="15" y="36"/>
                </a:lnTo>
                <a:lnTo>
                  <a:pt x="0" y="18"/>
                </a:lnTo>
                <a:lnTo>
                  <a:pt x="15" y="0"/>
                </a:lnTo>
                <a:close/>
              </a:path>
            </a:pathLst>
          </a:custGeom>
          <a:solidFill>
            <a:srgbClr val="000080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125720" y="560880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152360" y="50846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152360" y="45608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152360" y="4040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152360" y="35146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09880" y="299232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109880" y="246852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539360" y="575640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164680" y="575640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791800" y="575640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7480" y="575640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041360" y="575640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668480" y="575640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293800" y="575640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919120" y="575640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546240" y="575640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171920" y="575640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629480" y="561024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629480" y="50864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629480" y="45655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629480" y="40417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7629480" y="35164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629840" y="299412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629840" y="247032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954600" y="2133720"/>
            <a:ext cx="3281400" cy="3110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295880" y="2211480"/>
            <a:ext cx="6120" cy="5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302000" y="2211480"/>
            <a:ext cx="5040" cy="50760"/>
          </a:xfrm>
          <a:prstGeom prst="rect">
            <a:avLst/>
          </a:prstGeom>
          <a:solidFill>
            <a:srgbClr val="cbf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307040" y="2211480"/>
            <a:ext cx="2880" cy="50760"/>
          </a:xfrm>
          <a:prstGeom prst="rect">
            <a:avLst/>
          </a:prstGeom>
          <a:solidFill>
            <a:srgbClr val="c9f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309920" y="2211480"/>
            <a:ext cx="3240" cy="50760"/>
          </a:xfrm>
          <a:prstGeom prst="rect">
            <a:avLst/>
          </a:prstGeom>
          <a:solidFill>
            <a:srgbClr val="c8f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313160" y="2211480"/>
            <a:ext cx="1800" cy="50760"/>
          </a:xfrm>
          <a:prstGeom prst="rect">
            <a:avLst/>
          </a:prstGeom>
          <a:solidFill>
            <a:srgbClr val="c7f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314960" y="2211480"/>
            <a:ext cx="2880" cy="50760"/>
          </a:xfrm>
          <a:prstGeom prst="rect">
            <a:avLst/>
          </a:prstGeom>
          <a:solidFill>
            <a:srgbClr val="c5f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317840" y="2211480"/>
            <a:ext cx="1800" cy="50760"/>
          </a:xfrm>
          <a:prstGeom prst="rect">
            <a:avLst/>
          </a:prstGeom>
          <a:solidFill>
            <a:srgbClr val="c3f4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317840" y="2211480"/>
            <a:ext cx="5040" cy="50760"/>
          </a:xfrm>
          <a:prstGeom prst="rect">
            <a:avLst/>
          </a:prstGeom>
          <a:solidFill>
            <a:srgbClr val="c2f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322880" y="2211480"/>
            <a:ext cx="1440" cy="50760"/>
          </a:xfrm>
          <a:prstGeom prst="rect">
            <a:avLst/>
          </a:prstGeom>
          <a:solidFill>
            <a:srgbClr val="c0f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322880" y="2211480"/>
            <a:ext cx="1440" cy="50760"/>
          </a:xfrm>
          <a:prstGeom prst="rect">
            <a:avLst/>
          </a:prstGeom>
          <a:solidFill>
            <a:srgbClr val="bfee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324320" y="2211480"/>
            <a:ext cx="1440" cy="50760"/>
          </a:xfrm>
          <a:prstGeom prst="rect">
            <a:avLst/>
          </a:prstGeom>
          <a:solidFill>
            <a:srgbClr val="bde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325760" y="2211480"/>
            <a:ext cx="3240" cy="50760"/>
          </a:xfrm>
          <a:prstGeom prst="rect">
            <a:avLst/>
          </a:prstGeom>
          <a:solidFill>
            <a:srgbClr val="bbea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329000" y="2211480"/>
            <a:ext cx="1800" cy="50760"/>
          </a:xfrm>
          <a:prstGeom prst="rect">
            <a:avLst/>
          </a:prstGeom>
          <a:solidFill>
            <a:srgbClr val="b9e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330800" y="2211480"/>
            <a:ext cx="1440" cy="50760"/>
          </a:xfrm>
          <a:prstGeom prst="rect">
            <a:avLst/>
          </a:prstGeom>
          <a:solidFill>
            <a:srgbClr val="b7e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332240" y="2211480"/>
            <a:ext cx="1800" cy="50760"/>
          </a:xfrm>
          <a:prstGeom prst="rect">
            <a:avLst/>
          </a:prstGeom>
          <a:solidFill>
            <a:srgbClr val="b5e3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332240" y="2211480"/>
            <a:ext cx="1800" cy="50760"/>
          </a:xfrm>
          <a:prstGeom prst="rect">
            <a:avLst/>
          </a:prstGeom>
          <a:solidFill>
            <a:srgbClr val="b4e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334040" y="2211480"/>
            <a:ext cx="2880" cy="50760"/>
          </a:xfrm>
          <a:prstGeom prst="rect">
            <a:avLst/>
          </a:prstGeom>
          <a:solidFill>
            <a:srgbClr val="b2d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336920" y="2211480"/>
            <a:ext cx="1800" cy="50760"/>
          </a:xfrm>
          <a:prstGeom prst="rect">
            <a:avLst/>
          </a:prstGeom>
          <a:solidFill>
            <a:srgbClr val="b0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338720" y="2211480"/>
            <a:ext cx="1440" cy="50760"/>
          </a:xfrm>
          <a:prstGeom prst="rect">
            <a:avLst/>
          </a:prstGeom>
          <a:solidFill>
            <a:srgbClr val="aedb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338720" y="2211480"/>
            <a:ext cx="1440" cy="50760"/>
          </a:xfrm>
          <a:prstGeom prst="rect">
            <a:avLst/>
          </a:prstGeom>
          <a:solidFill>
            <a:srgbClr val="add9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340160" y="2211480"/>
            <a:ext cx="1800" cy="50760"/>
          </a:xfrm>
          <a:prstGeom prst="rect">
            <a:avLst/>
          </a:prstGeom>
          <a:solidFill>
            <a:srgbClr val="abd6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341960" y="2211480"/>
            <a:ext cx="2880" cy="50760"/>
          </a:xfrm>
          <a:prstGeom prst="rect">
            <a:avLst/>
          </a:prstGeom>
          <a:solidFill>
            <a:srgbClr val="a9d4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344840" y="2211480"/>
            <a:ext cx="1800" cy="50760"/>
          </a:xfrm>
          <a:prstGeom prst="rect">
            <a:avLst/>
          </a:prstGeom>
          <a:solidFill>
            <a:srgbClr val="a7d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346640" y="2211480"/>
            <a:ext cx="1440" cy="50760"/>
          </a:xfrm>
          <a:prstGeom prst="rect">
            <a:avLst/>
          </a:prstGeom>
          <a:solidFill>
            <a:srgbClr val="a6d0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346640" y="2211480"/>
            <a:ext cx="1440" cy="50760"/>
          </a:xfrm>
          <a:prstGeom prst="rect">
            <a:avLst/>
          </a:prstGeom>
          <a:solidFill>
            <a:srgbClr val="a5c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348080" y="2211480"/>
            <a:ext cx="4680" cy="50760"/>
          </a:xfrm>
          <a:prstGeom prst="rect">
            <a:avLst/>
          </a:prstGeom>
          <a:solidFill>
            <a:srgbClr val="a3c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352760" y="2211480"/>
            <a:ext cx="1800" cy="50760"/>
          </a:xfrm>
          <a:prstGeom prst="rect">
            <a:avLst/>
          </a:prstGeom>
          <a:solidFill>
            <a:srgbClr val="a1c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352760" y="2211480"/>
            <a:ext cx="3240" cy="50760"/>
          </a:xfrm>
          <a:prstGeom prst="rect">
            <a:avLst/>
          </a:prstGeom>
          <a:solidFill>
            <a:srgbClr val="a0c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356000" y="2211480"/>
            <a:ext cx="5040" cy="50760"/>
          </a:xfrm>
          <a:prstGeom prst="rect">
            <a:avLst/>
          </a:prstGeom>
          <a:solidFill>
            <a:srgbClr val="9ec6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361040" y="2211480"/>
            <a:ext cx="2880" cy="50760"/>
          </a:xfrm>
          <a:prstGeom prst="rect">
            <a:avLst/>
          </a:prstGeom>
          <a:solidFill>
            <a:srgbClr val="9dc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363920" y="2211480"/>
            <a:ext cx="7920" cy="50760"/>
          </a:xfrm>
          <a:prstGeom prst="rect">
            <a:avLst/>
          </a:prstGeom>
          <a:solidFill>
            <a:srgbClr val="9bc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371840" y="2211480"/>
            <a:ext cx="5040" cy="50760"/>
          </a:xfrm>
          <a:prstGeom prst="rect">
            <a:avLst/>
          </a:prstGeom>
          <a:solidFill>
            <a:srgbClr val="9dc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376880" y="2211480"/>
            <a:ext cx="2880" cy="50760"/>
          </a:xfrm>
          <a:prstGeom prst="rect">
            <a:avLst/>
          </a:prstGeom>
          <a:solidFill>
            <a:srgbClr val="9ec6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379760" y="2211480"/>
            <a:ext cx="3240" cy="50760"/>
          </a:xfrm>
          <a:prstGeom prst="rect">
            <a:avLst/>
          </a:prstGeom>
          <a:solidFill>
            <a:srgbClr val="a0c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383000" y="2211480"/>
            <a:ext cx="1800" cy="50760"/>
          </a:xfrm>
          <a:prstGeom prst="rect">
            <a:avLst/>
          </a:prstGeom>
          <a:solidFill>
            <a:srgbClr val="a1c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384800" y="2211480"/>
            <a:ext cx="1440" cy="50760"/>
          </a:xfrm>
          <a:prstGeom prst="rect">
            <a:avLst/>
          </a:prstGeom>
          <a:solidFill>
            <a:srgbClr val="a3c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386240" y="2211480"/>
            <a:ext cx="1440" cy="50760"/>
          </a:xfrm>
          <a:prstGeom prst="rect">
            <a:avLst/>
          </a:prstGeom>
          <a:solidFill>
            <a:srgbClr val="a5c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387680" y="2211480"/>
            <a:ext cx="1800" cy="50760"/>
          </a:xfrm>
          <a:prstGeom prst="rect">
            <a:avLst/>
          </a:prstGeom>
          <a:solidFill>
            <a:srgbClr val="a6d0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387680" y="2211480"/>
            <a:ext cx="3240" cy="50760"/>
          </a:xfrm>
          <a:prstGeom prst="rect">
            <a:avLst/>
          </a:prstGeom>
          <a:solidFill>
            <a:srgbClr val="a7d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390920" y="2211480"/>
            <a:ext cx="1800" cy="50760"/>
          </a:xfrm>
          <a:prstGeom prst="rect">
            <a:avLst/>
          </a:prstGeom>
          <a:solidFill>
            <a:srgbClr val="a9d4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392720" y="2211480"/>
            <a:ext cx="1440" cy="50760"/>
          </a:xfrm>
          <a:prstGeom prst="rect">
            <a:avLst/>
          </a:prstGeom>
          <a:solidFill>
            <a:srgbClr val="abd6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394160" y="2211480"/>
            <a:ext cx="1800" cy="50760"/>
          </a:xfrm>
          <a:prstGeom prst="rect">
            <a:avLst/>
          </a:prstGeom>
          <a:solidFill>
            <a:srgbClr val="acd8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395960" y="2211480"/>
            <a:ext cx="1440" cy="50760"/>
          </a:xfrm>
          <a:prstGeom prst="rect">
            <a:avLst/>
          </a:prstGeom>
          <a:solidFill>
            <a:srgbClr val="aeda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395960" y="2211480"/>
            <a:ext cx="2880" cy="50760"/>
          </a:xfrm>
          <a:prstGeom prst="rect">
            <a:avLst/>
          </a:prstGeom>
          <a:solidFill>
            <a:srgbClr val="afdc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398840" y="2211480"/>
            <a:ext cx="1800" cy="50760"/>
          </a:xfrm>
          <a:prstGeom prst="rect">
            <a:avLst/>
          </a:prstGeom>
          <a:solidFill>
            <a:srgbClr val="b1de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400640" y="2211480"/>
            <a:ext cx="1440" cy="50760"/>
          </a:xfrm>
          <a:prstGeom prst="rect">
            <a:avLst/>
          </a:prstGeom>
          <a:solidFill>
            <a:srgbClr val="b3e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400640" y="2211480"/>
            <a:ext cx="1440" cy="50760"/>
          </a:xfrm>
          <a:prstGeom prst="rect">
            <a:avLst/>
          </a:prstGeom>
          <a:solidFill>
            <a:srgbClr val="b4e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402080" y="2211480"/>
            <a:ext cx="3240" cy="50760"/>
          </a:xfrm>
          <a:prstGeom prst="rect">
            <a:avLst/>
          </a:prstGeom>
          <a:solidFill>
            <a:srgbClr val="b6e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405320" y="2211480"/>
            <a:ext cx="1440" cy="50760"/>
          </a:xfrm>
          <a:prstGeom prst="rect">
            <a:avLst/>
          </a:prstGeom>
          <a:solidFill>
            <a:srgbClr val="b8e7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406760" y="2211480"/>
            <a:ext cx="1800" cy="50760"/>
          </a:xfrm>
          <a:prstGeom prst="rect">
            <a:avLst/>
          </a:prstGeom>
          <a:solidFill>
            <a:srgbClr val="bae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408560" y="2211480"/>
            <a:ext cx="1440" cy="50760"/>
          </a:xfrm>
          <a:prstGeom prst="rect">
            <a:avLst/>
          </a:prstGeom>
          <a:solidFill>
            <a:srgbClr val="bce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408560" y="2211480"/>
            <a:ext cx="1440" cy="50760"/>
          </a:xfrm>
          <a:prstGeom prst="rect">
            <a:avLst/>
          </a:prstGeom>
          <a:solidFill>
            <a:srgbClr val="beed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410000" y="2211480"/>
            <a:ext cx="3240" cy="50760"/>
          </a:xfrm>
          <a:prstGeom prst="rect">
            <a:avLst/>
          </a:prstGeom>
          <a:solidFill>
            <a:srgbClr val="bfe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413240" y="2211480"/>
            <a:ext cx="1440" cy="50760"/>
          </a:xfrm>
          <a:prstGeom prst="rect">
            <a:avLst/>
          </a:prstGeom>
          <a:solidFill>
            <a:srgbClr val="c1f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414680" y="2211480"/>
            <a:ext cx="1800" cy="50760"/>
          </a:xfrm>
          <a:prstGeom prst="rect">
            <a:avLst/>
          </a:prstGeom>
          <a:solidFill>
            <a:srgbClr val="c3f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416480" y="2211480"/>
            <a:ext cx="1440" cy="50760"/>
          </a:xfrm>
          <a:prstGeom prst="rect">
            <a:avLst/>
          </a:prstGeom>
          <a:solidFill>
            <a:srgbClr val="c4f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417920" y="2211480"/>
            <a:ext cx="3240" cy="50760"/>
          </a:xfrm>
          <a:prstGeom prst="rect">
            <a:avLst/>
          </a:prstGeom>
          <a:solidFill>
            <a:srgbClr val="c6f7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421160" y="2211480"/>
            <a:ext cx="3240" cy="50760"/>
          </a:xfrm>
          <a:prstGeom prst="rect">
            <a:avLst/>
          </a:prstGeom>
          <a:solidFill>
            <a:srgbClr val="c7f9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424400" y="2211480"/>
            <a:ext cx="4680" cy="50760"/>
          </a:xfrm>
          <a:prstGeom prst="rect">
            <a:avLst/>
          </a:prstGeom>
          <a:solidFill>
            <a:srgbClr val="c8f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429080" y="2211480"/>
            <a:ext cx="4680" cy="50760"/>
          </a:xfrm>
          <a:prstGeom prst="rect">
            <a:avLst/>
          </a:prstGeom>
          <a:solidFill>
            <a:srgbClr val="caf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433760" y="2211480"/>
            <a:ext cx="3240" cy="5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295880" y="2211480"/>
            <a:ext cx="142920" cy="52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481640" y="2174760"/>
            <a:ext cx="2013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0000"/>
                </a:solidFill>
                <a:latin typeface="Arial"/>
              </a:rPr>
              <a:t>Незгладжена середня ціна – ном. (грн./МВт-ч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295880" y="2308320"/>
            <a:ext cx="142920" cy="144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348080" y="2282760"/>
            <a:ext cx="39600" cy="50760"/>
          </a:xfrm>
          <a:prstGeom prst="rect">
            <a:avLst/>
          </a:prstGeom>
          <a:solidFill>
            <a:srgbClr val="ff9900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295880" y="2384280"/>
            <a:ext cx="142920" cy="180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348080" y="2359080"/>
            <a:ext cx="39600" cy="50760"/>
          </a:xfrm>
          <a:custGeom>
            <a:avLst/>
            <a:gdLst/>
            <a:ahLst/>
            <a:rect l="l" t="t" r="r" b="b"/>
            <a:pathLst>
              <a:path w="25" h="32">
                <a:moveTo>
                  <a:pt x="13" y="0"/>
                </a:moveTo>
                <a:lnTo>
                  <a:pt x="25" y="16"/>
                </a:lnTo>
                <a:lnTo>
                  <a:pt x="13" y="32"/>
                </a:lnTo>
                <a:lnTo>
                  <a:pt x="0" y="16"/>
                </a:lnTo>
                <a:lnTo>
                  <a:pt x="13" y="0"/>
                </a:lnTo>
                <a:close/>
              </a:path>
            </a:pathLst>
          </a:custGeom>
          <a:solidFill>
            <a:srgbClr val="000080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714840" y="1814400"/>
            <a:ext cx="946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714840" y="2001960"/>
            <a:ext cx="9460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714840" y="1820880"/>
            <a:ext cx="612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653000" y="1820880"/>
            <a:ext cx="792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545000" y="188928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545000" y="1889280"/>
            <a:ext cx="730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546440" y="188928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546440" y="1889280"/>
            <a:ext cx="71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546440" y="189072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546440" y="1890720"/>
            <a:ext cx="71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546440" y="189072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546440" y="1890720"/>
            <a:ext cx="698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548240" y="189216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548240" y="1892160"/>
            <a:ext cx="680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548240" y="18939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548240" y="1893960"/>
            <a:ext cx="666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51480" y="189396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551480" y="1893960"/>
            <a:ext cx="63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551480" y="189720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551480" y="1897200"/>
            <a:ext cx="6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551480" y="18972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551480" y="1897200"/>
            <a:ext cx="61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552920" y="189864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552920" y="1898640"/>
            <a:ext cx="60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552920" y="189864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552920" y="1898640"/>
            <a:ext cx="57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554360" y="190008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554360" y="1900080"/>
            <a:ext cx="558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554360" y="19018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54360" y="1901880"/>
            <a:ext cx="5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554360" y="1901880"/>
            <a:ext cx="54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556160" y="190332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556160" y="1903320"/>
            <a:ext cx="52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556160" y="19033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556160" y="1903320"/>
            <a:ext cx="50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559400" y="190512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559400" y="1905120"/>
            <a:ext cx="47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559400" y="190512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559400" y="1905120"/>
            <a:ext cx="475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559400" y="19065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559400" y="1906560"/>
            <a:ext cx="46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560840" y="190800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560840" y="1908000"/>
            <a:ext cx="4464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560840" y="190800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560840" y="1908000"/>
            <a:ext cx="414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562640" y="1909800"/>
            <a:ext cx="3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562640" y="1909800"/>
            <a:ext cx="396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562640" y="1909800"/>
            <a:ext cx="396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562640" y="1913040"/>
            <a:ext cx="37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562640" y="1913040"/>
            <a:ext cx="378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564080" y="191304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564080" y="1913040"/>
            <a:ext cx="36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564080" y="191448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564080" y="1914480"/>
            <a:ext cx="34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567320" y="191628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567320" y="1916280"/>
            <a:ext cx="31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567320" y="191628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567320" y="1916280"/>
            <a:ext cx="31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567320" y="19177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567320" y="1917720"/>
            <a:ext cx="28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568760" y="191772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568760" y="1917720"/>
            <a:ext cx="27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68760" y="1919160"/>
            <a:ext cx="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568760" y="1919160"/>
            <a:ext cx="25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570560" y="192096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570560" y="1920960"/>
            <a:ext cx="23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70560" y="192096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570560" y="1920960"/>
            <a:ext cx="237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570560" y="1922400"/>
            <a:ext cx="21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570560" y="1922400"/>
            <a:ext cx="21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72000" y="1922400"/>
            <a:ext cx="20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572000" y="1922400"/>
            <a:ext cx="205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0" y="19242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572000" y="1924200"/>
            <a:ext cx="190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575240" y="192420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75240" y="1924200"/>
            <a:ext cx="158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575240" y="192564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575240" y="1925640"/>
            <a:ext cx="158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75240" y="192708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575240" y="1927080"/>
            <a:ext cx="126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576680" y="1927080"/>
            <a:ext cx="11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576680" y="19270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576680" y="193032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576680" y="1930320"/>
            <a:ext cx="9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578480" y="1930320"/>
            <a:ext cx="7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578480" y="1930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578480" y="193212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578480" y="19321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578480" y="19321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578480" y="1932120"/>
            <a:ext cx="61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579920" y="193356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579920" y="193356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579920" y="1935000"/>
            <a:ext cx="3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579920" y="1935000"/>
            <a:ext cx="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583160" y="193500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583160" y="1935000"/>
            <a:ext cx="144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259680" y="1789200"/>
            <a:ext cx="10015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259680" y="1982880"/>
            <a:ext cx="1001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259680" y="1798560"/>
            <a:ext cx="468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254720" y="1798560"/>
            <a:ext cx="648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102440" y="1790640"/>
            <a:ext cx="1573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142040" y="1866960"/>
            <a:ext cx="79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142040" y="1866960"/>
            <a:ext cx="79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142040" y="1866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142040" y="1866960"/>
            <a:ext cx="763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142040" y="18684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142040" y="1868400"/>
            <a:ext cx="763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7145280" y="187020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45280" y="1870200"/>
            <a:ext cx="71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145280" y="187020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7145280" y="1870200"/>
            <a:ext cx="71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147080" y="187164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147080" y="1871640"/>
            <a:ext cx="69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147080" y="187164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147080" y="1871640"/>
            <a:ext cx="680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7147080" y="187308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147080" y="1873080"/>
            <a:ext cx="680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7148520" y="18748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7148520" y="1874880"/>
            <a:ext cx="65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148520" y="18748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7148520" y="1874880"/>
            <a:ext cx="65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151760" y="187632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7151760" y="1876320"/>
            <a:ext cx="61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151760" y="18763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151760" y="1876320"/>
            <a:ext cx="586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151760" y="187956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7151760" y="1879560"/>
            <a:ext cx="5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153200" y="187956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7153200" y="1879560"/>
            <a:ext cx="558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7153200" y="18813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7153200" y="1881360"/>
            <a:ext cx="558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155000" y="1882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7155000" y="1882800"/>
            <a:ext cx="54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7155000" y="18828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7155000" y="1882800"/>
            <a:ext cx="522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7155000" y="18842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7155000" y="1884240"/>
            <a:ext cx="52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7156440" y="188424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7156440" y="1884240"/>
            <a:ext cx="493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7156440" y="188604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156440" y="1886040"/>
            <a:ext cx="493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7159680" y="18860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7159680" y="1886040"/>
            <a:ext cx="460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159680" y="18874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7159680" y="1887480"/>
            <a:ext cx="428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7159680" y="18892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7159680" y="1889280"/>
            <a:ext cx="42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161120" y="188928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7161120" y="1889280"/>
            <a:ext cx="399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7161120" y="189072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7161120" y="1890720"/>
            <a:ext cx="39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7162920" y="18907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7162920" y="1890720"/>
            <a:ext cx="36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162920" y="18921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162920" y="1892160"/>
            <a:ext cx="36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162920" y="189396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162920" y="1893960"/>
            <a:ext cx="36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7164360" y="189396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7164360" y="1893960"/>
            <a:ext cx="316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164360" y="189720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164360" y="1897200"/>
            <a:ext cx="31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167600" y="189720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7167600" y="1897200"/>
            <a:ext cx="27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7167600" y="18986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167600" y="1898640"/>
            <a:ext cx="27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167600" y="18986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167600" y="1898640"/>
            <a:ext cx="27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169040" y="19000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169040" y="1900080"/>
            <a:ext cx="237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169040" y="19018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9040" y="1901880"/>
            <a:ext cx="23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170840" y="1901880"/>
            <a:ext cx="20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7170840" y="1901880"/>
            <a:ext cx="20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170840" y="1903320"/>
            <a:ext cx="20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170840" y="1903320"/>
            <a:ext cx="20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7170840" y="1903320"/>
            <a:ext cx="20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170840" y="1903320"/>
            <a:ext cx="205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172280" y="19051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172280" y="1905120"/>
            <a:ext cx="15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172280" y="19051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172280" y="1905120"/>
            <a:ext cx="158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175520" y="190656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175520" y="190656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175520" y="1908000"/>
            <a:ext cx="11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175520" y="1908000"/>
            <a:ext cx="1116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7175520" y="1908000"/>
            <a:ext cx="11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175520" y="190800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176960" y="190980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176960" y="190980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176960" y="190980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176960" y="19098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178760" y="19130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178760" y="191304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178760" y="19130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178760" y="191304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178760" y="19144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178760" y="191448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7180200" y="191628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180200" y="1916280"/>
            <a:ext cx="1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478400" y="2266920"/>
            <a:ext cx="215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0000"/>
                </a:solidFill>
                <a:latin typeface="Arial"/>
              </a:rPr>
              <a:t>Згладжена середня ціна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– ном. (грн./МВт-ч) Вар.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477320" y="2347920"/>
            <a:ext cx="2175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000000"/>
                </a:solidFill>
                <a:latin typeface="Arial"/>
              </a:rPr>
              <a:t>Згладжена середня ціна – ном. (грн./МВт-ч) Вар.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635280" y="1773360"/>
            <a:ext cx="38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635280" y="1773360"/>
            <a:ext cx="381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F6F-EC61-4616-927A-FD3F695EF9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4"/>
          <p:cNvSpPr/>
          <p:nvPr/>
        </p:nvSpPr>
        <p:spPr>
          <a:xfrm>
            <a:off x="179280" y="333360"/>
            <a:ext cx="87138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Тариф на передачу магістральними мереж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Новий регуляторний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реж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5"/>
          <p:cNvSpPr/>
          <p:nvPr/>
        </p:nvSpPr>
        <p:spPr>
          <a:xfrm>
            <a:off x="250920" y="1700280"/>
            <a:ext cx="8636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ідокремлене регулювання тарифів на  оперативно-технологічне управління  системою і на підтримку інфраструктури магістральних мере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кремі тарифи за використання мережі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та диспетчеризаці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кремі тариф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 приєднання до магістральної мереж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агаторічне регулювання інфраструктури магістральних мереж («стеля» доход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Щорічне регулювання витрат на оперативно-технологічне управління системою (внутрішніх і зовнішніх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опустимий дохід планується на базі модульного підх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E77-FBED-44B8-9B42-3B50F33549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Тариф на передачу магістральними мережами</a:t>
            </a:r>
            <a:br>
              <a:rPr sz="3200"/>
            </a:b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Регуляторна 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420840" y="1773360"/>
            <a:ext cx="8723160" cy="4613760"/>
            <a:chOff x="420840" y="1773360"/>
            <a:chExt cx="8723160" cy="4613760"/>
          </a:xfrm>
        </p:grpSpPr>
        <mc:AlternateContent>
          <mc:Choice xmlns:a14="http://schemas.microsoft.com/office/drawing/2010/main" Requires="a14">
            <p:sp>
              <p:nvSpPr>
                <p:cNvPr id="1217" name="Object 4"/>
                <p:cNvSpPr txBox="1"/>
                <p:nvPr/>
              </p:nvSpPr>
              <p:spPr>
                <a:xfrm>
                  <a:off x="420840" y="2832120"/>
                  <a:ext cx="8388000" cy="182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OR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I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TER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OR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S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N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Oin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18" name="Text Box 7"/>
            <p:cNvSpPr/>
            <p:nvPr/>
          </p:nvSpPr>
          <p:spPr>
            <a:xfrm>
              <a:off x="799920" y="2116080"/>
              <a:ext cx="1549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ередач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Text Box 8"/>
            <p:cNvSpPr/>
            <p:nvPr/>
          </p:nvSpPr>
          <p:spPr>
            <a:xfrm>
              <a:off x="1841400" y="1773360"/>
              <a:ext cx="15620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Експлуатаці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систем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9"/>
            <p:cNvSpPr/>
            <p:nvPr/>
          </p:nvSpPr>
          <p:spPr>
            <a:xfrm>
              <a:off x="1384200" y="247176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Line 10"/>
            <p:cNvSpPr/>
            <p:nvPr/>
          </p:nvSpPr>
          <p:spPr>
            <a:xfrm>
              <a:off x="2476440" y="242100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 Box 11"/>
            <p:cNvSpPr/>
            <p:nvPr/>
          </p:nvSpPr>
          <p:spPr>
            <a:xfrm>
              <a:off x="4699080" y="2789280"/>
              <a:ext cx="228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Дохід від транзиту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 Box 12"/>
            <p:cNvSpPr/>
            <p:nvPr/>
          </p:nvSpPr>
          <p:spPr>
            <a:xfrm>
              <a:off x="6512040" y="2182680"/>
              <a:ext cx="2286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Дохід від розподілу пропускної спроможності міждержавних ліній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Text Box 13"/>
            <p:cNvSpPr/>
            <p:nvPr/>
          </p:nvSpPr>
          <p:spPr>
            <a:xfrm>
              <a:off x="7353360" y="4287960"/>
              <a:ext cx="17906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Коригуючий коефіцієн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14"/>
            <p:cNvSpPr/>
            <p:nvPr/>
          </p:nvSpPr>
          <p:spPr>
            <a:xfrm>
              <a:off x="5562720" y="310680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15"/>
            <p:cNvSpPr/>
            <p:nvPr/>
          </p:nvSpPr>
          <p:spPr>
            <a:xfrm>
              <a:off x="6921360" y="327168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16"/>
            <p:cNvSpPr/>
            <p:nvPr/>
          </p:nvSpPr>
          <p:spPr>
            <a:xfrm flipV="1">
              <a:off x="8343720" y="398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Text Box 17"/>
            <p:cNvSpPr/>
            <p:nvPr/>
          </p:nvSpPr>
          <p:spPr>
            <a:xfrm>
              <a:off x="1003320" y="4948200"/>
              <a:ext cx="22604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Витрати на допоміжні послуг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 Box 18"/>
            <p:cNvSpPr/>
            <p:nvPr/>
          </p:nvSpPr>
          <p:spPr>
            <a:xfrm>
              <a:off x="2286000" y="5380200"/>
              <a:ext cx="17906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Витрати на управління обмеженнями в мережі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Text Box 19"/>
            <p:cNvSpPr/>
            <p:nvPr/>
          </p:nvSpPr>
          <p:spPr>
            <a:xfrm>
              <a:off x="4114800" y="5722920"/>
              <a:ext cx="28065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Внутрішні витрати на експлуатацію систем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20"/>
            <p:cNvSpPr/>
            <p:nvPr/>
          </p:nvSpPr>
          <p:spPr>
            <a:xfrm flipV="1">
              <a:off x="2082960" y="4630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ine 21"/>
            <p:cNvSpPr/>
            <p:nvPr/>
          </p:nvSpPr>
          <p:spPr>
            <a:xfrm flipV="1">
              <a:off x="3314520" y="4541400"/>
              <a:ext cx="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22"/>
            <p:cNvSpPr/>
            <p:nvPr/>
          </p:nvSpPr>
          <p:spPr>
            <a:xfrm flipH="1" flipV="1">
              <a:off x="4482720" y="4516560"/>
              <a:ext cx="255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Text Box 23"/>
            <p:cNvSpPr/>
            <p:nvPr/>
          </p:nvSpPr>
          <p:spPr>
            <a:xfrm>
              <a:off x="2984400" y="2548080"/>
              <a:ext cx="167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Інфляці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24"/>
            <p:cNvSpPr/>
            <p:nvPr/>
          </p:nvSpPr>
          <p:spPr>
            <a:xfrm>
              <a:off x="3340080" y="294156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Text Box 25"/>
            <p:cNvSpPr/>
            <p:nvPr/>
          </p:nvSpPr>
          <p:spPr>
            <a:xfrm>
              <a:off x="3771720" y="1887480"/>
              <a:ext cx="23497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Ріст ефективності і графік доходу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26"/>
            <p:cNvSpPr/>
            <p:nvPr/>
          </p:nvSpPr>
          <p:spPr>
            <a:xfrm>
              <a:off x="4648320" y="24336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96A-7D58-4869-A05C-58F16F6514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4"/>
          <p:cNvSpPr/>
          <p:nvPr/>
        </p:nvSpPr>
        <p:spPr>
          <a:xfrm>
            <a:off x="395280" y="404640"/>
            <a:ext cx="8218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Тариф на передачу магістральними мережами</a:t>
            </a:r>
            <a:br>
              <a:rPr sz="3200"/>
            </a:b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Регуляторна 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5"/>
          <p:cNvSpPr/>
          <p:nvPr/>
        </p:nvSpPr>
        <p:spPr>
          <a:xfrm>
            <a:off x="250920" y="1832040"/>
            <a:ext cx="873756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гулювання за нормою прибутку з використанням в якості бази нарахування прибутку податкової вартості актив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хідний період (2 чи 3 роки) необхідний з наступних прич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безпечити поступовий перехі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ти час заінтересованим сторонам д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чних заходів, зокрем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цінка активі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обка рекомендацій з регуляторного облі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становлення Регуляторної Бази Активів (РБ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дійснення аналізу ефектив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несення необхідних змін до законодав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копичення знань і досві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почати підготовку до встановлення окремих тарифів для магістральної передачі і для оперативно-технологічного управління систем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EAC-B72A-4BBC-B150-22FD366BD8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Ефективне регулювання – ключовий фактор створення прозорого, конкурентного та недискримінаційного ринку електроенерг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ля забезпечення ефективності системи регулювання необхідно створити нормативно-правову базу, я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чітко визначає функції, сфери компетенції та статус органу регулювання та регульованих компані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безпечує надання органу регулювання  необхідних повноваж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сновні ролі органу регулювання на ринку електроенергії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робка і (або) затвердження правил р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гляд за роботою ринку і оператора р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гулювання природних монопол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провадження ринку двосторонніх контрактів та стимулюючого регулювання для суб'єктів природних монополій суттєво скорочує потребу в регулюванн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днак на етапі переходу від діючої до перспективної моделі ринку роль регулятора зростає – крім звичайних функцій він виконує ряд особливих завдань з регулювання та моніторингу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DD7-24E9-481D-9184-5458B6D41E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егулювання та моніторинг в процесі переходу до ринку двосторонніх контрактів (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значення етапів переходу, детальне опрацювання критеріїв (умов) переходу та конкретних їх термінів в залежності від обставин, що змінюю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поділ генеруючої потужності між двома ринками для кожногоз перехідних етап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ідстеження розподілу вартості виробництва між двома ринками; впровадження регуляторних процедур визначення такої вартості для забезпечення справедливого розподілу вартості між споживачами двох ринк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ведення аукціонів на квоти або нагляд за ними, якщо такі аукціони знадобляться (особливо на Етапах 1 і 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значення типу регулювання, яке може знадобиться для двосторонніх угод, що будуть укладатись АЕС: а) чи буде дозволятись атомним станціям вільно встановлювати ціни, або вони підлягатимуть певному перехідному регулюванню (це також залежить від вимог Антимонопольного комітету);  б) чи буде їм дозволено залишати у себе всі додаткові доходи, отримані на ринку двосторонніх договорів, або необхідно буде запровадити певний механізм розподілу частини цих доходів серед всіх учасників ри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2D3-44E0-42B1-9EC9-D300ED038F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робка положень стандартного двостороннього договору для використання на аукціоні, а також рекомендованих (але не обов’язкових) для використання в нерегульованих догово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значення критеріїв для отримання доступу на новий ринок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кожному з перехідних етапів, і нагляд за виконанням цих критерії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рішення питань щодо зняття поточних регуляторних обмежень, наприклад, обмеження для постачальників за регульованим тарифом (обленерго) стосовно постачання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нерегульованим тарифом на своїй територі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робка правил проведення операцій на Біржі електроенергії (Етап 3)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ніторинг цін, що складаються на балансуючому ринку, та,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 разі необхідності, регулювання цін заявок та пропозицій, які подаються  на балансуючий ринок (починаючи з етапу 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гляд за поводженням з системними обмеженнями на балансуючому ринку та за розподілом витрат на управління цими обмеженнями (починаючи з Етапу 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егулювання та моніторинг в процесі переходу до ринку двосторонніх контрактів (І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B2C-ED99-486D-B01A-0C6F39FB44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Моніторинг ринку електроенерг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тійний збір інформації та аналіз даних з метою виявлення проблемних питань (включаючи вади  побудови ринку та випадки неналежної поведінки учасників ринку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слідування  проблемних питань, виявлених під час моніторингу або у відповідь на скар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живання коригуючих заходів (якщо це доцільно),  ініціювання або надання рекомендацій щодо змін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правилах тощ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гулярна звітність щодо результатів аналізу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 розслідув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ір та публікація іншої значимої ринкової інформ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095-454C-41FD-822D-29A6A2AC97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1080"/>
                <a:tab algn="l" pos="266760"/>
                <a:tab algn="l" pos="628560"/>
                <a:tab algn="l" pos="13478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ведінкові заход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1080"/>
                <a:tab algn="l" pos="266760"/>
                <a:tab algn="l" pos="628560"/>
                <a:tab algn="l" pos="13478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досконалення побудови ринку та управління рин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266760"/>
                <a:tab algn="l" pos="628560"/>
                <a:tab algn="l" pos="13478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ніторинг і аналіз функціонування р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266760"/>
                <a:tab algn="l" pos="628560"/>
                <a:tab algn="l" pos="13478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іціювання, внесення і (або) затвердження змін до правил та організаційних змін в інтересах р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1080"/>
                <a:tab algn="l" pos="266760"/>
                <a:tab algn="l" pos="628560"/>
                <a:tab algn="l" pos="13478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илення прозор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266760"/>
                <a:tab algn="l" pos="628560"/>
                <a:tab algn="l" pos="13478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сунення переваг великих/домінуючих учасників ринку шляхом забезпечення рівного доступу до інформ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1080"/>
                <a:tab algn="l" pos="266760"/>
                <a:tab algn="l" pos="628560"/>
                <a:tab algn="l" pos="13478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ніторинг рин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266760"/>
                <a:tab algn="l" pos="628560"/>
                <a:tab algn="l" pos="13478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ількісний, якісний і неформальний монітор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1080"/>
                <a:tab algn="l" pos="266760"/>
                <a:tab algn="l" pos="628560"/>
                <a:tab algn="l" pos="13478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інові границі і інші явні обме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266760"/>
                <a:tab algn="l" pos="628560"/>
                <a:tab algn="l" pos="13478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вне обмеження гнучкості всіх або деяких учасників р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266760"/>
                <a:tab algn="l" pos="628560"/>
                <a:tab algn="l" pos="13478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тенційний ризик створення “регульованого ринку”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а інших негативних наслід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1080"/>
                <a:tab algn="l" pos="266760"/>
                <a:tab algn="l" pos="628560"/>
                <a:tab algn="l" pos="13478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руктурні заход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6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266760"/>
                <a:tab algn="l" pos="628560"/>
                <a:tab algn="l" pos="13478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ходи,спрямовані на скорочення ринкової концент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Заходи для підтримки конкуренції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B83-C170-437D-98BB-A2555E3E02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260280"/>
            <a:ext cx="83977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егулювання тарифів на розподіл електроенергії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77336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ова схема заснована на більш тривалих (5 років) регуляторних періо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мпанії надають на розгляд і схвалення НКРЕ багаторічні прогнози операційних та капітальних витрат на весь регуляторний пер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КРЕ встановлює відповідні стимули для підвищення ефектив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гляд цін / витрат та встановлення розміру доходу здійснюється в кінці кожного регуляторного пері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7AB-F31E-449D-9EFE-C626F2DECD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1413000"/>
            <a:ext cx="78422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біноване обмеження дох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стосовується для регулювання діяльності з розподілу електроенергії (послуги з приєднання та інші нерегульовані послуги виключені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ривалість регуляторного періоду: перший період - 3 роки, наступні періоди – 5 років / перехідний період – 2 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дульний підхі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мірні вимоги до підвищення ефе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едньозважена вартість капіталу (WAC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інійний метод нарахування амортиз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декс роздрібних цін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900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егулювання тарифів на розподіл електроенергії </a:t>
            </a:r>
            <a:br>
              <a:rPr sz="3200"/>
            </a:b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Елементи цінового регул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C37-B7F6-4974-8184-09BAFE7E70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96360"/>
            <a:ext cx="83628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8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Регулювання тарифів на розподіл електроенергії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Регуляторна 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506800" y="35942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85120" y="1635120"/>
            <a:ext cx="12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4360" y="1635120"/>
            <a:ext cx="12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64520" y="1635120"/>
            <a:ext cx="12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12320" y="1635120"/>
            <a:ext cx="12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12120" y="1635120"/>
            <a:ext cx="12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01480" y="1635120"/>
            <a:ext cx="12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34000" y="18813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8280" y="18813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66960" y="18813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17960" y="18813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03560" y="18813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30240" y="18813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4800" y="18813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58640" y="18813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5800" y="1751040"/>
            <a:ext cx="27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81600" y="175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89120" y="1751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48400" y="1751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44800" y="175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2880" y="1751040"/>
            <a:ext cx="38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2560" y="175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7040" y="1751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1751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81840" y="17272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97640" y="17272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6680" y="17272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5800" y="1727280"/>
            <a:ext cx="13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33880" y="17272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62560" y="1727280"/>
            <a:ext cx="13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17272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4680" y="1727280"/>
            <a:ext cx="13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67200" y="17272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33840" y="1727280"/>
            <a:ext cx="13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18040" y="172728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9960" y="1727280"/>
            <a:ext cx="18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42200" y="18669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6560" y="1727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13160" y="1727280"/>
            <a:ext cx="11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03320" y="1727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90480" y="1727280"/>
            <a:ext cx="14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71880" y="175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2480" y="175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44880" y="175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00880" y="1879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13480" y="2641680"/>
            <a:ext cx="1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38400" y="26416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9800" y="3306600"/>
            <a:ext cx="14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49840" y="3306600"/>
            <a:ext cx="14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2276640"/>
            <a:ext cx="3073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актор ефектив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2781360"/>
            <a:ext cx="2016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екс споживчих ці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64000" y="3500280"/>
            <a:ext cx="252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правка на обся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3933720"/>
            <a:ext cx="16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актор як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4437000"/>
            <a:ext cx="1676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правочний коефіціє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5229360"/>
            <a:ext cx="2717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ефіцієнт коригування на втр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27200" y="208296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9640" y="20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2205000"/>
            <a:ext cx="12960" cy="13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73720" y="2070000"/>
            <a:ext cx="12960" cy="184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2070000"/>
            <a:ext cx="3816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2082960"/>
            <a:ext cx="12600" cy="31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75C-F34F-4692-81D3-9B7B22692E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4:44:45Z</dcterms:created>
  <dc:creator>Oles</dc:creator>
  <dc:description/>
  <dc:language>en-US</dc:language>
  <cp:lastModifiedBy>Punina</cp:lastModifiedBy>
  <dcterms:modified xsi:type="dcterms:W3CDTF">2008-09-21T10:02:02Z</dcterms:modified>
  <cp:revision>20</cp:revision>
  <dc:subject/>
  <dc:title>Слайд 1</dc:title>
</cp:coreProperties>
</file>